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9.wmf" ContentType="image/x-wmf"/>
  <Override PartName="/ppt/media/image31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4.jpeg" ContentType="image/jpeg"/>
  <Override PartName="/ppt/media/image8.wmf" ContentType="image/x-wmf"/>
  <Override PartName="/ppt/media/image5.wmf" ContentType="image/x-wmf"/>
  <Override PartName="/ppt/media/image35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1.jpeg" ContentType="image/jpeg"/>
  <Override PartName="/ppt/media/image15.wmf" ContentType="image/x-wmf"/>
  <Override PartName="/ppt/media/image14.wmf" ContentType="image/x-wmf"/>
  <Override PartName="/ppt/media/image16.wmf" ContentType="image/x-wmf"/>
  <Override PartName="/ppt/media/image17.wmf" ContentType="image/x-wmf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4475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396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4475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96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18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884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4475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18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884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4475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396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447560" y="609120"/>
            <a:ext cx="7010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396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4475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396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396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396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4475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wmf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lick to edit the title text format</a:t>
            </a: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475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133360" y="6172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BC914-456D-4927-B1F0-18A95CA69A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315200" y="228600"/>
            <a:ext cx="1555920" cy="404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" name=""/>
          <p:cNvGraphicFramePr/>
          <p:nvPr/>
        </p:nvGraphicFramePr>
        <p:xfrm>
          <a:off x="3906720" y="2522520"/>
          <a:ext cx="857520" cy="743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906720" y="2522520"/>
                    <a:ext cx="8575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"/>
          <p:cNvSpPr/>
          <p:nvPr/>
        </p:nvSpPr>
        <p:spPr>
          <a:xfrm>
            <a:off x="1033560" y="6645240"/>
            <a:ext cx="120636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D4D8B1C2-1EF2-4934-81F6-DFCA3BC6CFBA}" type="slidenum">
              <a:rPr b="0" lang="en-US" sz="800" spc="-1" strike="noStrike">
                <a:solidFill>
                  <a:srgbClr val="6e0043"/>
                </a:solidFill>
                <a:latin typeface="Arial"/>
              </a:rPr>
              <a:t>&lt;number&gt;</a:t>
            </a:fld>
            <a:r>
              <a:rPr b="0" lang="en-US" sz="800" spc="-1" strike="noStrike">
                <a:solidFill>
                  <a:srgbClr val="6e0043"/>
                </a:solidFill>
                <a:latin typeface="Arial"/>
              </a:rPr>
              <a:t> HNS-239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4725360" y="6675480"/>
            <a:ext cx="1137600" cy="1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600" spc="-1" strike="noStrike">
                <a:solidFill>
                  <a:srgbClr val="6e0043"/>
                </a:solidFill>
                <a:latin typeface="Arial"/>
              </a:rPr>
              <a:t>HUGHES PROPRIETARY II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" name="Aireach%20temp12sidebar" descr=""/>
          <p:cNvPicPr/>
          <p:nvPr/>
        </p:nvPicPr>
        <p:blipFill>
          <a:blip r:embed="rId6"/>
          <a:stretch/>
        </p:blipFill>
        <p:spPr>
          <a:xfrm>
            <a:off x="0" y="0"/>
            <a:ext cx="11034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image" Target="../media/image21.wmf"/><Relationship Id="rId5" Type="http://schemas.openxmlformats.org/officeDocument/2006/relationships/image" Target="../media/image22.wmf"/><Relationship Id="rId6" Type="http://schemas.openxmlformats.org/officeDocument/2006/relationships/image" Target="../media/image23.wmf"/><Relationship Id="rId7" Type="http://schemas.openxmlformats.org/officeDocument/2006/relationships/image" Target="../media/image24.wmf"/><Relationship Id="rId8" Type="http://schemas.openxmlformats.org/officeDocument/2006/relationships/image" Target="../media/image25.wmf"/><Relationship Id="rId9" Type="http://schemas.openxmlformats.org/officeDocument/2006/relationships/image" Target="../media/image26.wmf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wmf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wmf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wmf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wmf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wmf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wmf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wmf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219320" y="19051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imizing the Efficiency of a BFWA Network by Optimizing Frequency Pla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523880" y="4038480"/>
            <a:ext cx="6400800" cy="198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ebruary 13, 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ck Rozmary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ughes Network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1717 Exploration La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rmantown, Maryland 209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rozmaryn@hns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twork Expansion Approaches</a:t>
            </a: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752120" y="1981080"/>
            <a:ext cx="678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requency Expa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 - 90° S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 Channel Sets Per S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er User Effici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ell Split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 - 45° S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Channel Set Per S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er Gain - Greater R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Loss in Spectral Effici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600200" y="685800"/>
            <a:ext cx="7086600" cy="57150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1600200" y="1344600"/>
            <a:ext cx="6572160" cy="48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066680" y="457200"/>
            <a:ext cx="7391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PmP Simulation 90º Sector, 2 Channel Reuse Performa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219320" y="1219320"/>
            <a:ext cx="7391160" cy="50529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8001000" y="1219320"/>
            <a:ext cx="961920" cy="95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219320" y="685800"/>
            <a:ext cx="7232400" cy="57913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1219320" y="685800"/>
            <a:ext cx="72324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143000" y="457200"/>
            <a:ext cx="7162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MP Simulation 45º Sector, 4 Channel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143000" y="1219320"/>
            <a:ext cx="7467480" cy="51069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8077320" y="1676520"/>
            <a:ext cx="961920" cy="9507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7086600" y="6019920"/>
            <a:ext cx="15238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533520" y="3808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PMP Simulation 45º Sector, 4 Channel Hist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402560" y="6513480"/>
            <a:ext cx="66204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29-Oct-2001  12:52 J.Rozmaryn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02560" y="6513480"/>
            <a:ext cx="66204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29-Oct-2001  12:52 J.Rozmaryn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916280" y="1108080"/>
            <a:ext cx="6435720" cy="506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916280" y="1108080"/>
            <a:ext cx="6435720" cy="506880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916280" y="1108080"/>
            <a:ext cx="1440" cy="5068800"/>
          </a:xfrm>
          <a:custGeom>
            <a:avLst/>
            <a:gdLst/>
            <a:ahLst/>
            <a:rect l="l" t="t" r="r" b="b"/>
            <a:pathLst>
              <a:path w="0" h="781">
                <a:moveTo>
                  <a:pt x="0" y="78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986200" y="1108080"/>
            <a:ext cx="1440" cy="5068800"/>
          </a:xfrm>
          <a:custGeom>
            <a:avLst/>
            <a:gdLst/>
            <a:ahLst/>
            <a:rect l="l" t="t" r="r" b="b"/>
            <a:pathLst>
              <a:path w="0" h="781">
                <a:moveTo>
                  <a:pt x="0" y="78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056120" y="1108080"/>
            <a:ext cx="1440" cy="5068800"/>
          </a:xfrm>
          <a:custGeom>
            <a:avLst/>
            <a:gdLst/>
            <a:ahLst/>
            <a:rect l="l" t="t" r="r" b="b"/>
            <a:pathLst>
              <a:path w="0" h="781">
                <a:moveTo>
                  <a:pt x="0" y="78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33960" y="1108080"/>
            <a:ext cx="1440" cy="5068800"/>
          </a:xfrm>
          <a:custGeom>
            <a:avLst/>
            <a:gdLst/>
            <a:ahLst/>
            <a:rect l="l" t="t" r="r" b="b"/>
            <a:pathLst>
              <a:path w="0" h="781">
                <a:moveTo>
                  <a:pt x="0" y="78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203880" y="1108080"/>
            <a:ext cx="1800" cy="5068800"/>
          </a:xfrm>
          <a:custGeom>
            <a:avLst/>
            <a:gdLst/>
            <a:ahLst/>
            <a:rect l="l" t="t" r="r" b="b"/>
            <a:pathLst>
              <a:path w="0" h="781">
                <a:moveTo>
                  <a:pt x="0" y="78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275600" y="1108080"/>
            <a:ext cx="1440" cy="5068800"/>
          </a:xfrm>
          <a:custGeom>
            <a:avLst/>
            <a:gdLst/>
            <a:ahLst/>
            <a:rect l="l" t="t" r="r" b="b"/>
            <a:pathLst>
              <a:path w="0" h="781">
                <a:moveTo>
                  <a:pt x="0" y="78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352000" y="1108080"/>
            <a:ext cx="1440" cy="5068800"/>
          </a:xfrm>
          <a:custGeom>
            <a:avLst/>
            <a:gdLst/>
            <a:ahLst/>
            <a:rect l="l" t="t" r="r" b="b"/>
            <a:pathLst>
              <a:path w="0" h="781">
                <a:moveTo>
                  <a:pt x="0" y="78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916280" y="6176880"/>
            <a:ext cx="6435720" cy="180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916280" y="5664240"/>
            <a:ext cx="6435720" cy="144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16280" y="5157720"/>
            <a:ext cx="6435720" cy="180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916280" y="4651200"/>
            <a:ext cx="6435720" cy="180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916280" y="4145040"/>
            <a:ext cx="6435720" cy="144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916280" y="3639960"/>
            <a:ext cx="6435720" cy="180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916280" y="3133800"/>
            <a:ext cx="6435720" cy="144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916280" y="2627280"/>
            <a:ext cx="6435720" cy="180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16280" y="2120760"/>
            <a:ext cx="6435720" cy="180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916280" y="1614600"/>
            <a:ext cx="6435720" cy="144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916280" y="1108080"/>
            <a:ext cx="6435720" cy="144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916280" y="1108080"/>
            <a:ext cx="6435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916280" y="6176880"/>
            <a:ext cx="6435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8352000" y="1108080"/>
            <a:ext cx="1440" cy="506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1916280" y="1108080"/>
            <a:ext cx="1440" cy="506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16280" y="6176880"/>
            <a:ext cx="6435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1916280" y="1108080"/>
            <a:ext cx="1440" cy="506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1916280" y="6111360"/>
            <a:ext cx="144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916280" y="1108080"/>
            <a:ext cx="1440" cy="58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896480" y="619596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2986200" y="6111360"/>
            <a:ext cx="144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986200" y="1108080"/>
            <a:ext cx="1440" cy="58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967840" y="619596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056120" y="6111360"/>
            <a:ext cx="144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056120" y="1108080"/>
            <a:ext cx="1440" cy="58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992760" y="619596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5133960" y="6111360"/>
            <a:ext cx="144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133960" y="1108080"/>
            <a:ext cx="1440" cy="58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069160" y="619596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6203880" y="6111360"/>
            <a:ext cx="180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203880" y="1108080"/>
            <a:ext cx="1800" cy="58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140520" y="619596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7275600" y="6111360"/>
            <a:ext cx="144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275600" y="1108080"/>
            <a:ext cx="1440" cy="58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210440" y="619596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8352000" y="6111360"/>
            <a:ext cx="144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352000" y="1108080"/>
            <a:ext cx="1440" cy="58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288640" y="619596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916280" y="6176880"/>
            <a:ext cx="568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8286480" y="6176880"/>
            <a:ext cx="65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845360" y="612468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16280" y="5664240"/>
            <a:ext cx="568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8286480" y="5664240"/>
            <a:ext cx="65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549440" y="561168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916280" y="5157720"/>
            <a:ext cx="568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8286480" y="5157720"/>
            <a:ext cx="65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549440" y="510552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916280" y="4651200"/>
            <a:ext cx="568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8286480" y="4651200"/>
            <a:ext cx="65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549440" y="460044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916280" y="4145040"/>
            <a:ext cx="568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8286480" y="4145040"/>
            <a:ext cx="65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549440" y="409428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916280" y="3639960"/>
            <a:ext cx="568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8286480" y="3639960"/>
            <a:ext cx="65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549440" y="358776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916280" y="3133800"/>
            <a:ext cx="568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8286480" y="3133800"/>
            <a:ext cx="65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549440" y="308124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916280" y="2627280"/>
            <a:ext cx="568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8286480" y="2627280"/>
            <a:ext cx="65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549440" y="257508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916280" y="2120760"/>
            <a:ext cx="568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286480" y="2120760"/>
            <a:ext cx="65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549440" y="206856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916280" y="1614600"/>
            <a:ext cx="568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8286480" y="1614600"/>
            <a:ext cx="65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549440" y="156204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916280" y="1108080"/>
            <a:ext cx="568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8286480" y="1108080"/>
            <a:ext cx="65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618200" y="1057320"/>
            <a:ext cx="22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916280" y="1108080"/>
            <a:ext cx="6435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916280" y="6176880"/>
            <a:ext cx="6435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8352000" y="1108080"/>
            <a:ext cx="1440" cy="506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1916280" y="1108080"/>
            <a:ext cx="1440" cy="506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128680" y="3840120"/>
            <a:ext cx="6229440" cy="2336760"/>
          </a:xfrm>
          <a:custGeom>
            <a:avLst/>
            <a:gdLst/>
            <a:ahLst/>
            <a:rect l="l" t="t" r="r" b="b"/>
            <a:pathLst>
              <a:path w="3924" h="1472">
                <a:moveTo>
                  <a:pt x="0" y="1472"/>
                </a:moveTo>
                <a:lnTo>
                  <a:pt x="135" y="1472"/>
                </a:lnTo>
                <a:lnTo>
                  <a:pt x="270" y="1472"/>
                </a:lnTo>
                <a:lnTo>
                  <a:pt x="405" y="1472"/>
                </a:lnTo>
                <a:lnTo>
                  <a:pt x="540" y="1472"/>
                </a:lnTo>
                <a:lnTo>
                  <a:pt x="675" y="1472"/>
                </a:lnTo>
                <a:lnTo>
                  <a:pt x="810" y="1472"/>
                </a:lnTo>
                <a:lnTo>
                  <a:pt x="945" y="1472"/>
                </a:lnTo>
                <a:lnTo>
                  <a:pt x="1080" y="1472"/>
                </a:lnTo>
                <a:lnTo>
                  <a:pt x="1214" y="1472"/>
                </a:lnTo>
                <a:lnTo>
                  <a:pt x="1349" y="1472"/>
                </a:lnTo>
                <a:lnTo>
                  <a:pt x="1484" y="1472"/>
                </a:lnTo>
                <a:lnTo>
                  <a:pt x="1619" y="1472"/>
                </a:lnTo>
                <a:lnTo>
                  <a:pt x="1754" y="1431"/>
                </a:lnTo>
                <a:lnTo>
                  <a:pt x="1893" y="1361"/>
                </a:lnTo>
                <a:lnTo>
                  <a:pt x="2028" y="1316"/>
                </a:lnTo>
                <a:lnTo>
                  <a:pt x="2163" y="1292"/>
                </a:lnTo>
                <a:lnTo>
                  <a:pt x="2298" y="1272"/>
                </a:lnTo>
                <a:lnTo>
                  <a:pt x="2433" y="1259"/>
                </a:lnTo>
                <a:lnTo>
                  <a:pt x="2567" y="1194"/>
                </a:lnTo>
                <a:lnTo>
                  <a:pt x="2702" y="1043"/>
                </a:lnTo>
                <a:lnTo>
                  <a:pt x="2837" y="936"/>
                </a:lnTo>
                <a:lnTo>
                  <a:pt x="2972" y="867"/>
                </a:lnTo>
                <a:lnTo>
                  <a:pt x="3107" y="801"/>
                </a:lnTo>
                <a:lnTo>
                  <a:pt x="3242" y="752"/>
                </a:lnTo>
                <a:lnTo>
                  <a:pt x="3377" y="568"/>
                </a:lnTo>
                <a:lnTo>
                  <a:pt x="3512" y="368"/>
                </a:lnTo>
                <a:lnTo>
                  <a:pt x="3646" y="229"/>
                </a:lnTo>
                <a:lnTo>
                  <a:pt x="3781" y="135"/>
                </a:lnTo>
                <a:lnTo>
                  <a:pt x="3920" y="4"/>
                </a:lnTo>
                <a:lnTo>
                  <a:pt x="3924" y="0"/>
                </a:ln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626280" y="958680"/>
            <a:ext cx="3358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tive C/I Cumulative Histogram for 8-Sector Plan vs. Double Frequency 4-Sector Pla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858920" y="6416640"/>
            <a:ext cx="601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/I (dB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rot="16200000">
            <a:off x="994320" y="3504960"/>
            <a:ext cx="799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ba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128680" y="1108080"/>
            <a:ext cx="6023160" cy="5068800"/>
          </a:xfrm>
          <a:custGeom>
            <a:avLst/>
            <a:gdLst/>
            <a:ahLst/>
            <a:rect l="l" t="t" r="r" b="b"/>
            <a:pathLst>
              <a:path w="3794" h="3193">
                <a:moveTo>
                  <a:pt x="0" y="3193"/>
                </a:moveTo>
                <a:lnTo>
                  <a:pt x="135" y="3193"/>
                </a:lnTo>
                <a:lnTo>
                  <a:pt x="270" y="3193"/>
                </a:lnTo>
                <a:lnTo>
                  <a:pt x="405" y="3193"/>
                </a:lnTo>
                <a:lnTo>
                  <a:pt x="540" y="3193"/>
                </a:lnTo>
                <a:lnTo>
                  <a:pt x="675" y="3193"/>
                </a:lnTo>
                <a:lnTo>
                  <a:pt x="810" y="3193"/>
                </a:lnTo>
                <a:lnTo>
                  <a:pt x="945" y="3176"/>
                </a:lnTo>
                <a:lnTo>
                  <a:pt x="1080" y="3148"/>
                </a:lnTo>
                <a:lnTo>
                  <a:pt x="1214" y="3107"/>
                </a:lnTo>
                <a:lnTo>
                  <a:pt x="1349" y="3074"/>
                </a:lnTo>
                <a:lnTo>
                  <a:pt x="1484" y="3050"/>
                </a:lnTo>
                <a:lnTo>
                  <a:pt x="1619" y="3029"/>
                </a:lnTo>
                <a:lnTo>
                  <a:pt x="1754" y="2948"/>
                </a:lnTo>
                <a:lnTo>
                  <a:pt x="1893" y="2821"/>
                </a:lnTo>
                <a:lnTo>
                  <a:pt x="2028" y="2674"/>
                </a:lnTo>
                <a:lnTo>
                  <a:pt x="2163" y="2457"/>
                </a:lnTo>
                <a:lnTo>
                  <a:pt x="2298" y="2277"/>
                </a:lnTo>
                <a:lnTo>
                  <a:pt x="2433" y="2118"/>
                </a:lnTo>
                <a:lnTo>
                  <a:pt x="2567" y="1954"/>
                </a:lnTo>
                <a:lnTo>
                  <a:pt x="2702" y="1787"/>
                </a:lnTo>
                <a:lnTo>
                  <a:pt x="2837" y="1566"/>
                </a:lnTo>
                <a:lnTo>
                  <a:pt x="2972" y="1349"/>
                </a:lnTo>
                <a:lnTo>
                  <a:pt x="3107" y="1120"/>
                </a:lnTo>
                <a:lnTo>
                  <a:pt x="3242" y="916"/>
                </a:lnTo>
                <a:lnTo>
                  <a:pt x="3377" y="736"/>
                </a:lnTo>
                <a:lnTo>
                  <a:pt x="3512" y="524"/>
                </a:lnTo>
                <a:lnTo>
                  <a:pt x="3646" y="282"/>
                </a:lnTo>
                <a:lnTo>
                  <a:pt x="3781" y="13"/>
                </a:lnTo>
                <a:lnTo>
                  <a:pt x="3794" y="0"/>
                </a:lnTo>
              </a:path>
            </a:pathLst>
          </a:custGeom>
          <a:noFill/>
          <a:ln w="38160">
            <a:solidFill>
              <a:srgbClr val="ff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7270920" y="2590560"/>
            <a:ext cx="0" cy="37335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1949040" y="5029200"/>
            <a:ext cx="533412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905120" y="2590920"/>
            <a:ext cx="533376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723920" y="1980360"/>
            <a:ext cx="263592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equency Expansion Pl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628320" y="5333040"/>
            <a:ext cx="187524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ell Splitting Pl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"/>
          <p:cNvGrpSpPr/>
          <p:nvPr/>
        </p:nvGrpSpPr>
        <p:grpSpPr>
          <a:xfrm>
            <a:off x="1677960" y="2133720"/>
            <a:ext cx="3130200" cy="3200400"/>
            <a:chOff x="1677960" y="2133720"/>
            <a:chExt cx="3130200" cy="3200400"/>
          </a:xfrm>
        </p:grpSpPr>
        <p:grpSp>
          <p:nvGrpSpPr>
            <p:cNvPr id="209" name=""/>
            <p:cNvGrpSpPr/>
            <p:nvPr/>
          </p:nvGrpSpPr>
          <p:grpSpPr>
            <a:xfrm>
              <a:off x="1681920" y="2133720"/>
              <a:ext cx="517680" cy="539280"/>
              <a:chOff x="1681920" y="2133720"/>
              <a:chExt cx="517680" cy="539280"/>
            </a:xfrm>
          </p:grpSpPr>
          <p:sp>
            <p:nvSpPr>
              <p:cNvPr id="210" name=""/>
              <p:cNvSpPr/>
              <p:nvPr/>
            </p:nvSpPr>
            <p:spPr>
              <a:xfrm>
                <a:off x="1681920" y="2133720"/>
                <a:ext cx="51768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1686240" y="21337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2" name=""/>
            <p:cNvGrpSpPr/>
            <p:nvPr/>
          </p:nvGrpSpPr>
          <p:grpSpPr>
            <a:xfrm>
              <a:off x="2169000" y="2133720"/>
              <a:ext cx="536760" cy="539280"/>
              <a:chOff x="2169000" y="2133720"/>
              <a:chExt cx="536760" cy="539280"/>
            </a:xfrm>
          </p:grpSpPr>
          <p:sp>
            <p:nvSpPr>
              <p:cNvPr id="213" name=""/>
              <p:cNvSpPr/>
              <p:nvPr/>
            </p:nvSpPr>
            <p:spPr>
              <a:xfrm>
                <a:off x="2188440" y="2133720"/>
                <a:ext cx="51732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2169000" y="213372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5" name=""/>
            <p:cNvGrpSpPr/>
            <p:nvPr/>
          </p:nvGrpSpPr>
          <p:grpSpPr>
            <a:xfrm>
              <a:off x="1677960" y="2660760"/>
              <a:ext cx="521280" cy="539280"/>
              <a:chOff x="1677960" y="2660760"/>
              <a:chExt cx="521280" cy="539280"/>
            </a:xfrm>
          </p:grpSpPr>
          <p:sp>
            <p:nvSpPr>
              <p:cNvPr id="216" name=""/>
              <p:cNvSpPr/>
              <p:nvPr/>
            </p:nvSpPr>
            <p:spPr>
              <a:xfrm>
                <a:off x="1681920" y="2660760"/>
                <a:ext cx="51732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677960" y="26935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8" name=""/>
            <p:cNvGrpSpPr/>
            <p:nvPr/>
          </p:nvGrpSpPr>
          <p:grpSpPr>
            <a:xfrm>
              <a:off x="2168640" y="2660760"/>
              <a:ext cx="537120" cy="539280"/>
              <a:chOff x="2168640" y="2660760"/>
              <a:chExt cx="537120" cy="539280"/>
            </a:xfrm>
          </p:grpSpPr>
          <p:sp>
            <p:nvSpPr>
              <p:cNvPr id="219" name=""/>
              <p:cNvSpPr/>
              <p:nvPr/>
            </p:nvSpPr>
            <p:spPr>
              <a:xfrm>
                <a:off x="2188440" y="2660760"/>
                <a:ext cx="51732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2168640" y="26935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1" name=""/>
            <p:cNvGrpSpPr/>
            <p:nvPr/>
          </p:nvGrpSpPr>
          <p:grpSpPr>
            <a:xfrm>
              <a:off x="1684440" y="3200040"/>
              <a:ext cx="520200" cy="539280"/>
              <a:chOff x="1684440" y="3200040"/>
              <a:chExt cx="520200" cy="539280"/>
            </a:xfrm>
          </p:grpSpPr>
          <p:sp>
            <p:nvSpPr>
              <p:cNvPr id="222" name=""/>
              <p:cNvSpPr/>
              <p:nvPr/>
            </p:nvSpPr>
            <p:spPr>
              <a:xfrm>
                <a:off x="1687320" y="3200040"/>
                <a:ext cx="51732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1684440" y="32338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4" name=""/>
            <p:cNvGrpSpPr/>
            <p:nvPr/>
          </p:nvGrpSpPr>
          <p:grpSpPr>
            <a:xfrm>
              <a:off x="2168640" y="3200040"/>
              <a:ext cx="537120" cy="539280"/>
              <a:chOff x="2168640" y="3200040"/>
              <a:chExt cx="537120" cy="539280"/>
            </a:xfrm>
          </p:grpSpPr>
          <p:sp>
            <p:nvSpPr>
              <p:cNvPr id="225" name=""/>
              <p:cNvSpPr/>
              <p:nvPr/>
            </p:nvSpPr>
            <p:spPr>
              <a:xfrm>
                <a:off x="2188440" y="3200040"/>
                <a:ext cx="51732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2168640" y="32338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7" name=""/>
            <p:cNvGrpSpPr/>
            <p:nvPr/>
          </p:nvGrpSpPr>
          <p:grpSpPr>
            <a:xfrm>
              <a:off x="1681920" y="3727800"/>
              <a:ext cx="517680" cy="539280"/>
              <a:chOff x="1681920" y="3727800"/>
              <a:chExt cx="517680" cy="539280"/>
            </a:xfrm>
          </p:grpSpPr>
          <p:sp>
            <p:nvSpPr>
              <p:cNvPr id="228" name=""/>
              <p:cNvSpPr/>
              <p:nvPr/>
            </p:nvSpPr>
            <p:spPr>
              <a:xfrm>
                <a:off x="1681920" y="3727800"/>
                <a:ext cx="51768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686240" y="37278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0" name=""/>
            <p:cNvGrpSpPr/>
            <p:nvPr/>
          </p:nvGrpSpPr>
          <p:grpSpPr>
            <a:xfrm>
              <a:off x="2169000" y="3727800"/>
              <a:ext cx="536760" cy="539280"/>
              <a:chOff x="2169000" y="3727800"/>
              <a:chExt cx="536760" cy="539280"/>
            </a:xfrm>
          </p:grpSpPr>
          <p:sp>
            <p:nvSpPr>
              <p:cNvPr id="231" name=""/>
              <p:cNvSpPr/>
              <p:nvPr/>
            </p:nvSpPr>
            <p:spPr>
              <a:xfrm>
                <a:off x="2188440" y="3727800"/>
                <a:ext cx="51732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2169000" y="372780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3" name=""/>
            <p:cNvGrpSpPr/>
            <p:nvPr/>
          </p:nvGrpSpPr>
          <p:grpSpPr>
            <a:xfrm>
              <a:off x="1681920" y="4267080"/>
              <a:ext cx="517680" cy="539280"/>
              <a:chOff x="1681920" y="4267080"/>
              <a:chExt cx="517680" cy="539280"/>
            </a:xfrm>
          </p:grpSpPr>
          <p:sp>
            <p:nvSpPr>
              <p:cNvPr id="234" name=""/>
              <p:cNvSpPr/>
              <p:nvPr/>
            </p:nvSpPr>
            <p:spPr>
              <a:xfrm>
                <a:off x="1681920" y="4267080"/>
                <a:ext cx="51768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686240" y="42670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6" name=""/>
            <p:cNvGrpSpPr/>
            <p:nvPr/>
          </p:nvGrpSpPr>
          <p:grpSpPr>
            <a:xfrm>
              <a:off x="2169000" y="4267080"/>
              <a:ext cx="536760" cy="539280"/>
              <a:chOff x="2169000" y="4267080"/>
              <a:chExt cx="536760" cy="539280"/>
            </a:xfrm>
          </p:grpSpPr>
          <p:sp>
            <p:nvSpPr>
              <p:cNvPr id="237" name=""/>
              <p:cNvSpPr/>
              <p:nvPr/>
            </p:nvSpPr>
            <p:spPr>
              <a:xfrm>
                <a:off x="2188440" y="4267080"/>
                <a:ext cx="51732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2169000" y="426708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9" name=""/>
            <p:cNvGrpSpPr/>
            <p:nvPr/>
          </p:nvGrpSpPr>
          <p:grpSpPr>
            <a:xfrm>
              <a:off x="1684440" y="4794840"/>
              <a:ext cx="520200" cy="539280"/>
              <a:chOff x="1684440" y="4794840"/>
              <a:chExt cx="520200" cy="539280"/>
            </a:xfrm>
          </p:grpSpPr>
          <p:sp>
            <p:nvSpPr>
              <p:cNvPr id="240" name=""/>
              <p:cNvSpPr/>
              <p:nvPr/>
            </p:nvSpPr>
            <p:spPr>
              <a:xfrm>
                <a:off x="1687320" y="4794840"/>
                <a:ext cx="51732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684440" y="48276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2" name=""/>
            <p:cNvGrpSpPr/>
            <p:nvPr/>
          </p:nvGrpSpPr>
          <p:grpSpPr>
            <a:xfrm>
              <a:off x="2168640" y="4794840"/>
              <a:ext cx="537120" cy="539280"/>
              <a:chOff x="2168640" y="4794840"/>
              <a:chExt cx="537120" cy="539280"/>
            </a:xfrm>
          </p:grpSpPr>
          <p:sp>
            <p:nvSpPr>
              <p:cNvPr id="243" name=""/>
              <p:cNvSpPr/>
              <p:nvPr/>
            </p:nvSpPr>
            <p:spPr>
              <a:xfrm>
                <a:off x="2188440" y="4794840"/>
                <a:ext cx="51732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2168640" y="48276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5" name=""/>
            <p:cNvSpPr/>
            <p:nvPr/>
          </p:nvSpPr>
          <p:spPr>
            <a:xfrm>
              <a:off x="2124360" y="2594160"/>
              <a:ext cx="9648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167200" y="3705480"/>
              <a:ext cx="96480" cy="100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67200" y="4772520"/>
              <a:ext cx="9648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8" name=""/>
            <p:cNvGrpSpPr/>
            <p:nvPr/>
          </p:nvGrpSpPr>
          <p:grpSpPr>
            <a:xfrm>
              <a:off x="2707560" y="2133720"/>
              <a:ext cx="536760" cy="539280"/>
              <a:chOff x="2707560" y="2133720"/>
              <a:chExt cx="536760" cy="539280"/>
            </a:xfrm>
          </p:grpSpPr>
          <p:sp>
            <p:nvSpPr>
              <p:cNvPr id="249" name=""/>
              <p:cNvSpPr/>
              <p:nvPr/>
            </p:nvSpPr>
            <p:spPr>
              <a:xfrm>
                <a:off x="2727360" y="2133720"/>
                <a:ext cx="51696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2707560" y="213372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1" name=""/>
            <p:cNvGrpSpPr/>
            <p:nvPr/>
          </p:nvGrpSpPr>
          <p:grpSpPr>
            <a:xfrm>
              <a:off x="2707920" y="2660760"/>
              <a:ext cx="536400" cy="539280"/>
              <a:chOff x="2707920" y="2660760"/>
              <a:chExt cx="536400" cy="539280"/>
            </a:xfrm>
          </p:grpSpPr>
          <p:sp>
            <p:nvSpPr>
              <p:cNvPr id="252" name=""/>
              <p:cNvSpPr/>
              <p:nvPr/>
            </p:nvSpPr>
            <p:spPr>
              <a:xfrm>
                <a:off x="2727360" y="2660760"/>
                <a:ext cx="51696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2707920" y="26935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4" name=""/>
            <p:cNvGrpSpPr/>
            <p:nvPr/>
          </p:nvGrpSpPr>
          <p:grpSpPr>
            <a:xfrm>
              <a:off x="3245040" y="2133720"/>
              <a:ext cx="517680" cy="539280"/>
              <a:chOff x="3245040" y="2133720"/>
              <a:chExt cx="517680" cy="539280"/>
            </a:xfrm>
          </p:grpSpPr>
          <p:sp>
            <p:nvSpPr>
              <p:cNvPr id="255" name=""/>
              <p:cNvSpPr/>
              <p:nvPr/>
            </p:nvSpPr>
            <p:spPr>
              <a:xfrm>
                <a:off x="3245040" y="2133720"/>
                <a:ext cx="51768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3250800" y="21337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7" name=""/>
            <p:cNvGrpSpPr/>
            <p:nvPr/>
          </p:nvGrpSpPr>
          <p:grpSpPr>
            <a:xfrm>
              <a:off x="3238560" y="2660760"/>
              <a:ext cx="523800" cy="539280"/>
              <a:chOff x="3238560" y="2660760"/>
              <a:chExt cx="523800" cy="539280"/>
            </a:xfrm>
          </p:grpSpPr>
          <p:sp>
            <p:nvSpPr>
              <p:cNvPr id="258" name=""/>
              <p:cNvSpPr/>
              <p:nvPr/>
            </p:nvSpPr>
            <p:spPr>
              <a:xfrm>
                <a:off x="3244680" y="2660760"/>
                <a:ext cx="51768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3238560" y="26935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0" name=""/>
            <p:cNvSpPr/>
            <p:nvPr/>
          </p:nvSpPr>
          <p:spPr>
            <a:xfrm>
              <a:off x="3191400" y="2594160"/>
              <a:ext cx="9648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1" name=""/>
            <p:cNvGrpSpPr/>
            <p:nvPr/>
          </p:nvGrpSpPr>
          <p:grpSpPr>
            <a:xfrm>
              <a:off x="3784320" y="2133720"/>
              <a:ext cx="517680" cy="539280"/>
              <a:chOff x="3784320" y="2133720"/>
              <a:chExt cx="517680" cy="539280"/>
            </a:xfrm>
          </p:grpSpPr>
          <p:sp>
            <p:nvSpPr>
              <p:cNvPr id="262" name=""/>
              <p:cNvSpPr/>
              <p:nvPr/>
            </p:nvSpPr>
            <p:spPr>
              <a:xfrm>
                <a:off x="3784320" y="2133720"/>
                <a:ext cx="51768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787920" y="21337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3787920" y="2660760"/>
              <a:ext cx="519480" cy="539280"/>
              <a:chOff x="3787920" y="2660760"/>
              <a:chExt cx="519480" cy="539280"/>
            </a:xfrm>
          </p:grpSpPr>
          <p:sp>
            <p:nvSpPr>
              <p:cNvPr id="265" name=""/>
              <p:cNvSpPr/>
              <p:nvPr/>
            </p:nvSpPr>
            <p:spPr>
              <a:xfrm>
                <a:off x="3789720" y="2660760"/>
                <a:ext cx="51768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3787920" y="26935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7" name=""/>
            <p:cNvGrpSpPr/>
            <p:nvPr/>
          </p:nvGrpSpPr>
          <p:grpSpPr>
            <a:xfrm>
              <a:off x="4269600" y="2133720"/>
              <a:ext cx="538560" cy="539280"/>
              <a:chOff x="4269600" y="2133720"/>
              <a:chExt cx="538560" cy="539280"/>
            </a:xfrm>
          </p:grpSpPr>
          <p:sp>
            <p:nvSpPr>
              <p:cNvPr id="268" name=""/>
              <p:cNvSpPr/>
              <p:nvPr/>
            </p:nvSpPr>
            <p:spPr>
              <a:xfrm>
                <a:off x="4290480" y="2133720"/>
                <a:ext cx="51768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269600" y="213372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0" name=""/>
            <p:cNvGrpSpPr/>
            <p:nvPr/>
          </p:nvGrpSpPr>
          <p:grpSpPr>
            <a:xfrm>
              <a:off x="4270320" y="2660760"/>
              <a:ext cx="537840" cy="539280"/>
              <a:chOff x="4270320" y="2660760"/>
              <a:chExt cx="537840" cy="539280"/>
            </a:xfrm>
          </p:grpSpPr>
          <p:sp>
            <p:nvSpPr>
              <p:cNvPr id="271" name=""/>
              <p:cNvSpPr/>
              <p:nvPr/>
            </p:nvSpPr>
            <p:spPr>
              <a:xfrm>
                <a:off x="4290480" y="2660760"/>
                <a:ext cx="51768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4270320" y="26935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4226400" y="2594160"/>
              <a:ext cx="9648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4" name=""/>
            <p:cNvGrpSpPr/>
            <p:nvPr/>
          </p:nvGrpSpPr>
          <p:grpSpPr>
            <a:xfrm>
              <a:off x="2707560" y="4267080"/>
              <a:ext cx="536760" cy="539280"/>
              <a:chOff x="2707560" y="4267080"/>
              <a:chExt cx="536760" cy="539280"/>
            </a:xfrm>
          </p:grpSpPr>
          <p:sp>
            <p:nvSpPr>
              <p:cNvPr id="275" name=""/>
              <p:cNvSpPr/>
              <p:nvPr/>
            </p:nvSpPr>
            <p:spPr>
              <a:xfrm>
                <a:off x="2727360" y="4267080"/>
                <a:ext cx="51696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2707560" y="426708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7" name=""/>
            <p:cNvGrpSpPr/>
            <p:nvPr/>
          </p:nvGrpSpPr>
          <p:grpSpPr>
            <a:xfrm>
              <a:off x="2707920" y="4794840"/>
              <a:ext cx="536400" cy="539280"/>
              <a:chOff x="2707920" y="4794840"/>
              <a:chExt cx="536400" cy="539280"/>
            </a:xfrm>
          </p:grpSpPr>
          <p:sp>
            <p:nvSpPr>
              <p:cNvPr id="278" name=""/>
              <p:cNvSpPr/>
              <p:nvPr/>
            </p:nvSpPr>
            <p:spPr>
              <a:xfrm>
                <a:off x="2727360" y="4794840"/>
                <a:ext cx="51696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2707920" y="48276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0" name=""/>
            <p:cNvGrpSpPr/>
            <p:nvPr/>
          </p:nvGrpSpPr>
          <p:grpSpPr>
            <a:xfrm>
              <a:off x="3256200" y="4267080"/>
              <a:ext cx="517680" cy="539280"/>
              <a:chOff x="3256200" y="4267080"/>
              <a:chExt cx="517680" cy="539280"/>
            </a:xfrm>
          </p:grpSpPr>
          <p:sp>
            <p:nvSpPr>
              <p:cNvPr id="281" name=""/>
              <p:cNvSpPr/>
              <p:nvPr/>
            </p:nvSpPr>
            <p:spPr>
              <a:xfrm>
                <a:off x="3256200" y="4267080"/>
                <a:ext cx="51768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3257640" y="42670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3257640" y="4794840"/>
              <a:ext cx="521280" cy="539280"/>
              <a:chOff x="3257640" y="4794840"/>
              <a:chExt cx="521280" cy="539280"/>
            </a:xfrm>
          </p:grpSpPr>
          <p:sp>
            <p:nvSpPr>
              <p:cNvPr id="284" name=""/>
              <p:cNvSpPr/>
              <p:nvPr/>
            </p:nvSpPr>
            <p:spPr>
              <a:xfrm>
                <a:off x="3261600" y="4794840"/>
                <a:ext cx="51732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3257640" y="48276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6" name=""/>
            <p:cNvSpPr/>
            <p:nvPr/>
          </p:nvSpPr>
          <p:spPr>
            <a:xfrm>
              <a:off x="3202560" y="4772520"/>
              <a:ext cx="9648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7" name=""/>
            <p:cNvGrpSpPr/>
            <p:nvPr/>
          </p:nvGrpSpPr>
          <p:grpSpPr>
            <a:xfrm>
              <a:off x="3784320" y="4267080"/>
              <a:ext cx="517680" cy="539280"/>
              <a:chOff x="3784320" y="4267080"/>
              <a:chExt cx="517680" cy="539280"/>
            </a:xfrm>
          </p:grpSpPr>
          <p:sp>
            <p:nvSpPr>
              <p:cNvPr id="288" name=""/>
              <p:cNvSpPr/>
              <p:nvPr/>
            </p:nvSpPr>
            <p:spPr>
              <a:xfrm>
                <a:off x="3784320" y="4267080"/>
                <a:ext cx="51768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787920" y="42670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0" name=""/>
            <p:cNvGrpSpPr/>
            <p:nvPr/>
          </p:nvGrpSpPr>
          <p:grpSpPr>
            <a:xfrm>
              <a:off x="3787920" y="4794840"/>
              <a:ext cx="519480" cy="539280"/>
              <a:chOff x="3787920" y="4794840"/>
              <a:chExt cx="519480" cy="539280"/>
            </a:xfrm>
          </p:grpSpPr>
          <p:sp>
            <p:nvSpPr>
              <p:cNvPr id="291" name=""/>
              <p:cNvSpPr/>
              <p:nvPr/>
            </p:nvSpPr>
            <p:spPr>
              <a:xfrm>
                <a:off x="3789720" y="4794840"/>
                <a:ext cx="51768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3787920" y="48276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3" name=""/>
            <p:cNvGrpSpPr/>
            <p:nvPr/>
          </p:nvGrpSpPr>
          <p:grpSpPr>
            <a:xfrm>
              <a:off x="4269600" y="4267080"/>
              <a:ext cx="538560" cy="539280"/>
              <a:chOff x="4269600" y="4267080"/>
              <a:chExt cx="538560" cy="539280"/>
            </a:xfrm>
          </p:grpSpPr>
          <p:sp>
            <p:nvSpPr>
              <p:cNvPr id="294" name=""/>
              <p:cNvSpPr/>
              <p:nvPr/>
            </p:nvSpPr>
            <p:spPr>
              <a:xfrm>
                <a:off x="4290480" y="4267080"/>
                <a:ext cx="51768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4269600" y="426708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6" name=""/>
            <p:cNvGrpSpPr/>
            <p:nvPr/>
          </p:nvGrpSpPr>
          <p:grpSpPr>
            <a:xfrm>
              <a:off x="4270320" y="4794840"/>
              <a:ext cx="537840" cy="539280"/>
              <a:chOff x="4270320" y="4794840"/>
              <a:chExt cx="537840" cy="539280"/>
            </a:xfrm>
          </p:grpSpPr>
          <p:sp>
            <p:nvSpPr>
              <p:cNvPr id="297" name=""/>
              <p:cNvSpPr/>
              <p:nvPr/>
            </p:nvSpPr>
            <p:spPr>
              <a:xfrm>
                <a:off x="4290480" y="4794840"/>
                <a:ext cx="51768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270320" y="48276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9" name=""/>
            <p:cNvSpPr/>
            <p:nvPr/>
          </p:nvSpPr>
          <p:spPr>
            <a:xfrm>
              <a:off x="4269240" y="4772520"/>
              <a:ext cx="9648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0" name=""/>
            <p:cNvGrpSpPr/>
            <p:nvPr/>
          </p:nvGrpSpPr>
          <p:grpSpPr>
            <a:xfrm>
              <a:off x="3784320" y="3727800"/>
              <a:ext cx="517680" cy="539280"/>
              <a:chOff x="3784320" y="3727800"/>
              <a:chExt cx="517680" cy="539280"/>
            </a:xfrm>
          </p:grpSpPr>
          <p:sp>
            <p:nvSpPr>
              <p:cNvPr id="301" name=""/>
              <p:cNvSpPr/>
              <p:nvPr/>
            </p:nvSpPr>
            <p:spPr>
              <a:xfrm>
                <a:off x="3784320" y="3727800"/>
                <a:ext cx="51768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787920" y="37278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3" name=""/>
            <p:cNvGrpSpPr/>
            <p:nvPr/>
          </p:nvGrpSpPr>
          <p:grpSpPr>
            <a:xfrm>
              <a:off x="4269600" y="3727800"/>
              <a:ext cx="538560" cy="539280"/>
              <a:chOff x="4269600" y="3727800"/>
              <a:chExt cx="538560" cy="539280"/>
            </a:xfrm>
          </p:grpSpPr>
          <p:sp>
            <p:nvSpPr>
              <p:cNvPr id="304" name=""/>
              <p:cNvSpPr/>
              <p:nvPr/>
            </p:nvSpPr>
            <p:spPr>
              <a:xfrm>
                <a:off x="4290480" y="3727800"/>
                <a:ext cx="51768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269600" y="372780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6" name=""/>
            <p:cNvGrpSpPr/>
            <p:nvPr/>
          </p:nvGrpSpPr>
          <p:grpSpPr>
            <a:xfrm>
              <a:off x="3787920" y="3200040"/>
              <a:ext cx="519480" cy="539280"/>
              <a:chOff x="3787920" y="3200040"/>
              <a:chExt cx="519480" cy="539280"/>
            </a:xfrm>
          </p:grpSpPr>
          <p:sp>
            <p:nvSpPr>
              <p:cNvPr id="307" name=""/>
              <p:cNvSpPr/>
              <p:nvPr/>
            </p:nvSpPr>
            <p:spPr>
              <a:xfrm>
                <a:off x="3789720" y="3200040"/>
                <a:ext cx="51768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3787920" y="32338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9" name=""/>
            <p:cNvGrpSpPr/>
            <p:nvPr/>
          </p:nvGrpSpPr>
          <p:grpSpPr>
            <a:xfrm>
              <a:off x="4270320" y="3200040"/>
              <a:ext cx="537840" cy="539280"/>
              <a:chOff x="4270320" y="3200040"/>
              <a:chExt cx="537840" cy="539280"/>
            </a:xfrm>
          </p:grpSpPr>
          <p:sp>
            <p:nvSpPr>
              <p:cNvPr id="310" name=""/>
              <p:cNvSpPr/>
              <p:nvPr/>
            </p:nvSpPr>
            <p:spPr>
              <a:xfrm>
                <a:off x="4290480" y="3200040"/>
                <a:ext cx="51768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4270320" y="32338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2" name=""/>
            <p:cNvSpPr/>
            <p:nvPr/>
          </p:nvSpPr>
          <p:spPr>
            <a:xfrm>
              <a:off x="4226400" y="3661200"/>
              <a:ext cx="9648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706120" y="3200040"/>
              <a:ext cx="517680" cy="539280"/>
            </a:xfrm>
            <a:prstGeom prst="rtTriangl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rot="16200000">
              <a:off x="3234240" y="3210840"/>
              <a:ext cx="539280" cy="517680"/>
            </a:xfrm>
            <a:prstGeom prst="rtTriangl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245040" y="3727800"/>
              <a:ext cx="517680" cy="539280"/>
            </a:xfrm>
            <a:prstGeom prst="rtTriangl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191400" y="3705480"/>
              <a:ext cx="96480" cy="100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2706120" y="3727800"/>
              <a:ext cx="517680" cy="539280"/>
            </a:xfrm>
            <a:prstGeom prst="rtTriangl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>
              <a:off x="2727360" y="3727800"/>
              <a:ext cx="517680" cy="539280"/>
            </a:xfrm>
            <a:prstGeom prst="rtTriangl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 flipV="1">
              <a:off x="2727360" y="3200040"/>
              <a:ext cx="517680" cy="539280"/>
            </a:xfrm>
            <a:prstGeom prst="rtTriangl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245040" y="3200040"/>
              <a:ext cx="517680" cy="539280"/>
            </a:xfrm>
            <a:prstGeom prst="rtTriangl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 flipV="1">
              <a:off x="3245040" y="3727800"/>
              <a:ext cx="517680" cy="539280"/>
            </a:xfrm>
            <a:prstGeom prst="rtTriangl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5549760" y="2133720"/>
            <a:ext cx="3068280" cy="3200400"/>
            <a:chOff x="5549760" y="2133720"/>
            <a:chExt cx="3068280" cy="3200400"/>
          </a:xfrm>
        </p:grpSpPr>
        <p:grpSp>
          <p:nvGrpSpPr>
            <p:cNvPr id="323" name=""/>
            <p:cNvGrpSpPr/>
            <p:nvPr/>
          </p:nvGrpSpPr>
          <p:grpSpPr>
            <a:xfrm>
              <a:off x="5553360" y="2133720"/>
              <a:ext cx="507240" cy="539280"/>
              <a:chOff x="5553360" y="2133720"/>
              <a:chExt cx="507240" cy="539280"/>
            </a:xfrm>
          </p:grpSpPr>
          <p:sp>
            <p:nvSpPr>
              <p:cNvPr id="324" name=""/>
              <p:cNvSpPr/>
              <p:nvPr/>
            </p:nvSpPr>
            <p:spPr>
              <a:xfrm>
                <a:off x="5553360" y="2133720"/>
                <a:ext cx="50724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5554440" y="21337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6" name=""/>
            <p:cNvGrpSpPr/>
            <p:nvPr/>
          </p:nvGrpSpPr>
          <p:grpSpPr>
            <a:xfrm>
              <a:off x="6030720" y="2133720"/>
              <a:ext cx="526680" cy="539280"/>
              <a:chOff x="6030720" y="2133720"/>
              <a:chExt cx="526680" cy="539280"/>
            </a:xfrm>
          </p:grpSpPr>
          <p:sp>
            <p:nvSpPr>
              <p:cNvPr id="327" name=""/>
              <p:cNvSpPr/>
              <p:nvPr/>
            </p:nvSpPr>
            <p:spPr>
              <a:xfrm>
                <a:off x="6050160" y="2133720"/>
                <a:ext cx="50724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6030720" y="213372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5549760" y="2660760"/>
              <a:ext cx="511200" cy="539280"/>
              <a:chOff x="5549760" y="2660760"/>
              <a:chExt cx="511200" cy="539280"/>
            </a:xfrm>
          </p:grpSpPr>
          <p:sp>
            <p:nvSpPr>
              <p:cNvPr id="330" name=""/>
              <p:cNvSpPr/>
              <p:nvPr/>
            </p:nvSpPr>
            <p:spPr>
              <a:xfrm>
                <a:off x="5553720" y="2660760"/>
                <a:ext cx="50724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5549760" y="26935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2" name=""/>
            <p:cNvGrpSpPr/>
            <p:nvPr/>
          </p:nvGrpSpPr>
          <p:grpSpPr>
            <a:xfrm>
              <a:off x="6030720" y="2660760"/>
              <a:ext cx="526680" cy="539280"/>
              <a:chOff x="6030720" y="2660760"/>
              <a:chExt cx="526680" cy="539280"/>
            </a:xfrm>
          </p:grpSpPr>
          <p:sp>
            <p:nvSpPr>
              <p:cNvPr id="333" name=""/>
              <p:cNvSpPr/>
              <p:nvPr/>
            </p:nvSpPr>
            <p:spPr>
              <a:xfrm>
                <a:off x="6050160" y="2660760"/>
                <a:ext cx="50724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030720" y="26935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5" name=""/>
            <p:cNvGrpSpPr/>
            <p:nvPr/>
          </p:nvGrpSpPr>
          <p:grpSpPr>
            <a:xfrm>
              <a:off x="5554080" y="3200040"/>
              <a:ext cx="512280" cy="539280"/>
              <a:chOff x="5554080" y="3200040"/>
              <a:chExt cx="512280" cy="539280"/>
            </a:xfrm>
          </p:grpSpPr>
          <p:sp>
            <p:nvSpPr>
              <p:cNvPr id="336" name=""/>
              <p:cNvSpPr/>
              <p:nvPr/>
            </p:nvSpPr>
            <p:spPr>
              <a:xfrm>
                <a:off x="5559120" y="3200040"/>
                <a:ext cx="50724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5554080" y="32338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8" name=""/>
            <p:cNvGrpSpPr/>
            <p:nvPr/>
          </p:nvGrpSpPr>
          <p:grpSpPr>
            <a:xfrm>
              <a:off x="6030720" y="3200040"/>
              <a:ext cx="526680" cy="539280"/>
              <a:chOff x="6030720" y="3200040"/>
              <a:chExt cx="526680" cy="539280"/>
            </a:xfrm>
          </p:grpSpPr>
          <p:sp>
            <p:nvSpPr>
              <p:cNvPr id="339" name=""/>
              <p:cNvSpPr/>
              <p:nvPr/>
            </p:nvSpPr>
            <p:spPr>
              <a:xfrm>
                <a:off x="6050160" y="3200040"/>
                <a:ext cx="50724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6030720" y="32338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1" name=""/>
            <p:cNvGrpSpPr/>
            <p:nvPr/>
          </p:nvGrpSpPr>
          <p:grpSpPr>
            <a:xfrm>
              <a:off x="5553360" y="3727800"/>
              <a:ext cx="507240" cy="539280"/>
              <a:chOff x="5553360" y="3727800"/>
              <a:chExt cx="507240" cy="539280"/>
            </a:xfrm>
          </p:grpSpPr>
          <p:sp>
            <p:nvSpPr>
              <p:cNvPr id="342" name=""/>
              <p:cNvSpPr/>
              <p:nvPr/>
            </p:nvSpPr>
            <p:spPr>
              <a:xfrm>
                <a:off x="5553360" y="3727800"/>
                <a:ext cx="50724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5554440" y="37278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4" name=""/>
            <p:cNvGrpSpPr/>
            <p:nvPr/>
          </p:nvGrpSpPr>
          <p:grpSpPr>
            <a:xfrm>
              <a:off x="6030720" y="3727800"/>
              <a:ext cx="526680" cy="539280"/>
              <a:chOff x="6030720" y="3727800"/>
              <a:chExt cx="526680" cy="539280"/>
            </a:xfrm>
          </p:grpSpPr>
          <p:sp>
            <p:nvSpPr>
              <p:cNvPr id="345" name=""/>
              <p:cNvSpPr/>
              <p:nvPr/>
            </p:nvSpPr>
            <p:spPr>
              <a:xfrm>
                <a:off x="6050160" y="3727800"/>
                <a:ext cx="50724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6030720" y="372780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7" name=""/>
            <p:cNvGrpSpPr/>
            <p:nvPr/>
          </p:nvGrpSpPr>
          <p:grpSpPr>
            <a:xfrm>
              <a:off x="5553360" y="4267080"/>
              <a:ext cx="507240" cy="539280"/>
              <a:chOff x="5553360" y="4267080"/>
              <a:chExt cx="507240" cy="539280"/>
            </a:xfrm>
          </p:grpSpPr>
          <p:sp>
            <p:nvSpPr>
              <p:cNvPr id="348" name=""/>
              <p:cNvSpPr/>
              <p:nvPr/>
            </p:nvSpPr>
            <p:spPr>
              <a:xfrm>
                <a:off x="5553360" y="4267080"/>
                <a:ext cx="50724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5554440" y="42670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0" name=""/>
            <p:cNvGrpSpPr/>
            <p:nvPr/>
          </p:nvGrpSpPr>
          <p:grpSpPr>
            <a:xfrm>
              <a:off x="6030720" y="4267080"/>
              <a:ext cx="526680" cy="539280"/>
              <a:chOff x="6030720" y="4267080"/>
              <a:chExt cx="526680" cy="539280"/>
            </a:xfrm>
          </p:grpSpPr>
          <p:sp>
            <p:nvSpPr>
              <p:cNvPr id="351" name=""/>
              <p:cNvSpPr/>
              <p:nvPr/>
            </p:nvSpPr>
            <p:spPr>
              <a:xfrm>
                <a:off x="6050160" y="4267080"/>
                <a:ext cx="50724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030720" y="426708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3" name=""/>
            <p:cNvGrpSpPr/>
            <p:nvPr/>
          </p:nvGrpSpPr>
          <p:grpSpPr>
            <a:xfrm>
              <a:off x="5554080" y="4794840"/>
              <a:ext cx="512280" cy="539280"/>
              <a:chOff x="5554080" y="4794840"/>
              <a:chExt cx="512280" cy="539280"/>
            </a:xfrm>
          </p:grpSpPr>
          <p:sp>
            <p:nvSpPr>
              <p:cNvPr id="354" name=""/>
              <p:cNvSpPr/>
              <p:nvPr/>
            </p:nvSpPr>
            <p:spPr>
              <a:xfrm>
                <a:off x="5559120" y="4794840"/>
                <a:ext cx="50724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554080" y="48276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6030720" y="4794840"/>
              <a:ext cx="526680" cy="539280"/>
              <a:chOff x="6030720" y="4794840"/>
              <a:chExt cx="526680" cy="539280"/>
            </a:xfrm>
          </p:grpSpPr>
          <p:sp>
            <p:nvSpPr>
              <p:cNvPr id="357" name=""/>
              <p:cNvSpPr/>
              <p:nvPr/>
            </p:nvSpPr>
            <p:spPr>
              <a:xfrm>
                <a:off x="6050160" y="4794840"/>
                <a:ext cx="50724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6030720" y="48276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9" name=""/>
            <p:cNvSpPr/>
            <p:nvPr/>
          </p:nvSpPr>
          <p:spPr>
            <a:xfrm>
              <a:off x="5987160" y="2594160"/>
              <a:ext cx="9468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029280" y="3705480"/>
              <a:ext cx="94320" cy="100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029280" y="4772520"/>
              <a:ext cx="9432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2" name=""/>
            <p:cNvGrpSpPr/>
            <p:nvPr/>
          </p:nvGrpSpPr>
          <p:grpSpPr>
            <a:xfrm>
              <a:off x="6559560" y="2133720"/>
              <a:ext cx="526320" cy="539280"/>
              <a:chOff x="6559560" y="2133720"/>
              <a:chExt cx="526320" cy="539280"/>
            </a:xfrm>
          </p:grpSpPr>
          <p:sp>
            <p:nvSpPr>
              <p:cNvPr id="363" name=""/>
              <p:cNvSpPr/>
              <p:nvPr/>
            </p:nvSpPr>
            <p:spPr>
              <a:xfrm>
                <a:off x="6578640" y="2133720"/>
                <a:ext cx="50724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6559560" y="213372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5" name=""/>
            <p:cNvGrpSpPr/>
            <p:nvPr/>
          </p:nvGrpSpPr>
          <p:grpSpPr>
            <a:xfrm>
              <a:off x="6559200" y="2660760"/>
              <a:ext cx="526680" cy="539280"/>
              <a:chOff x="6559200" y="2660760"/>
              <a:chExt cx="526680" cy="539280"/>
            </a:xfrm>
          </p:grpSpPr>
          <p:sp>
            <p:nvSpPr>
              <p:cNvPr id="366" name=""/>
              <p:cNvSpPr/>
              <p:nvPr/>
            </p:nvSpPr>
            <p:spPr>
              <a:xfrm>
                <a:off x="6578640" y="2660760"/>
                <a:ext cx="50724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6559200" y="26935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8" name=""/>
            <p:cNvGrpSpPr/>
            <p:nvPr/>
          </p:nvGrpSpPr>
          <p:grpSpPr>
            <a:xfrm>
              <a:off x="7085880" y="2133720"/>
              <a:ext cx="507240" cy="539280"/>
              <a:chOff x="7085880" y="2133720"/>
              <a:chExt cx="507240" cy="539280"/>
            </a:xfrm>
          </p:grpSpPr>
          <p:sp>
            <p:nvSpPr>
              <p:cNvPr id="369" name=""/>
              <p:cNvSpPr/>
              <p:nvPr/>
            </p:nvSpPr>
            <p:spPr>
              <a:xfrm>
                <a:off x="7085880" y="2133720"/>
                <a:ext cx="50724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7087680" y="21337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1" name=""/>
            <p:cNvGrpSpPr/>
            <p:nvPr/>
          </p:nvGrpSpPr>
          <p:grpSpPr>
            <a:xfrm>
              <a:off x="7081920" y="2660760"/>
              <a:ext cx="511200" cy="539280"/>
              <a:chOff x="7081920" y="2660760"/>
              <a:chExt cx="511200" cy="539280"/>
            </a:xfrm>
          </p:grpSpPr>
          <p:sp>
            <p:nvSpPr>
              <p:cNvPr id="372" name=""/>
              <p:cNvSpPr/>
              <p:nvPr/>
            </p:nvSpPr>
            <p:spPr>
              <a:xfrm>
                <a:off x="7085880" y="2660760"/>
                <a:ext cx="50724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081920" y="26935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4" name=""/>
            <p:cNvSpPr/>
            <p:nvPr/>
          </p:nvSpPr>
          <p:spPr>
            <a:xfrm>
              <a:off x="7033320" y="2594160"/>
              <a:ext cx="9432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5" name=""/>
            <p:cNvGrpSpPr/>
            <p:nvPr/>
          </p:nvGrpSpPr>
          <p:grpSpPr>
            <a:xfrm>
              <a:off x="7614360" y="2133720"/>
              <a:ext cx="507240" cy="539280"/>
              <a:chOff x="7614360" y="2133720"/>
              <a:chExt cx="507240" cy="539280"/>
            </a:xfrm>
          </p:grpSpPr>
          <p:sp>
            <p:nvSpPr>
              <p:cNvPr id="376" name=""/>
              <p:cNvSpPr/>
              <p:nvPr/>
            </p:nvSpPr>
            <p:spPr>
              <a:xfrm>
                <a:off x="7614360" y="2133720"/>
                <a:ext cx="50724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7618320" y="21337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8" name=""/>
            <p:cNvGrpSpPr/>
            <p:nvPr/>
          </p:nvGrpSpPr>
          <p:grpSpPr>
            <a:xfrm>
              <a:off x="7617240" y="2660760"/>
              <a:ext cx="509760" cy="539280"/>
              <a:chOff x="7617240" y="2660760"/>
              <a:chExt cx="509760" cy="539280"/>
            </a:xfrm>
          </p:grpSpPr>
          <p:sp>
            <p:nvSpPr>
              <p:cNvPr id="379" name=""/>
              <p:cNvSpPr/>
              <p:nvPr/>
            </p:nvSpPr>
            <p:spPr>
              <a:xfrm>
                <a:off x="7619760" y="2660760"/>
                <a:ext cx="50724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7617240" y="26935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1" name=""/>
            <p:cNvGrpSpPr/>
            <p:nvPr/>
          </p:nvGrpSpPr>
          <p:grpSpPr>
            <a:xfrm>
              <a:off x="8091360" y="2133720"/>
              <a:ext cx="526680" cy="539280"/>
              <a:chOff x="8091360" y="2133720"/>
              <a:chExt cx="526680" cy="539280"/>
            </a:xfrm>
          </p:grpSpPr>
          <p:sp>
            <p:nvSpPr>
              <p:cNvPr id="382" name=""/>
              <p:cNvSpPr/>
              <p:nvPr/>
            </p:nvSpPr>
            <p:spPr>
              <a:xfrm>
                <a:off x="8110800" y="2133720"/>
                <a:ext cx="50724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8091360" y="213372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4" name=""/>
            <p:cNvGrpSpPr/>
            <p:nvPr/>
          </p:nvGrpSpPr>
          <p:grpSpPr>
            <a:xfrm>
              <a:off x="8091360" y="2660760"/>
              <a:ext cx="526680" cy="539280"/>
              <a:chOff x="8091360" y="2660760"/>
              <a:chExt cx="526680" cy="539280"/>
            </a:xfrm>
          </p:grpSpPr>
          <p:sp>
            <p:nvSpPr>
              <p:cNvPr id="385" name=""/>
              <p:cNvSpPr/>
              <p:nvPr/>
            </p:nvSpPr>
            <p:spPr>
              <a:xfrm>
                <a:off x="8110800" y="2660760"/>
                <a:ext cx="50724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8091360" y="26935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7" name=""/>
            <p:cNvSpPr/>
            <p:nvPr/>
          </p:nvSpPr>
          <p:spPr>
            <a:xfrm>
              <a:off x="8047800" y="2594160"/>
              <a:ext cx="9468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8" name=""/>
            <p:cNvGrpSpPr/>
            <p:nvPr/>
          </p:nvGrpSpPr>
          <p:grpSpPr>
            <a:xfrm>
              <a:off x="6559560" y="4267080"/>
              <a:ext cx="526320" cy="539280"/>
              <a:chOff x="6559560" y="4267080"/>
              <a:chExt cx="526320" cy="539280"/>
            </a:xfrm>
          </p:grpSpPr>
          <p:sp>
            <p:nvSpPr>
              <p:cNvPr id="389" name=""/>
              <p:cNvSpPr/>
              <p:nvPr/>
            </p:nvSpPr>
            <p:spPr>
              <a:xfrm>
                <a:off x="6578640" y="4267080"/>
                <a:ext cx="50724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6559560" y="426708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1" name=""/>
            <p:cNvGrpSpPr/>
            <p:nvPr/>
          </p:nvGrpSpPr>
          <p:grpSpPr>
            <a:xfrm>
              <a:off x="6559200" y="4794840"/>
              <a:ext cx="526680" cy="539280"/>
              <a:chOff x="6559200" y="4794840"/>
              <a:chExt cx="526680" cy="539280"/>
            </a:xfrm>
          </p:grpSpPr>
          <p:sp>
            <p:nvSpPr>
              <p:cNvPr id="392" name=""/>
              <p:cNvSpPr/>
              <p:nvPr/>
            </p:nvSpPr>
            <p:spPr>
              <a:xfrm>
                <a:off x="6578640" y="4794840"/>
                <a:ext cx="50724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6559200" y="48276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4" name=""/>
            <p:cNvGrpSpPr/>
            <p:nvPr/>
          </p:nvGrpSpPr>
          <p:grpSpPr>
            <a:xfrm>
              <a:off x="7096680" y="4267080"/>
              <a:ext cx="507240" cy="539280"/>
              <a:chOff x="7096680" y="4267080"/>
              <a:chExt cx="507240" cy="539280"/>
            </a:xfrm>
          </p:grpSpPr>
          <p:sp>
            <p:nvSpPr>
              <p:cNvPr id="395" name=""/>
              <p:cNvSpPr/>
              <p:nvPr/>
            </p:nvSpPr>
            <p:spPr>
              <a:xfrm>
                <a:off x="7096680" y="4267080"/>
                <a:ext cx="50724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7098840" y="42670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7098840" y="4794840"/>
              <a:ext cx="510480" cy="539280"/>
              <a:chOff x="7098840" y="4794840"/>
              <a:chExt cx="510480" cy="539280"/>
            </a:xfrm>
          </p:grpSpPr>
          <p:sp>
            <p:nvSpPr>
              <p:cNvPr id="398" name=""/>
              <p:cNvSpPr/>
              <p:nvPr/>
            </p:nvSpPr>
            <p:spPr>
              <a:xfrm>
                <a:off x="7102080" y="4794840"/>
                <a:ext cx="50724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098840" y="48276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0" name=""/>
            <p:cNvSpPr/>
            <p:nvPr/>
          </p:nvSpPr>
          <p:spPr>
            <a:xfrm>
              <a:off x="7044120" y="4772520"/>
              <a:ext cx="9432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1" name=""/>
            <p:cNvGrpSpPr/>
            <p:nvPr/>
          </p:nvGrpSpPr>
          <p:grpSpPr>
            <a:xfrm>
              <a:off x="7614360" y="4267080"/>
              <a:ext cx="507240" cy="539280"/>
              <a:chOff x="7614360" y="4267080"/>
              <a:chExt cx="507240" cy="539280"/>
            </a:xfrm>
          </p:grpSpPr>
          <p:sp>
            <p:nvSpPr>
              <p:cNvPr id="402" name=""/>
              <p:cNvSpPr/>
              <p:nvPr/>
            </p:nvSpPr>
            <p:spPr>
              <a:xfrm>
                <a:off x="7614360" y="4267080"/>
                <a:ext cx="50724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7618320" y="42670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4" name=""/>
            <p:cNvGrpSpPr/>
            <p:nvPr/>
          </p:nvGrpSpPr>
          <p:grpSpPr>
            <a:xfrm>
              <a:off x="7617240" y="4794840"/>
              <a:ext cx="509760" cy="539280"/>
              <a:chOff x="7617240" y="4794840"/>
              <a:chExt cx="509760" cy="539280"/>
            </a:xfrm>
          </p:grpSpPr>
          <p:sp>
            <p:nvSpPr>
              <p:cNvPr id="405" name=""/>
              <p:cNvSpPr/>
              <p:nvPr/>
            </p:nvSpPr>
            <p:spPr>
              <a:xfrm>
                <a:off x="7619760" y="4794840"/>
                <a:ext cx="50724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7617240" y="48276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7" name=""/>
            <p:cNvGrpSpPr/>
            <p:nvPr/>
          </p:nvGrpSpPr>
          <p:grpSpPr>
            <a:xfrm>
              <a:off x="8091360" y="4267080"/>
              <a:ext cx="526680" cy="539280"/>
              <a:chOff x="8091360" y="4267080"/>
              <a:chExt cx="526680" cy="539280"/>
            </a:xfrm>
          </p:grpSpPr>
          <p:sp>
            <p:nvSpPr>
              <p:cNvPr id="408" name=""/>
              <p:cNvSpPr/>
              <p:nvPr/>
            </p:nvSpPr>
            <p:spPr>
              <a:xfrm>
                <a:off x="8110800" y="4267080"/>
                <a:ext cx="50724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8091360" y="426708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0" name=""/>
            <p:cNvGrpSpPr/>
            <p:nvPr/>
          </p:nvGrpSpPr>
          <p:grpSpPr>
            <a:xfrm>
              <a:off x="8091360" y="4794840"/>
              <a:ext cx="526680" cy="539280"/>
              <a:chOff x="8091360" y="4794840"/>
              <a:chExt cx="526680" cy="539280"/>
            </a:xfrm>
          </p:grpSpPr>
          <p:sp>
            <p:nvSpPr>
              <p:cNvPr id="411" name=""/>
              <p:cNvSpPr/>
              <p:nvPr/>
            </p:nvSpPr>
            <p:spPr>
              <a:xfrm>
                <a:off x="8110800" y="4794840"/>
                <a:ext cx="50724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8091360" y="48276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3" name=""/>
            <p:cNvSpPr/>
            <p:nvPr/>
          </p:nvSpPr>
          <p:spPr>
            <a:xfrm>
              <a:off x="8089920" y="4772520"/>
              <a:ext cx="9432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4" name=""/>
            <p:cNvGrpSpPr/>
            <p:nvPr/>
          </p:nvGrpSpPr>
          <p:grpSpPr>
            <a:xfrm>
              <a:off x="7614360" y="3727800"/>
              <a:ext cx="507240" cy="539280"/>
              <a:chOff x="7614360" y="3727800"/>
              <a:chExt cx="507240" cy="539280"/>
            </a:xfrm>
          </p:grpSpPr>
          <p:sp>
            <p:nvSpPr>
              <p:cNvPr id="415" name=""/>
              <p:cNvSpPr/>
              <p:nvPr/>
            </p:nvSpPr>
            <p:spPr>
              <a:xfrm>
                <a:off x="7614360" y="3727800"/>
                <a:ext cx="50724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7618320" y="37278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8091360" y="3727800"/>
              <a:ext cx="526680" cy="539280"/>
              <a:chOff x="8091360" y="3727800"/>
              <a:chExt cx="526680" cy="539280"/>
            </a:xfrm>
          </p:grpSpPr>
          <p:sp>
            <p:nvSpPr>
              <p:cNvPr id="418" name=""/>
              <p:cNvSpPr/>
              <p:nvPr/>
            </p:nvSpPr>
            <p:spPr>
              <a:xfrm>
                <a:off x="8110800" y="3727800"/>
                <a:ext cx="50724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8091360" y="372780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0" name=""/>
            <p:cNvGrpSpPr/>
            <p:nvPr/>
          </p:nvGrpSpPr>
          <p:grpSpPr>
            <a:xfrm>
              <a:off x="7617240" y="3200040"/>
              <a:ext cx="509760" cy="539280"/>
              <a:chOff x="7617240" y="3200040"/>
              <a:chExt cx="509760" cy="539280"/>
            </a:xfrm>
          </p:grpSpPr>
          <p:sp>
            <p:nvSpPr>
              <p:cNvPr id="421" name=""/>
              <p:cNvSpPr/>
              <p:nvPr/>
            </p:nvSpPr>
            <p:spPr>
              <a:xfrm>
                <a:off x="7619760" y="3200040"/>
                <a:ext cx="50724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7617240" y="32338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3" name=""/>
            <p:cNvGrpSpPr/>
            <p:nvPr/>
          </p:nvGrpSpPr>
          <p:grpSpPr>
            <a:xfrm>
              <a:off x="8091360" y="3200040"/>
              <a:ext cx="526680" cy="539280"/>
              <a:chOff x="8091360" y="3200040"/>
              <a:chExt cx="526680" cy="539280"/>
            </a:xfrm>
          </p:grpSpPr>
          <p:sp>
            <p:nvSpPr>
              <p:cNvPr id="424" name=""/>
              <p:cNvSpPr/>
              <p:nvPr/>
            </p:nvSpPr>
            <p:spPr>
              <a:xfrm>
                <a:off x="8110800" y="3200040"/>
                <a:ext cx="50724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8091360" y="32338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6" name=""/>
            <p:cNvSpPr/>
            <p:nvPr/>
          </p:nvSpPr>
          <p:spPr>
            <a:xfrm>
              <a:off x="8047800" y="3661200"/>
              <a:ext cx="9468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557760" y="3200040"/>
              <a:ext cx="507240" cy="539280"/>
            </a:xfrm>
            <a:prstGeom prst="rtTriangle">
              <a:avLst/>
            </a:prstGeom>
            <a:solidFill>
              <a:srgbClr val="66cc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rot="16200000">
              <a:off x="7069680" y="3215880"/>
              <a:ext cx="539280" cy="507240"/>
            </a:xfrm>
            <a:prstGeom prst="rtTriangle">
              <a:avLst/>
            </a:prstGeom>
            <a:solidFill>
              <a:srgbClr val="ff6699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085880" y="3727800"/>
              <a:ext cx="507240" cy="539280"/>
            </a:xfrm>
            <a:prstGeom prst="rtTriangle">
              <a:avLst/>
            </a:prstGeom>
            <a:solidFill>
              <a:srgbClr val="66cc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V="1">
              <a:off x="6557760" y="3727800"/>
              <a:ext cx="507240" cy="539280"/>
            </a:xfrm>
            <a:prstGeom prst="rtTriangle">
              <a:avLst/>
            </a:prstGeom>
            <a:solidFill>
              <a:srgbClr val="99ff99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6577560" y="3727800"/>
              <a:ext cx="507240" cy="539280"/>
            </a:xfrm>
            <a:prstGeom prst="rtTriangle">
              <a:avLst/>
            </a:prstGeom>
            <a:solidFill>
              <a:srgbClr val="ff6699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H="1" flipV="1">
              <a:off x="6577560" y="3200040"/>
              <a:ext cx="507240" cy="539280"/>
            </a:xfrm>
            <a:prstGeom prst="rtTriangle">
              <a:avLst/>
            </a:prstGeom>
            <a:solidFill>
              <a:srgbClr val="ffff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7085880" y="3200040"/>
              <a:ext cx="507240" cy="539280"/>
            </a:xfrm>
            <a:prstGeom prst="rtTriangle">
              <a:avLst/>
            </a:prstGeom>
            <a:solidFill>
              <a:srgbClr val="99ff99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 flipV="1">
              <a:off x="7106040" y="3727800"/>
              <a:ext cx="507240" cy="539280"/>
            </a:xfrm>
            <a:prstGeom prst="rtTriangle">
              <a:avLst/>
            </a:prstGeom>
            <a:solidFill>
              <a:srgbClr val="ffff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759720" y="320616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349760" y="376164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559560" y="348120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140240" y="398628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193520" y="320004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559560" y="381924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823440" y="398628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349760" y="348120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033320" y="3705480"/>
              <a:ext cx="94320" cy="100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4" name=""/>
          <p:cNvSpPr/>
          <p:nvPr/>
        </p:nvSpPr>
        <p:spPr>
          <a:xfrm>
            <a:off x="2743200" y="99072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mP Cel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plitting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Frequency Pl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eatures of Genetic Algorithms Planning</a:t>
            </a: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2135160" y="1981080"/>
            <a:ext cx="618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-ideal Hub Plac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s 3-D Contour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oits Topology and Building Block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duces Spectral Requir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s Any Propagation Model or Measure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mP Simulated Annealing Frequency Planning Approach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998360" y="1981080"/>
            <a:ext cx="645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s Sequential Optim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mentally Improves Signal to Noise Ratio Based Metr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es the Possible Values of Available Frequencies in Each S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s Local Performance Pe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izes Selection to Seek Global Pe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" descr=""/>
          <p:cNvPicPr/>
          <p:nvPr/>
        </p:nvPicPr>
        <p:blipFill>
          <a:blip r:embed="rId2"/>
          <a:stretch/>
        </p:blipFill>
        <p:spPr>
          <a:xfrm>
            <a:off x="1143000" y="914400"/>
            <a:ext cx="6453360" cy="3429000"/>
          </a:xfrm>
          <a:prstGeom prst="rect">
            <a:avLst/>
          </a:prstGeom>
          <a:ln w="0">
            <a:noFill/>
          </a:ln>
        </p:spPr>
      </p:pic>
      <p:pic>
        <p:nvPicPr>
          <p:cNvPr id="450" name="" descr=""/>
          <p:cNvPicPr/>
          <p:nvPr/>
        </p:nvPicPr>
        <p:blipFill>
          <a:blip r:embed="rId3"/>
          <a:stretch/>
        </p:blipFill>
        <p:spPr>
          <a:xfrm>
            <a:off x="1501920" y="4572000"/>
            <a:ext cx="3767040" cy="843120"/>
          </a:xfrm>
          <a:prstGeom prst="rect">
            <a:avLst/>
          </a:prstGeom>
          <a:ln w="0">
            <a:noFill/>
          </a:ln>
        </p:spPr>
      </p:pic>
      <p:pic>
        <p:nvPicPr>
          <p:cNvPr id="451" name="" descr=""/>
          <p:cNvPicPr/>
          <p:nvPr/>
        </p:nvPicPr>
        <p:blipFill>
          <a:blip r:embed="rId4"/>
          <a:stretch/>
        </p:blipFill>
        <p:spPr>
          <a:xfrm>
            <a:off x="2971800" y="2543040"/>
            <a:ext cx="316080" cy="168480"/>
          </a:xfrm>
          <a:prstGeom prst="rect">
            <a:avLst/>
          </a:prstGeom>
          <a:ln w="0">
            <a:noFill/>
          </a:ln>
        </p:spPr>
      </p:pic>
      <p:pic>
        <p:nvPicPr>
          <p:cNvPr id="452" name="" descr=""/>
          <p:cNvPicPr/>
          <p:nvPr/>
        </p:nvPicPr>
        <p:blipFill>
          <a:blip r:embed="rId5"/>
          <a:stretch/>
        </p:blipFill>
        <p:spPr>
          <a:xfrm>
            <a:off x="2446200" y="1940040"/>
            <a:ext cx="897120" cy="1260360"/>
          </a:xfrm>
          <a:prstGeom prst="rect">
            <a:avLst/>
          </a:prstGeom>
          <a:ln w="0">
            <a:noFill/>
          </a:ln>
        </p:spPr>
      </p:pic>
      <p:pic>
        <p:nvPicPr>
          <p:cNvPr id="453" name="" descr=""/>
          <p:cNvPicPr/>
          <p:nvPr/>
        </p:nvPicPr>
        <p:blipFill>
          <a:blip r:embed="rId6"/>
          <a:stretch/>
        </p:blipFill>
        <p:spPr>
          <a:xfrm>
            <a:off x="5202360" y="1523880"/>
            <a:ext cx="1614240" cy="2138400"/>
          </a:xfrm>
          <a:prstGeom prst="rect">
            <a:avLst/>
          </a:prstGeom>
          <a:ln w="0">
            <a:noFill/>
          </a:ln>
        </p:spPr>
      </p:pic>
      <p:pic>
        <p:nvPicPr>
          <p:cNvPr id="454" name="" descr=""/>
          <p:cNvPicPr/>
          <p:nvPr/>
        </p:nvPicPr>
        <p:blipFill>
          <a:blip r:embed="rId7"/>
          <a:stretch/>
        </p:blipFill>
        <p:spPr>
          <a:xfrm>
            <a:off x="6705720" y="1828800"/>
            <a:ext cx="2293920" cy="2413080"/>
          </a:xfrm>
          <a:prstGeom prst="rect">
            <a:avLst/>
          </a:prstGeom>
          <a:ln w="0">
            <a:noFill/>
          </a:ln>
        </p:spPr>
      </p:pic>
      <p:pic>
        <p:nvPicPr>
          <p:cNvPr id="455" name="" descr=""/>
          <p:cNvPicPr/>
          <p:nvPr/>
        </p:nvPicPr>
        <p:blipFill>
          <a:blip r:embed="rId8"/>
          <a:stretch/>
        </p:blipFill>
        <p:spPr>
          <a:xfrm>
            <a:off x="6531120" y="4648320"/>
            <a:ext cx="1881000" cy="1116000"/>
          </a:xfrm>
          <a:prstGeom prst="rect">
            <a:avLst/>
          </a:prstGeom>
          <a:ln w="0">
            <a:noFill/>
          </a:ln>
        </p:spPr>
      </p:pic>
      <p:pic>
        <p:nvPicPr>
          <p:cNvPr id="456" name="" descr=""/>
          <p:cNvPicPr/>
          <p:nvPr/>
        </p:nvPicPr>
        <p:blipFill>
          <a:blip r:embed="rId9"/>
          <a:stretch/>
        </p:blipFill>
        <p:spPr>
          <a:xfrm>
            <a:off x="5616720" y="4952880"/>
            <a:ext cx="938160" cy="3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genda</a:t>
            </a: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mP Frequency Reuse Plan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mP Expansion Frequency Reuse Plan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timizing PmP Frequency Planning Using Genetic Algorithms and Simulated Annealing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timizing PtP Frequency Planning Using Genetic Algorithms and Simulated Annea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" descr=""/>
          <p:cNvPicPr/>
          <p:nvPr/>
        </p:nvPicPr>
        <p:blipFill>
          <a:blip r:embed="rId2"/>
          <a:stretch/>
        </p:blipFill>
        <p:spPr>
          <a:xfrm>
            <a:off x="1447920" y="165240"/>
            <a:ext cx="5556240" cy="263520"/>
          </a:xfrm>
          <a:prstGeom prst="rect">
            <a:avLst/>
          </a:prstGeom>
          <a:ln w="0">
            <a:noFill/>
          </a:ln>
        </p:spPr>
      </p:pic>
      <p:pic>
        <p:nvPicPr>
          <p:cNvPr id="458" name="" descr=""/>
          <p:cNvPicPr/>
          <p:nvPr/>
        </p:nvPicPr>
        <p:blipFill>
          <a:blip r:embed="rId3"/>
          <a:stretch/>
        </p:blipFill>
        <p:spPr>
          <a:xfrm>
            <a:off x="3200400" y="388800"/>
            <a:ext cx="3665520" cy="12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" descr=""/>
          <p:cNvPicPr/>
          <p:nvPr/>
        </p:nvPicPr>
        <p:blipFill>
          <a:blip r:embed="rId2"/>
          <a:stretch/>
        </p:blipFill>
        <p:spPr>
          <a:xfrm>
            <a:off x="3271680" y="380880"/>
            <a:ext cx="3662640" cy="1866960"/>
          </a:xfrm>
          <a:prstGeom prst="rect">
            <a:avLst/>
          </a:prstGeom>
          <a:ln w="0">
            <a:noFill/>
          </a:ln>
        </p:spPr>
      </p:pic>
      <p:pic>
        <p:nvPicPr>
          <p:cNvPr id="460" name="" descr=""/>
          <p:cNvPicPr/>
          <p:nvPr/>
        </p:nvPicPr>
        <p:blipFill>
          <a:blip r:embed="rId3"/>
          <a:stretch/>
        </p:blipFill>
        <p:spPr>
          <a:xfrm>
            <a:off x="1447920" y="165240"/>
            <a:ext cx="5556240" cy="2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" descr=""/>
          <p:cNvPicPr/>
          <p:nvPr/>
        </p:nvPicPr>
        <p:blipFill>
          <a:blip r:embed="rId2"/>
          <a:stretch/>
        </p:blipFill>
        <p:spPr>
          <a:xfrm>
            <a:off x="3233880" y="363600"/>
            <a:ext cx="3624120" cy="2531880"/>
          </a:xfrm>
          <a:prstGeom prst="rect">
            <a:avLst/>
          </a:prstGeom>
          <a:ln w="0">
            <a:noFill/>
          </a:ln>
        </p:spPr>
      </p:pic>
      <p:pic>
        <p:nvPicPr>
          <p:cNvPr id="462" name="" descr=""/>
          <p:cNvPicPr/>
          <p:nvPr/>
        </p:nvPicPr>
        <p:blipFill>
          <a:blip r:embed="rId3"/>
          <a:stretch/>
        </p:blipFill>
        <p:spPr>
          <a:xfrm>
            <a:off x="1447920" y="165240"/>
            <a:ext cx="5556240" cy="2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" descr=""/>
          <p:cNvPicPr/>
          <p:nvPr/>
        </p:nvPicPr>
        <p:blipFill>
          <a:blip r:embed="rId2"/>
          <a:stretch/>
        </p:blipFill>
        <p:spPr>
          <a:xfrm>
            <a:off x="3505320" y="380880"/>
            <a:ext cx="3174840" cy="3614760"/>
          </a:xfrm>
          <a:prstGeom prst="rect">
            <a:avLst/>
          </a:prstGeom>
          <a:ln w="0">
            <a:noFill/>
          </a:ln>
        </p:spPr>
      </p:pic>
      <p:pic>
        <p:nvPicPr>
          <p:cNvPr id="464" name="" descr=""/>
          <p:cNvPicPr/>
          <p:nvPr/>
        </p:nvPicPr>
        <p:blipFill>
          <a:blip r:embed="rId3"/>
          <a:stretch/>
        </p:blipFill>
        <p:spPr>
          <a:xfrm>
            <a:off x="1447920" y="165240"/>
            <a:ext cx="5556240" cy="2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" descr=""/>
          <p:cNvPicPr/>
          <p:nvPr/>
        </p:nvPicPr>
        <p:blipFill>
          <a:blip r:embed="rId2"/>
          <a:stretch/>
        </p:blipFill>
        <p:spPr>
          <a:xfrm>
            <a:off x="3468600" y="380880"/>
            <a:ext cx="3168720" cy="4098960"/>
          </a:xfrm>
          <a:prstGeom prst="rect">
            <a:avLst/>
          </a:prstGeom>
          <a:ln w="0">
            <a:noFill/>
          </a:ln>
        </p:spPr>
      </p:pic>
      <p:pic>
        <p:nvPicPr>
          <p:cNvPr id="466" name="" descr=""/>
          <p:cNvPicPr/>
          <p:nvPr/>
        </p:nvPicPr>
        <p:blipFill>
          <a:blip r:embed="rId3"/>
          <a:stretch/>
        </p:blipFill>
        <p:spPr>
          <a:xfrm>
            <a:off x="1447920" y="165240"/>
            <a:ext cx="5556240" cy="2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" descr=""/>
          <p:cNvPicPr/>
          <p:nvPr/>
        </p:nvPicPr>
        <p:blipFill>
          <a:blip r:embed="rId2"/>
          <a:stretch/>
        </p:blipFill>
        <p:spPr>
          <a:xfrm>
            <a:off x="3465360" y="380880"/>
            <a:ext cx="3195720" cy="5423040"/>
          </a:xfrm>
          <a:prstGeom prst="rect">
            <a:avLst/>
          </a:prstGeom>
          <a:ln w="0">
            <a:noFill/>
          </a:ln>
        </p:spPr>
      </p:pic>
      <p:pic>
        <p:nvPicPr>
          <p:cNvPr id="468" name="" descr=""/>
          <p:cNvPicPr/>
          <p:nvPr/>
        </p:nvPicPr>
        <p:blipFill>
          <a:blip r:embed="rId3"/>
          <a:stretch/>
        </p:blipFill>
        <p:spPr>
          <a:xfrm>
            <a:off x="1447920" y="165240"/>
            <a:ext cx="5556240" cy="2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" descr=""/>
          <p:cNvPicPr/>
          <p:nvPr/>
        </p:nvPicPr>
        <p:blipFill>
          <a:blip r:embed="rId2"/>
          <a:stretch/>
        </p:blipFill>
        <p:spPr>
          <a:xfrm>
            <a:off x="3492360" y="380880"/>
            <a:ext cx="3122640" cy="5608800"/>
          </a:xfrm>
          <a:prstGeom prst="rect">
            <a:avLst/>
          </a:prstGeom>
          <a:ln w="0">
            <a:noFill/>
          </a:ln>
        </p:spPr>
      </p:pic>
      <p:pic>
        <p:nvPicPr>
          <p:cNvPr id="470" name="" descr=""/>
          <p:cNvPicPr/>
          <p:nvPr/>
        </p:nvPicPr>
        <p:blipFill>
          <a:blip r:embed="rId3"/>
          <a:stretch/>
        </p:blipFill>
        <p:spPr>
          <a:xfrm>
            <a:off x="1447920" y="165240"/>
            <a:ext cx="5556240" cy="2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" descr=""/>
          <p:cNvPicPr/>
          <p:nvPr/>
        </p:nvPicPr>
        <p:blipFill>
          <a:blip r:embed="rId2"/>
          <a:stretch/>
        </p:blipFill>
        <p:spPr>
          <a:xfrm>
            <a:off x="3505320" y="380880"/>
            <a:ext cx="3541680" cy="6424560"/>
          </a:xfrm>
          <a:prstGeom prst="rect">
            <a:avLst/>
          </a:prstGeom>
          <a:ln w="0">
            <a:noFill/>
          </a:ln>
        </p:spPr>
      </p:pic>
      <p:pic>
        <p:nvPicPr>
          <p:cNvPr id="472" name="" descr=""/>
          <p:cNvPicPr/>
          <p:nvPr/>
        </p:nvPicPr>
        <p:blipFill>
          <a:blip r:embed="rId3"/>
          <a:stretch/>
        </p:blipFill>
        <p:spPr>
          <a:xfrm>
            <a:off x="1447920" y="165240"/>
            <a:ext cx="5556240" cy="2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" descr=""/>
          <p:cNvPicPr/>
          <p:nvPr/>
        </p:nvPicPr>
        <p:blipFill>
          <a:blip r:embed="rId2"/>
          <a:stretch/>
        </p:blipFill>
        <p:spPr>
          <a:xfrm>
            <a:off x="1371600" y="609480"/>
            <a:ext cx="6637320" cy="59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" descr=""/>
          <p:cNvPicPr/>
          <p:nvPr/>
        </p:nvPicPr>
        <p:blipFill>
          <a:blip r:embed="rId2"/>
          <a:stretch/>
        </p:blipFill>
        <p:spPr>
          <a:xfrm>
            <a:off x="1600200" y="685800"/>
            <a:ext cx="730872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96920" y="609120"/>
            <a:ext cx="64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Benefits of Optimized Frequency Planning</a:t>
            </a: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22093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imized Use of Expensive Spectr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er Throughput per MHz Efficienc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imizes Network “Exclusion Zone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nimizes System Interference and Out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ximizes System Throughput with Expanded Use of Higher Order Constellation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" descr=""/>
          <p:cNvPicPr/>
          <p:nvPr/>
        </p:nvPicPr>
        <p:blipFill>
          <a:blip r:embed="rId2"/>
          <a:stretch/>
        </p:blipFill>
        <p:spPr>
          <a:xfrm>
            <a:off x="685800" y="533520"/>
            <a:ext cx="8763120" cy="6006960"/>
          </a:xfrm>
          <a:prstGeom prst="rect">
            <a:avLst/>
          </a:prstGeom>
          <a:ln w="0">
            <a:noFill/>
          </a:ln>
        </p:spPr>
      </p:pic>
      <p:sp>
        <p:nvSpPr>
          <p:cNvPr id="476" name=""/>
          <p:cNvSpPr/>
          <p:nvPr/>
        </p:nvSpPr>
        <p:spPr>
          <a:xfrm>
            <a:off x="2598480" y="303840"/>
            <a:ext cx="442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andomized Standard Hub Lay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421080" y="1660680"/>
            <a:ext cx="76320" cy="759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595760" y="1905120"/>
            <a:ext cx="76320" cy="759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5546880" y="2057400"/>
            <a:ext cx="7596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543800" y="1828800"/>
            <a:ext cx="7632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7223040" y="2987640"/>
            <a:ext cx="7632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483320" y="3657600"/>
            <a:ext cx="7632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867280" y="3733920"/>
            <a:ext cx="76320" cy="759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486400" y="2590920"/>
            <a:ext cx="76320" cy="759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191120" y="2590920"/>
            <a:ext cx="75960" cy="759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2827440" y="3032280"/>
            <a:ext cx="75960" cy="759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505320" y="4191120"/>
            <a:ext cx="75960" cy="759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680000" y="3938760"/>
            <a:ext cx="76320" cy="759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716360" y="4564080"/>
            <a:ext cx="7632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2887560" y="4952880"/>
            <a:ext cx="7632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851440" y="5052960"/>
            <a:ext cx="7632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7620120" y="4952880"/>
            <a:ext cx="7596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/>
          <p:nvPr/>
        </p:nvSpPr>
        <p:spPr>
          <a:xfrm>
            <a:off x="1122840" y="6384960"/>
            <a:ext cx="8344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28-Oct-2001  18:42 J.Rozmary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122840" y="6384960"/>
            <a:ext cx="8344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28-Oct-2001  18:43 J.Rozmary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676520" y="1219320"/>
            <a:ext cx="6735600" cy="485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676520" y="1219320"/>
            <a:ext cx="6735600" cy="485280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676520" y="1219320"/>
            <a:ext cx="1440" cy="485280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795760" y="1219320"/>
            <a:ext cx="1440" cy="485280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916440" y="1219320"/>
            <a:ext cx="1440" cy="485280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5043600" y="1219320"/>
            <a:ext cx="1440" cy="485280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164280" y="1219320"/>
            <a:ext cx="1440" cy="485280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283520" y="1219320"/>
            <a:ext cx="1440" cy="485280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8412120" y="1219320"/>
            <a:ext cx="1800" cy="485280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676520" y="6072120"/>
            <a:ext cx="673560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676520" y="5580000"/>
            <a:ext cx="673560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676520" y="5095800"/>
            <a:ext cx="673560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676520" y="4611600"/>
            <a:ext cx="673560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676520" y="4129200"/>
            <a:ext cx="673560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676520" y="3645000"/>
            <a:ext cx="673560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676520" y="3152880"/>
            <a:ext cx="673560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1676520" y="2670120"/>
            <a:ext cx="673560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1676520" y="2185920"/>
            <a:ext cx="673560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676520" y="1703520"/>
            <a:ext cx="673560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676520" y="1219320"/>
            <a:ext cx="673560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676520" y="1219320"/>
            <a:ext cx="6735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676520" y="6072120"/>
            <a:ext cx="6735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 flipV="1">
            <a:off x="8412120" y="1219320"/>
            <a:ext cx="1800" cy="4852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 flipV="1">
            <a:off x="1676520" y="1219320"/>
            <a:ext cx="1440" cy="4852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676520" y="6072120"/>
            <a:ext cx="6735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flipV="1">
            <a:off x="1676520" y="1219320"/>
            <a:ext cx="1440" cy="4852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1676520" y="6003720"/>
            <a:ext cx="144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676520" y="1219320"/>
            <a:ext cx="1440" cy="60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677240" y="6097680"/>
            <a:ext cx="58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V="1">
            <a:off x="2795760" y="6003720"/>
            <a:ext cx="144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2795760" y="1219320"/>
            <a:ext cx="1440" cy="60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780640" y="609768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flipV="1">
            <a:off x="3916440" y="6003720"/>
            <a:ext cx="144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916440" y="1219320"/>
            <a:ext cx="1440" cy="60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849840" y="609768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V="1">
            <a:off x="5043600" y="6003720"/>
            <a:ext cx="144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043600" y="1219320"/>
            <a:ext cx="1440" cy="60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978440" y="609768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 flipV="1">
            <a:off x="6164280" y="6003720"/>
            <a:ext cx="144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164280" y="1219320"/>
            <a:ext cx="1440" cy="60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097680" y="609768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 flipV="1">
            <a:off x="7283520" y="6003720"/>
            <a:ext cx="144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7283520" y="1219320"/>
            <a:ext cx="1440" cy="60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7218360" y="609768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flipV="1">
            <a:off x="8412120" y="6003720"/>
            <a:ext cx="180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8412120" y="1219320"/>
            <a:ext cx="1800" cy="60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8345520" y="609768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1676520" y="6072120"/>
            <a:ext cx="58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 flipH="1">
            <a:off x="8343720" y="6072120"/>
            <a:ext cx="68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1453320" y="600408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1676520" y="5580000"/>
            <a:ext cx="58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 flipH="1">
            <a:off x="8343720" y="5580000"/>
            <a:ext cx="68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265040" y="551196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676520" y="5095800"/>
            <a:ext cx="58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H="1">
            <a:off x="8343720" y="5095800"/>
            <a:ext cx="68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265040" y="502776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1676520" y="4611600"/>
            <a:ext cx="58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flipH="1">
            <a:off x="8343720" y="4611600"/>
            <a:ext cx="68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1265040" y="454500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1676520" y="4129200"/>
            <a:ext cx="58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8343720" y="4129200"/>
            <a:ext cx="68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1265040" y="406080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1676520" y="3645000"/>
            <a:ext cx="58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H="1">
            <a:off x="8343720" y="3645000"/>
            <a:ext cx="68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265040" y="357840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676520" y="3152880"/>
            <a:ext cx="58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H="1">
            <a:off x="8343720" y="3152880"/>
            <a:ext cx="68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265040" y="308628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1676520" y="2670120"/>
            <a:ext cx="58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H="1">
            <a:off x="8343720" y="2670120"/>
            <a:ext cx="68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265040" y="260208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1676520" y="2185920"/>
            <a:ext cx="58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 flipH="1">
            <a:off x="8343720" y="2185920"/>
            <a:ext cx="68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1265040" y="211932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676520" y="1703520"/>
            <a:ext cx="58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 flipH="1">
            <a:off x="8343720" y="1703520"/>
            <a:ext cx="68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1265040" y="163512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1676520" y="1219320"/>
            <a:ext cx="58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 flipH="1">
            <a:off x="8343720" y="1219320"/>
            <a:ext cx="68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338840" y="1150920"/>
            <a:ext cx="22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1676520" y="1219320"/>
            <a:ext cx="6735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1676520" y="6072120"/>
            <a:ext cx="6735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 flipV="1">
            <a:off x="8412120" y="1219320"/>
            <a:ext cx="1800" cy="4852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flipV="1">
            <a:off x="1676520" y="1219320"/>
            <a:ext cx="1440" cy="4852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1897200" y="3713040"/>
            <a:ext cx="6522840" cy="2359080"/>
          </a:xfrm>
          <a:custGeom>
            <a:avLst/>
            <a:gdLst/>
            <a:ahLst/>
            <a:rect l="l" t="t" r="r" b="b"/>
            <a:pathLst>
              <a:path w="4109" h="1486">
                <a:moveTo>
                  <a:pt x="0" y="1486"/>
                </a:moveTo>
                <a:lnTo>
                  <a:pt x="139" y="1486"/>
                </a:lnTo>
                <a:lnTo>
                  <a:pt x="283" y="1486"/>
                </a:lnTo>
                <a:lnTo>
                  <a:pt x="422" y="1486"/>
                </a:lnTo>
                <a:lnTo>
                  <a:pt x="566" y="1486"/>
                </a:lnTo>
                <a:lnTo>
                  <a:pt x="705" y="1475"/>
                </a:lnTo>
                <a:lnTo>
                  <a:pt x="849" y="1469"/>
                </a:lnTo>
                <a:lnTo>
                  <a:pt x="988" y="1464"/>
                </a:lnTo>
                <a:lnTo>
                  <a:pt x="1133" y="1459"/>
                </a:lnTo>
                <a:lnTo>
                  <a:pt x="1272" y="1453"/>
                </a:lnTo>
                <a:lnTo>
                  <a:pt x="1416" y="1437"/>
                </a:lnTo>
                <a:lnTo>
                  <a:pt x="1555" y="1411"/>
                </a:lnTo>
                <a:lnTo>
                  <a:pt x="1699" y="1389"/>
                </a:lnTo>
                <a:lnTo>
                  <a:pt x="1838" y="1384"/>
                </a:lnTo>
                <a:lnTo>
                  <a:pt x="1982" y="1352"/>
                </a:lnTo>
                <a:lnTo>
                  <a:pt x="2121" y="1320"/>
                </a:lnTo>
                <a:lnTo>
                  <a:pt x="2260" y="1277"/>
                </a:lnTo>
                <a:lnTo>
                  <a:pt x="2404" y="1245"/>
                </a:lnTo>
                <a:lnTo>
                  <a:pt x="2543" y="1197"/>
                </a:lnTo>
                <a:lnTo>
                  <a:pt x="2688" y="1149"/>
                </a:lnTo>
                <a:lnTo>
                  <a:pt x="2827" y="1090"/>
                </a:lnTo>
                <a:lnTo>
                  <a:pt x="2971" y="1005"/>
                </a:lnTo>
                <a:lnTo>
                  <a:pt x="3110" y="914"/>
                </a:lnTo>
                <a:lnTo>
                  <a:pt x="3254" y="818"/>
                </a:lnTo>
                <a:lnTo>
                  <a:pt x="3393" y="695"/>
                </a:lnTo>
                <a:lnTo>
                  <a:pt x="3537" y="604"/>
                </a:lnTo>
                <a:lnTo>
                  <a:pt x="3676" y="465"/>
                </a:lnTo>
                <a:lnTo>
                  <a:pt x="3820" y="331"/>
                </a:lnTo>
                <a:lnTo>
                  <a:pt x="3959" y="155"/>
                </a:lnTo>
                <a:lnTo>
                  <a:pt x="4104" y="5"/>
                </a:lnTo>
                <a:lnTo>
                  <a:pt x="4109" y="0"/>
                </a:lnTo>
              </a:path>
            </a:pathLst>
          </a:custGeom>
          <a:noFill/>
          <a:ln w="38160">
            <a:solidFill>
              <a:srgbClr val="00ff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3230640" y="1023840"/>
            <a:ext cx="3644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omparative C/I Cumulative Histogram for Genetic Algorithm Frequency Pla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758840" y="6303960"/>
            <a:ext cx="601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/I (dB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 rot="16200000">
            <a:off x="745200" y="3522960"/>
            <a:ext cx="799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ba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1897200" y="2789280"/>
            <a:ext cx="6522840" cy="3282840"/>
          </a:xfrm>
          <a:custGeom>
            <a:avLst/>
            <a:gdLst/>
            <a:ahLst/>
            <a:rect l="l" t="t" r="r" b="b"/>
            <a:pathLst>
              <a:path w="4109" h="2068">
                <a:moveTo>
                  <a:pt x="0" y="2068"/>
                </a:moveTo>
                <a:lnTo>
                  <a:pt x="139" y="2068"/>
                </a:lnTo>
                <a:lnTo>
                  <a:pt x="283" y="2068"/>
                </a:lnTo>
                <a:lnTo>
                  <a:pt x="422" y="2068"/>
                </a:lnTo>
                <a:lnTo>
                  <a:pt x="566" y="2068"/>
                </a:lnTo>
                <a:lnTo>
                  <a:pt x="705" y="2068"/>
                </a:lnTo>
                <a:lnTo>
                  <a:pt x="849" y="2068"/>
                </a:lnTo>
                <a:lnTo>
                  <a:pt x="988" y="2068"/>
                </a:lnTo>
                <a:lnTo>
                  <a:pt x="1133" y="2057"/>
                </a:lnTo>
                <a:lnTo>
                  <a:pt x="1272" y="2051"/>
                </a:lnTo>
                <a:lnTo>
                  <a:pt x="1416" y="2041"/>
                </a:lnTo>
                <a:lnTo>
                  <a:pt x="1555" y="2030"/>
                </a:lnTo>
                <a:lnTo>
                  <a:pt x="1699" y="2003"/>
                </a:lnTo>
                <a:lnTo>
                  <a:pt x="1838" y="1955"/>
                </a:lnTo>
                <a:lnTo>
                  <a:pt x="1982" y="1913"/>
                </a:lnTo>
                <a:lnTo>
                  <a:pt x="2121" y="1843"/>
                </a:lnTo>
                <a:lnTo>
                  <a:pt x="2260" y="1763"/>
                </a:lnTo>
                <a:lnTo>
                  <a:pt x="2404" y="1656"/>
                </a:lnTo>
                <a:lnTo>
                  <a:pt x="2543" y="1544"/>
                </a:lnTo>
                <a:lnTo>
                  <a:pt x="2688" y="1448"/>
                </a:lnTo>
                <a:lnTo>
                  <a:pt x="2827" y="1335"/>
                </a:lnTo>
                <a:lnTo>
                  <a:pt x="2971" y="1181"/>
                </a:lnTo>
                <a:lnTo>
                  <a:pt x="3110" y="1074"/>
                </a:lnTo>
                <a:lnTo>
                  <a:pt x="3254" y="951"/>
                </a:lnTo>
                <a:lnTo>
                  <a:pt x="3393" y="801"/>
                </a:lnTo>
                <a:lnTo>
                  <a:pt x="3537" y="646"/>
                </a:lnTo>
                <a:lnTo>
                  <a:pt x="3676" y="491"/>
                </a:lnTo>
                <a:lnTo>
                  <a:pt x="3820" y="336"/>
                </a:lnTo>
                <a:lnTo>
                  <a:pt x="3959" y="187"/>
                </a:lnTo>
                <a:lnTo>
                  <a:pt x="4104" y="5"/>
                </a:lnTo>
                <a:lnTo>
                  <a:pt x="4109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7250040" y="1270080"/>
            <a:ext cx="1101960" cy="31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7250040" y="1270080"/>
            <a:ext cx="1101960" cy="3142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7250040" y="1270080"/>
            <a:ext cx="1101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7250040" y="1584360"/>
            <a:ext cx="1101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 flipV="1">
            <a:off x="8352000" y="1269720"/>
            <a:ext cx="1440" cy="31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V="1">
            <a:off x="7250040" y="1269720"/>
            <a:ext cx="1800" cy="31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7250040" y="1584360"/>
            <a:ext cx="1101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V="1">
            <a:off x="7250040" y="1269720"/>
            <a:ext cx="1800" cy="31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50040" y="1270080"/>
            <a:ext cx="1101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250040" y="1584360"/>
            <a:ext cx="1101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V="1">
            <a:off x="8352000" y="1269720"/>
            <a:ext cx="1440" cy="31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flipV="1">
            <a:off x="7250040" y="1269720"/>
            <a:ext cx="1800" cy="31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14000" y="1287360"/>
            <a:ext cx="61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Genetic  pla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19760" y="1422360"/>
            <a:ext cx="642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tandard Pla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308720" y="1355760"/>
            <a:ext cx="195480" cy="1440"/>
          </a:xfrm>
          <a:prstGeom prst="line">
            <a:avLst/>
          </a:prstGeom>
          <a:ln w="0">
            <a:solidFill>
              <a:srgbClr val="00ff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308720" y="1500120"/>
            <a:ext cx="19548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7277040" y="4122360"/>
            <a:ext cx="0" cy="19810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 flipH="1">
            <a:off x="1690560" y="4046400"/>
            <a:ext cx="556272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1690560" y="4808520"/>
            <a:ext cx="556272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6719400" y="5036040"/>
            <a:ext cx="174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5500800" y="3435840"/>
            <a:ext cx="188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ndard 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137240" y="608400"/>
            <a:ext cx="747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erformance Comparison of Standard Vs. Genetic Pla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3198600" y="456120"/>
            <a:ext cx="319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oint-to-Point Link 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1504440" y="6302520"/>
            <a:ext cx="63612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29-Oct-2001  17:1 J.Rozmaryn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055960" y="1343160"/>
            <a:ext cx="5905440" cy="464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055960" y="1343160"/>
            <a:ext cx="5905440" cy="464976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2770200" y="1343160"/>
            <a:ext cx="1440" cy="4649760"/>
          </a:xfrm>
          <a:custGeom>
            <a:avLst/>
            <a:gdLst/>
            <a:ahLst/>
            <a:rect l="l" t="t" r="r" b="b"/>
            <a:pathLst>
              <a:path w="0" h="781">
                <a:moveTo>
                  <a:pt x="0" y="78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3889440" y="1343160"/>
            <a:ext cx="1440" cy="4649760"/>
          </a:xfrm>
          <a:custGeom>
            <a:avLst/>
            <a:gdLst/>
            <a:ahLst/>
            <a:rect l="l" t="t" r="r" b="b"/>
            <a:pathLst>
              <a:path w="0" h="781">
                <a:moveTo>
                  <a:pt x="0" y="78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5008680" y="1343160"/>
            <a:ext cx="1440" cy="4649760"/>
          </a:xfrm>
          <a:custGeom>
            <a:avLst/>
            <a:gdLst/>
            <a:ahLst/>
            <a:rect l="l" t="t" r="r" b="b"/>
            <a:pathLst>
              <a:path w="0" h="781">
                <a:moveTo>
                  <a:pt x="0" y="78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6121440" y="1343160"/>
            <a:ext cx="1440" cy="4649760"/>
          </a:xfrm>
          <a:custGeom>
            <a:avLst/>
            <a:gdLst/>
            <a:ahLst/>
            <a:rect l="l" t="t" r="r" b="b"/>
            <a:pathLst>
              <a:path w="0" h="781">
                <a:moveTo>
                  <a:pt x="0" y="78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7240680" y="1343160"/>
            <a:ext cx="1440" cy="4649760"/>
          </a:xfrm>
          <a:custGeom>
            <a:avLst/>
            <a:gdLst/>
            <a:ahLst/>
            <a:rect l="l" t="t" r="r" b="b"/>
            <a:pathLst>
              <a:path w="0" h="781">
                <a:moveTo>
                  <a:pt x="0" y="78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2055960" y="5992920"/>
            <a:ext cx="5905440" cy="144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055960" y="5057640"/>
            <a:ext cx="5905440" cy="180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055960" y="4129200"/>
            <a:ext cx="5905440" cy="144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055960" y="3200400"/>
            <a:ext cx="5905440" cy="144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055960" y="2271600"/>
            <a:ext cx="5905440" cy="180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055960" y="1343160"/>
            <a:ext cx="5905440" cy="144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055960" y="5992920"/>
            <a:ext cx="5905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 flipV="1">
            <a:off x="2055960" y="1343160"/>
            <a:ext cx="1440" cy="4649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 flipV="1">
            <a:off x="2770200" y="5932440"/>
            <a:ext cx="1440" cy="60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599920" y="6010200"/>
            <a:ext cx="40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2.8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flipV="1">
            <a:off x="3889440" y="5932440"/>
            <a:ext cx="1440" cy="60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681720" y="6010200"/>
            <a:ext cx="49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2.8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 flipV="1">
            <a:off x="5008680" y="5932440"/>
            <a:ext cx="1440" cy="60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4838040" y="6010200"/>
            <a:ext cx="40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2.8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6121440" y="5932440"/>
            <a:ext cx="1440" cy="60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5915520" y="6010200"/>
            <a:ext cx="49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2.83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 flipV="1">
            <a:off x="7240680" y="5932440"/>
            <a:ext cx="1440" cy="60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7070040" y="6010200"/>
            <a:ext cx="40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2.8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055960" y="5992920"/>
            <a:ext cx="52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1524960" y="5945040"/>
            <a:ext cx="40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.9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055960" y="5057640"/>
            <a:ext cx="522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1464120" y="5010120"/>
            <a:ext cx="49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.94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2055960" y="4129200"/>
            <a:ext cx="52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1524960" y="4081320"/>
            <a:ext cx="40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.9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2055960" y="3200400"/>
            <a:ext cx="52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1464120" y="3152880"/>
            <a:ext cx="49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.95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2055960" y="2271600"/>
            <a:ext cx="522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1524960" y="2224080"/>
            <a:ext cx="40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.9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2055960" y="1343160"/>
            <a:ext cx="52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1464120" y="1295280"/>
            <a:ext cx="49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.9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 flipV="1">
            <a:off x="4971960" y="3733920"/>
            <a:ext cx="1657440" cy="554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971960" y="3789360"/>
            <a:ext cx="1768680" cy="6048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6740640" y="384984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 flipV="1">
            <a:off x="4971960" y="3760560"/>
            <a:ext cx="1513080" cy="2844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6485040" y="376092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 flipV="1">
            <a:off x="4971960" y="3652560"/>
            <a:ext cx="1024200" cy="136440"/>
          </a:xfrm>
          <a:prstGeom prst="line">
            <a:avLst/>
          </a:prstGeom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5996160" y="365292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971960" y="3789360"/>
            <a:ext cx="1381320" cy="142920"/>
          </a:xfrm>
          <a:prstGeom prst="line">
            <a:avLst/>
          </a:prstGeom>
          <a:ln w="12600">
            <a:solidFill>
              <a:srgbClr val="ff00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6353280" y="393228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 flipV="1">
            <a:off x="4971960" y="3594240"/>
            <a:ext cx="1405080" cy="19512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377040" y="359424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4971960" y="3789360"/>
            <a:ext cx="57240" cy="477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019840" y="426564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4971960" y="3789360"/>
            <a:ext cx="554040" cy="9478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526000" y="4737240"/>
            <a:ext cx="180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 flipV="1">
            <a:off x="4971960" y="3414240"/>
            <a:ext cx="1774800" cy="37476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746760" y="3408480"/>
            <a:ext cx="1800" cy="6120"/>
          </a:xfrm>
          <a:custGeom>
            <a:avLst/>
            <a:gdLst/>
            <a:ahLst/>
            <a:rect l="l" t="t" r="r" b="b"/>
            <a:pathLst>
              <a:path w="0" h="4">
                <a:moveTo>
                  <a:pt x="0" y="0"/>
                </a:moveTo>
                <a:lnTo>
                  <a:pt x="0" y="4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4597560" y="3789360"/>
            <a:ext cx="374400" cy="57780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4597560" y="4367160"/>
            <a:ext cx="1440" cy="180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4971960" y="3789360"/>
            <a:ext cx="452520" cy="304920"/>
          </a:xfrm>
          <a:prstGeom prst="line">
            <a:avLst/>
          </a:prstGeom>
          <a:ln w="12600">
            <a:solidFill>
              <a:srgbClr val="00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5424480" y="409428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971960" y="3789360"/>
            <a:ext cx="203400" cy="905040"/>
          </a:xfrm>
          <a:prstGeom prst="line">
            <a:avLst/>
          </a:prstGeom>
          <a:ln w="12600">
            <a:solidFill>
              <a:srgbClr val="ff00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5175360" y="469440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 flipH="1">
            <a:off x="4650840" y="3789360"/>
            <a:ext cx="320760" cy="1252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651200" y="3914640"/>
            <a:ext cx="1800" cy="180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 flipH="1">
            <a:off x="4484520" y="3789360"/>
            <a:ext cx="487440" cy="309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4484520" y="4098960"/>
            <a:ext cx="180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 flipH="1">
            <a:off x="4441320" y="3789360"/>
            <a:ext cx="530280" cy="1666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441680" y="3956040"/>
            <a:ext cx="180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 flipH="1">
            <a:off x="4679640" y="3789360"/>
            <a:ext cx="291960" cy="82224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4680000" y="4611600"/>
            <a:ext cx="1440" cy="180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971960" y="3789360"/>
            <a:ext cx="779400" cy="79200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746680" y="4581360"/>
            <a:ext cx="4680" cy="180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4971960" y="3789360"/>
            <a:ext cx="60480" cy="828720"/>
          </a:xfrm>
          <a:prstGeom prst="line">
            <a:avLst/>
          </a:prstGeom>
          <a:ln w="12600">
            <a:solidFill>
              <a:srgbClr val="00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5032440" y="4618080"/>
            <a:ext cx="360" cy="46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4971960" y="3789360"/>
            <a:ext cx="993960" cy="11916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965920" y="390852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flipH="1" flipV="1">
            <a:off x="4304880" y="3492360"/>
            <a:ext cx="655560" cy="231840"/>
          </a:xfrm>
          <a:prstGeom prst="line">
            <a:avLst/>
          </a:prstGeom>
          <a:ln w="0">
            <a:solidFill>
              <a:srgbClr val="ffff00"/>
            </a:solidFill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4305240" y="3486240"/>
            <a:ext cx="360" cy="6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4971960" y="3789360"/>
            <a:ext cx="993960" cy="1839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5965920" y="562932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 flipH="1" flipV="1">
            <a:off x="2079360" y="3159000"/>
            <a:ext cx="2881080" cy="5652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2073240" y="3159000"/>
            <a:ext cx="6480" cy="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4971960" y="3789360"/>
            <a:ext cx="1054080" cy="135720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6026040" y="5146560"/>
            <a:ext cx="6480" cy="3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flipV="1">
            <a:off x="2394000" y="2479320"/>
            <a:ext cx="2566800" cy="124452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2394000" y="247968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>
            <a:off x="4865760" y="3724200"/>
            <a:ext cx="95040" cy="1800"/>
          </a:xfrm>
          <a:prstGeom prst="line">
            <a:avLst/>
          </a:prstGeom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4865760" y="3724200"/>
            <a:ext cx="1440" cy="180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 flipH="1" flipV="1">
            <a:off x="4322880" y="3105000"/>
            <a:ext cx="637920" cy="619200"/>
          </a:xfrm>
          <a:prstGeom prst="line">
            <a:avLst/>
          </a:prstGeom>
          <a:ln w="12600">
            <a:solidFill>
              <a:srgbClr val="ff00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4322880" y="3098880"/>
            <a:ext cx="360" cy="612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4465440" y="2050920"/>
            <a:ext cx="495000" cy="167328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4465800" y="2046240"/>
            <a:ext cx="360" cy="4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 flipH="1" flipV="1">
            <a:off x="4870080" y="3503160"/>
            <a:ext cx="90360" cy="220680"/>
          </a:xfrm>
          <a:prstGeom prst="line">
            <a:avLst/>
          </a:prstGeom>
          <a:ln w="0">
            <a:solidFill>
              <a:srgbClr val="000000"/>
            </a:solidFill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4870440" y="3498840"/>
            <a:ext cx="1440" cy="468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0"/>
                </a:moveTo>
                <a:lnTo>
                  <a:pt x="0" y="0"/>
                </a:lnTo>
                <a:lnTo>
                  <a:pt x="0" y="3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V="1">
            <a:off x="4971960" y="3682800"/>
            <a:ext cx="893880" cy="106200"/>
          </a:xfrm>
          <a:prstGeom prst="line">
            <a:avLst/>
          </a:prstGeom>
          <a:ln w="0">
            <a:solidFill>
              <a:srgbClr val="ff0000"/>
            </a:solidFill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5865840" y="368316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4595040" y="1143000"/>
            <a:ext cx="857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tP Link M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4383720" y="6264360"/>
            <a:ext cx="1378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ngitude (degre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 rot="16200000">
            <a:off x="707040" y="3493440"/>
            <a:ext cx="1238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atitude (degre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"/>
          <p:cNvSpPr/>
          <p:nvPr/>
        </p:nvSpPr>
        <p:spPr>
          <a:xfrm>
            <a:off x="1352880" y="6176880"/>
            <a:ext cx="8344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28-Oct-2001  12:18 J.Rozmary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1879560" y="1055520"/>
            <a:ext cx="6676920" cy="481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1879560" y="1055520"/>
            <a:ext cx="6676920" cy="481032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1841400" y="1055520"/>
            <a:ext cx="1800" cy="481032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712960" y="1055520"/>
            <a:ext cx="1800" cy="481032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3544920" y="1055520"/>
            <a:ext cx="1440" cy="481032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4378320" y="1055520"/>
            <a:ext cx="1440" cy="481032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5218200" y="1055520"/>
            <a:ext cx="1440" cy="481032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6051600" y="1055520"/>
            <a:ext cx="1440" cy="481032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6883560" y="1055520"/>
            <a:ext cx="1440" cy="481032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7716960" y="1055520"/>
            <a:ext cx="1440" cy="481032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8556480" y="1055520"/>
            <a:ext cx="1800" cy="481032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1879560" y="5865840"/>
            <a:ext cx="667692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1879560" y="5378400"/>
            <a:ext cx="667692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879560" y="4898880"/>
            <a:ext cx="667692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1879560" y="4419720"/>
            <a:ext cx="667692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879560" y="3940200"/>
            <a:ext cx="667692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1879560" y="3460680"/>
            <a:ext cx="667692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1879560" y="2973240"/>
            <a:ext cx="667692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1879560" y="2494080"/>
            <a:ext cx="667692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1879560" y="2014560"/>
            <a:ext cx="667692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1879560" y="1535040"/>
            <a:ext cx="667692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1879560" y="1055520"/>
            <a:ext cx="667692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1879560" y="1055520"/>
            <a:ext cx="6676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1879560" y="1055520"/>
            <a:ext cx="6676920" cy="4810320"/>
          </a:xfrm>
          <a:custGeom>
            <a:avLst/>
            <a:gdLst/>
            <a:ahLst/>
            <a:rect l="l" t="t" r="r" b="b"/>
            <a:pathLst>
              <a:path w="794" h="572">
                <a:moveTo>
                  <a:pt x="0" y="572"/>
                </a:moveTo>
                <a:lnTo>
                  <a:pt x="794" y="572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 flipV="1">
            <a:off x="1841400" y="1055520"/>
            <a:ext cx="1800" cy="4810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1879560" y="5865840"/>
            <a:ext cx="6676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 flipV="1">
            <a:off x="1841400" y="1055520"/>
            <a:ext cx="1800" cy="4810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 flipV="1">
            <a:off x="1765440" y="5798880"/>
            <a:ext cx="144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1765440" y="1055520"/>
            <a:ext cx="1440" cy="59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1869480" y="589104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 flipV="1">
            <a:off x="2712960" y="5798880"/>
            <a:ext cx="180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2712960" y="1055520"/>
            <a:ext cx="1800" cy="59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656080" y="589104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 flipV="1">
            <a:off x="3544920" y="5798880"/>
            <a:ext cx="144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3544920" y="1055520"/>
            <a:ext cx="1440" cy="59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3488040" y="589104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 flipV="1">
            <a:off x="4378320" y="5798880"/>
            <a:ext cx="144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4378320" y="1055520"/>
            <a:ext cx="1440" cy="59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4321440" y="589104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 flipV="1">
            <a:off x="5218200" y="5798880"/>
            <a:ext cx="144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5218200" y="1055520"/>
            <a:ext cx="1440" cy="59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5160960" y="589104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 flipV="1">
            <a:off x="6051600" y="5798880"/>
            <a:ext cx="144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6051600" y="1055520"/>
            <a:ext cx="1440" cy="59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5994720" y="589104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 flipV="1">
            <a:off x="6883560" y="5798880"/>
            <a:ext cx="144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6883560" y="1055520"/>
            <a:ext cx="1440" cy="59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6826320" y="589104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 flipV="1">
            <a:off x="7716960" y="5798880"/>
            <a:ext cx="144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7716960" y="1055520"/>
            <a:ext cx="1440" cy="59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7658280" y="589104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 flipV="1">
            <a:off x="8556480" y="5798880"/>
            <a:ext cx="180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8556480" y="1055520"/>
            <a:ext cx="1800" cy="59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8499600" y="589104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1765440" y="5865840"/>
            <a:ext cx="60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 flipH="1">
            <a:off x="8489520" y="5865840"/>
            <a:ext cx="66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1616400" y="579924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1765440" y="5378400"/>
            <a:ext cx="60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 flipH="1">
            <a:off x="8489520" y="5378400"/>
            <a:ext cx="66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616400" y="531036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1765440" y="4898880"/>
            <a:ext cx="60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 flipH="1">
            <a:off x="8489520" y="4898880"/>
            <a:ext cx="66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1616400" y="483084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1765440" y="4419720"/>
            <a:ext cx="60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 flipH="1">
            <a:off x="8489520" y="4419720"/>
            <a:ext cx="66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1616400" y="435132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1765440" y="3940200"/>
            <a:ext cx="60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 flipH="1">
            <a:off x="8489520" y="3940200"/>
            <a:ext cx="66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1616400" y="387360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1765440" y="3460680"/>
            <a:ext cx="60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 flipH="1">
            <a:off x="8489520" y="3460680"/>
            <a:ext cx="66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1616400" y="339408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1765440" y="2973240"/>
            <a:ext cx="60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 flipH="1">
            <a:off x="8489520" y="2973240"/>
            <a:ext cx="66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1616400" y="290520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1765440" y="2494080"/>
            <a:ext cx="60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 flipH="1">
            <a:off x="8489520" y="2494080"/>
            <a:ext cx="66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1616400" y="242568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1765440" y="2014560"/>
            <a:ext cx="60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 flipH="1">
            <a:off x="8489520" y="2014560"/>
            <a:ext cx="66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1616400" y="194616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1765440" y="1535040"/>
            <a:ext cx="60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 flipH="1">
            <a:off x="8489520" y="1535040"/>
            <a:ext cx="66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1616400" y="146700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1765440" y="1055520"/>
            <a:ext cx="60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flipH="1">
            <a:off x="8489520" y="1055520"/>
            <a:ext cx="66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616400" y="98748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1879560" y="1055520"/>
            <a:ext cx="6676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1879560" y="1055520"/>
            <a:ext cx="6676920" cy="4810320"/>
          </a:xfrm>
          <a:custGeom>
            <a:avLst/>
            <a:gdLst/>
            <a:ahLst/>
            <a:rect l="l" t="t" r="r" b="b"/>
            <a:pathLst>
              <a:path w="794" h="572">
                <a:moveTo>
                  <a:pt x="0" y="572"/>
                </a:moveTo>
                <a:lnTo>
                  <a:pt x="794" y="572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 flipV="1">
            <a:off x="1841400" y="1055520"/>
            <a:ext cx="1800" cy="4810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1955880" y="1290600"/>
            <a:ext cx="6516720" cy="4340160"/>
          </a:xfrm>
          <a:custGeom>
            <a:avLst/>
            <a:gdLst/>
            <a:ahLst/>
            <a:rect l="l" t="t" r="r" b="b"/>
            <a:pathLst>
              <a:path w="4105" h="2734">
                <a:moveTo>
                  <a:pt x="0" y="2734"/>
                </a:moveTo>
                <a:lnTo>
                  <a:pt x="53" y="2734"/>
                </a:lnTo>
                <a:lnTo>
                  <a:pt x="106" y="2734"/>
                </a:lnTo>
                <a:lnTo>
                  <a:pt x="159" y="2734"/>
                </a:lnTo>
                <a:lnTo>
                  <a:pt x="212" y="959"/>
                </a:lnTo>
                <a:lnTo>
                  <a:pt x="265" y="959"/>
                </a:lnTo>
                <a:lnTo>
                  <a:pt x="318" y="959"/>
                </a:lnTo>
                <a:lnTo>
                  <a:pt x="371" y="959"/>
                </a:lnTo>
                <a:lnTo>
                  <a:pt x="424" y="959"/>
                </a:lnTo>
                <a:lnTo>
                  <a:pt x="477" y="959"/>
                </a:lnTo>
                <a:lnTo>
                  <a:pt x="530" y="959"/>
                </a:lnTo>
                <a:lnTo>
                  <a:pt x="583" y="959"/>
                </a:lnTo>
                <a:lnTo>
                  <a:pt x="636" y="959"/>
                </a:lnTo>
                <a:lnTo>
                  <a:pt x="683" y="959"/>
                </a:lnTo>
                <a:lnTo>
                  <a:pt x="736" y="959"/>
                </a:lnTo>
                <a:lnTo>
                  <a:pt x="789" y="959"/>
                </a:lnTo>
                <a:lnTo>
                  <a:pt x="842" y="959"/>
                </a:lnTo>
                <a:lnTo>
                  <a:pt x="895" y="959"/>
                </a:lnTo>
                <a:lnTo>
                  <a:pt x="948" y="959"/>
                </a:lnTo>
                <a:lnTo>
                  <a:pt x="1001" y="959"/>
                </a:lnTo>
                <a:lnTo>
                  <a:pt x="1054" y="959"/>
                </a:lnTo>
                <a:lnTo>
                  <a:pt x="1107" y="959"/>
                </a:lnTo>
                <a:lnTo>
                  <a:pt x="1160" y="959"/>
                </a:lnTo>
                <a:lnTo>
                  <a:pt x="1213" y="959"/>
                </a:lnTo>
                <a:lnTo>
                  <a:pt x="1266" y="959"/>
                </a:lnTo>
                <a:lnTo>
                  <a:pt x="1319" y="959"/>
                </a:lnTo>
                <a:lnTo>
                  <a:pt x="1367" y="959"/>
                </a:lnTo>
                <a:lnTo>
                  <a:pt x="1420" y="959"/>
                </a:lnTo>
                <a:lnTo>
                  <a:pt x="1473" y="959"/>
                </a:lnTo>
                <a:lnTo>
                  <a:pt x="1526" y="366"/>
                </a:lnTo>
                <a:lnTo>
                  <a:pt x="1579" y="366"/>
                </a:lnTo>
                <a:lnTo>
                  <a:pt x="1632" y="366"/>
                </a:lnTo>
                <a:lnTo>
                  <a:pt x="1685" y="366"/>
                </a:lnTo>
                <a:lnTo>
                  <a:pt x="1738" y="366"/>
                </a:lnTo>
                <a:lnTo>
                  <a:pt x="1791" y="366"/>
                </a:lnTo>
                <a:lnTo>
                  <a:pt x="1843" y="366"/>
                </a:lnTo>
                <a:lnTo>
                  <a:pt x="1896" y="366"/>
                </a:lnTo>
                <a:lnTo>
                  <a:pt x="1949" y="366"/>
                </a:lnTo>
                <a:lnTo>
                  <a:pt x="2002" y="366"/>
                </a:lnTo>
                <a:lnTo>
                  <a:pt x="2055" y="366"/>
                </a:lnTo>
                <a:lnTo>
                  <a:pt x="2103" y="366"/>
                </a:lnTo>
                <a:lnTo>
                  <a:pt x="2156" y="122"/>
                </a:lnTo>
                <a:lnTo>
                  <a:pt x="2209" y="122"/>
                </a:lnTo>
                <a:lnTo>
                  <a:pt x="2262" y="122"/>
                </a:lnTo>
                <a:lnTo>
                  <a:pt x="2315" y="122"/>
                </a:lnTo>
                <a:lnTo>
                  <a:pt x="2368" y="0"/>
                </a:lnTo>
                <a:lnTo>
                  <a:pt x="2421" y="0"/>
                </a:lnTo>
                <a:lnTo>
                  <a:pt x="2474" y="0"/>
                </a:lnTo>
                <a:lnTo>
                  <a:pt x="2527" y="0"/>
                </a:lnTo>
                <a:lnTo>
                  <a:pt x="2580" y="0"/>
                </a:lnTo>
                <a:lnTo>
                  <a:pt x="2633" y="0"/>
                </a:lnTo>
                <a:lnTo>
                  <a:pt x="2686" y="0"/>
                </a:lnTo>
                <a:lnTo>
                  <a:pt x="2739" y="0"/>
                </a:lnTo>
                <a:lnTo>
                  <a:pt x="2786" y="0"/>
                </a:lnTo>
                <a:lnTo>
                  <a:pt x="2839" y="0"/>
                </a:lnTo>
                <a:lnTo>
                  <a:pt x="2892" y="0"/>
                </a:lnTo>
                <a:lnTo>
                  <a:pt x="2945" y="0"/>
                </a:lnTo>
                <a:lnTo>
                  <a:pt x="2998" y="0"/>
                </a:lnTo>
                <a:lnTo>
                  <a:pt x="3051" y="0"/>
                </a:lnTo>
                <a:lnTo>
                  <a:pt x="3104" y="0"/>
                </a:lnTo>
                <a:lnTo>
                  <a:pt x="3157" y="0"/>
                </a:lnTo>
                <a:lnTo>
                  <a:pt x="3210" y="0"/>
                </a:lnTo>
                <a:lnTo>
                  <a:pt x="3263" y="0"/>
                </a:lnTo>
                <a:lnTo>
                  <a:pt x="3316" y="0"/>
                </a:lnTo>
                <a:lnTo>
                  <a:pt x="3369" y="0"/>
                </a:lnTo>
                <a:lnTo>
                  <a:pt x="3422" y="0"/>
                </a:lnTo>
                <a:lnTo>
                  <a:pt x="3470" y="0"/>
                </a:lnTo>
                <a:lnTo>
                  <a:pt x="3523" y="0"/>
                </a:lnTo>
                <a:lnTo>
                  <a:pt x="3576" y="0"/>
                </a:lnTo>
                <a:lnTo>
                  <a:pt x="3629" y="0"/>
                </a:lnTo>
                <a:lnTo>
                  <a:pt x="3681" y="0"/>
                </a:lnTo>
                <a:lnTo>
                  <a:pt x="3734" y="0"/>
                </a:lnTo>
                <a:lnTo>
                  <a:pt x="3787" y="0"/>
                </a:lnTo>
                <a:lnTo>
                  <a:pt x="3840" y="0"/>
                </a:lnTo>
                <a:lnTo>
                  <a:pt x="3893" y="0"/>
                </a:lnTo>
                <a:lnTo>
                  <a:pt x="3946" y="0"/>
                </a:lnTo>
                <a:lnTo>
                  <a:pt x="3999" y="0"/>
                </a:lnTo>
                <a:lnTo>
                  <a:pt x="4052" y="0"/>
                </a:lnTo>
                <a:lnTo>
                  <a:pt x="4105" y="0"/>
                </a:lnTo>
              </a:path>
            </a:pathLst>
          </a:custGeom>
          <a:noFill/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285440" y="6033960"/>
            <a:ext cx="1992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umber of Links Process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rot="16200000">
            <a:off x="1308240" y="3323160"/>
            <a:ext cx="482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/I d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2434680" y="303840"/>
            <a:ext cx="44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imulated Annealing Converg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4381560" y="1066680"/>
            <a:ext cx="0" cy="4800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6896160" y="1066680"/>
            <a:ext cx="0" cy="4800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2346480" y="5104080"/>
            <a:ext cx="9518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5264280" y="5104080"/>
            <a:ext cx="9518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7473960" y="5104080"/>
            <a:ext cx="9518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"/>
          <p:cNvSpPr/>
          <p:nvPr/>
        </p:nvSpPr>
        <p:spPr>
          <a:xfrm>
            <a:off x="1508400" y="6135840"/>
            <a:ext cx="8344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28-Oct-2001  12:42 J.Rozmary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1508400" y="6135840"/>
            <a:ext cx="8344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28-Oct-2001  12:46 J.Rozmary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1508400" y="6135840"/>
            <a:ext cx="8344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28-Oct-2001  12:48 J.Rozmary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1508400" y="6135840"/>
            <a:ext cx="8344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28-Oct-2001  12:49 J.Rozmary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2116080" y="1332000"/>
            <a:ext cx="6262920" cy="4511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2116080" y="1332000"/>
            <a:ext cx="6262920" cy="451152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2090880" y="1332000"/>
            <a:ext cx="1440" cy="451152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5246640" y="1332000"/>
            <a:ext cx="1800" cy="451152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8379000" y="1332000"/>
            <a:ext cx="1440" cy="451152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2116080" y="5843520"/>
            <a:ext cx="626292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2116080" y="5197320"/>
            <a:ext cx="626292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2116080" y="4551480"/>
            <a:ext cx="626292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2116080" y="3903840"/>
            <a:ext cx="626292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2116080" y="3265560"/>
            <a:ext cx="626292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2116080" y="2617920"/>
            <a:ext cx="626292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2116080" y="1971720"/>
            <a:ext cx="626292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2116080" y="1332000"/>
            <a:ext cx="626292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2116080" y="1332000"/>
            <a:ext cx="6262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2116080" y="5843520"/>
            <a:ext cx="6262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 flipV="1">
            <a:off x="8379000" y="1332000"/>
            <a:ext cx="1440" cy="4511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 flipV="1">
            <a:off x="2090880" y="1332000"/>
            <a:ext cx="1440" cy="4511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2116080" y="5843520"/>
            <a:ext cx="6262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 flipV="1">
            <a:off x="2090880" y="1332000"/>
            <a:ext cx="1440" cy="4511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 flipV="1">
            <a:off x="2014560" y="5781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2014560" y="133200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2102760" y="586728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flipV="1">
            <a:off x="5246640" y="5781600"/>
            <a:ext cx="180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5246640" y="1332000"/>
            <a:ext cx="180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5234760" y="586728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 flipV="1">
            <a:off x="8379000" y="5781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8379000" y="133200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8365320" y="586728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2116080" y="5843520"/>
            <a:ext cx="55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 flipH="1">
            <a:off x="8314920" y="5843520"/>
            <a:ext cx="63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1937520" y="578160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2116080" y="5197320"/>
            <a:ext cx="55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 flipH="1">
            <a:off x="8314920" y="5197320"/>
            <a:ext cx="63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1866960" y="513396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2116080" y="4551480"/>
            <a:ext cx="55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 flipH="1">
            <a:off x="8314920" y="4551480"/>
            <a:ext cx="63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1866960" y="448776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2116080" y="3903840"/>
            <a:ext cx="55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 flipH="1">
            <a:off x="8314920" y="3903840"/>
            <a:ext cx="63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1866960" y="384012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2116080" y="3265560"/>
            <a:ext cx="55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 flipH="1">
            <a:off x="8314920" y="3265560"/>
            <a:ext cx="63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1866960" y="320184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2116080" y="2617920"/>
            <a:ext cx="55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 flipH="1">
            <a:off x="8314920" y="2617920"/>
            <a:ext cx="63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1866960" y="255600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2116080" y="1971720"/>
            <a:ext cx="55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 flipH="1">
            <a:off x="8314920" y="1971720"/>
            <a:ext cx="63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1866960" y="190800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2116080" y="1332000"/>
            <a:ext cx="55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 flipH="1">
            <a:off x="8314920" y="1332000"/>
            <a:ext cx="63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1866960" y="127008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2116080" y="1332000"/>
            <a:ext cx="6262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2116080" y="5843520"/>
            <a:ext cx="6262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 flipV="1">
            <a:off x="8379000" y="1332000"/>
            <a:ext cx="1440" cy="4511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 flipV="1">
            <a:off x="2090880" y="1332000"/>
            <a:ext cx="1440" cy="4511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2116080" y="1844640"/>
            <a:ext cx="6262920" cy="3621240"/>
          </a:xfrm>
          <a:custGeom>
            <a:avLst/>
            <a:gdLst/>
            <a:ahLst/>
            <a:rect l="l" t="t" r="r" b="b"/>
            <a:pathLst>
              <a:path w="3945" h="2281">
                <a:moveTo>
                  <a:pt x="0" y="2281"/>
                </a:moveTo>
                <a:lnTo>
                  <a:pt x="1972" y="1665"/>
                </a:lnTo>
                <a:lnTo>
                  <a:pt x="3945" y="0"/>
                </a:lnTo>
              </a:path>
            </a:pathLst>
          </a:custGeom>
          <a:noFill/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3634560" y="1143000"/>
            <a:ext cx="29833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imulated Annealing as a Function of Number of Available Frequenci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4120560" y="6002280"/>
            <a:ext cx="2430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umber of Available Frequenc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 rot="16200000">
            <a:off x="904680" y="3414240"/>
            <a:ext cx="156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gnal-to-Noise Rat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1892160" y="150840"/>
            <a:ext cx="503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ulated Annealing Performance 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Function of of Available Frequ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1447560" y="1519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nclusions</a:t>
            </a: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7239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Available Spectrum Is at a Prem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n Optimized Frequency Plan Improves the Overall Network Perform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hile Minimizing Frequency Channel Util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ll Splitting Outperforms Frequency Doubling for Network Expan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 Optimizes Frequency Pla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hen Hub Placements Are Not Reg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hen There Is a Significant 3-D Compon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an Be Utilized for Both Point-Multipoint and Point-to-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requency Reuse</a:t>
            </a: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imited by Reuse Cochannel and Adjacent Channel Interfere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channel Interference Dominated By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ub and Subscriber Antenna Patter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euse Di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djacent Channel Interference Dominated By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ub and Subscriber Antenna Patter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ransmission Adjacent Channel Power Rat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371600" y="609480"/>
            <a:ext cx="724680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219320" y="457200"/>
            <a:ext cx="7570800" cy="590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835280" y="762120"/>
            <a:ext cx="7308720" cy="58672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1623960" y="1268280"/>
            <a:ext cx="4729320" cy="36306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1447920" y="1019160"/>
            <a:ext cx="719136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828800" y="5486400"/>
            <a:ext cx="152280" cy="1522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828800" y="4267080"/>
            <a:ext cx="152280" cy="152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828800" y="3124080"/>
            <a:ext cx="152280" cy="152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05120" y="1905120"/>
            <a:ext cx="152280" cy="1522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5486400"/>
            <a:ext cx="152280" cy="1522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505320" y="4267080"/>
            <a:ext cx="152280" cy="152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505320" y="3124080"/>
            <a:ext cx="152280" cy="152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505320" y="1905120"/>
            <a:ext cx="152280" cy="1522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181480" y="5486400"/>
            <a:ext cx="152640" cy="1522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181480" y="4267080"/>
            <a:ext cx="152640" cy="152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81480" y="3124080"/>
            <a:ext cx="152640" cy="152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181480" y="1905120"/>
            <a:ext cx="152640" cy="1522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781680" y="5486400"/>
            <a:ext cx="152640" cy="1522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781680" y="4267080"/>
            <a:ext cx="152640" cy="152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58000" y="3048120"/>
            <a:ext cx="152280" cy="1522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58000" y="1905120"/>
            <a:ext cx="152280" cy="1522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1219320" y="1295280"/>
            <a:ext cx="7162560" cy="48974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7848720" y="1295280"/>
            <a:ext cx="1190520" cy="11764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PmP Simulation 90º Sector, 4 Channel 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495480" y="5943600"/>
            <a:ext cx="1358640" cy="820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/I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qpsk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=12 d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/I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6q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=19 d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/I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64q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=25.5 d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819520" y="2133720"/>
            <a:ext cx="75960" cy="7596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222800" y="2133720"/>
            <a:ext cx="76320" cy="7596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638680" y="2133720"/>
            <a:ext cx="76320" cy="7596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034040" y="2133720"/>
            <a:ext cx="76320" cy="7596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819520" y="3124080"/>
            <a:ext cx="75960" cy="763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222800" y="3124080"/>
            <a:ext cx="76320" cy="763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638680" y="3124080"/>
            <a:ext cx="76320" cy="763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034040" y="3124080"/>
            <a:ext cx="76320" cy="763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819520" y="4191120"/>
            <a:ext cx="75960" cy="7596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222800" y="4191120"/>
            <a:ext cx="76320" cy="7596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638680" y="4191120"/>
            <a:ext cx="76320" cy="7596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034040" y="4191120"/>
            <a:ext cx="76320" cy="7596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5181480"/>
            <a:ext cx="75960" cy="763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222800" y="5181480"/>
            <a:ext cx="76320" cy="763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5181480"/>
            <a:ext cx="76320" cy="763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034040" y="5181480"/>
            <a:ext cx="76320" cy="763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523880" y="380880"/>
            <a:ext cx="6934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PMP Simulation 90º Sector, 4 Channel C/I Hist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295280" y="1219320"/>
            <a:ext cx="7162920" cy="48974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6126480" y="4724280"/>
            <a:ext cx="1692720" cy="1029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qps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12 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6qa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19 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64qa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25.5 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05T15:33:46Z</dcterms:created>
  <dc:creator>jrozmaryn</dc:creator>
  <dc:description/>
  <dc:language>en-US</dc:language>
  <cp:lastModifiedBy>jrozmaryn</cp:lastModifiedBy>
  <cp:lastPrinted>2002-02-07T22:44:06Z</cp:lastPrinted>
  <dcterms:modified xsi:type="dcterms:W3CDTF">2002-02-07T22:44:14Z</dcterms:modified>
  <cp:revision>110</cp:revision>
  <dc:subject/>
  <dc:title>No Slide Title</dc:title>
</cp:coreProperties>
</file>