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E4D75-5B12-4B1D-B727-2CAEFE767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539A-564F-484D-9BF4-22A509AF0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9E3C-BD04-40AE-835C-51DFD3277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A4A3-32FE-4D28-8C27-367092EAF2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40FA-A700-4996-9B03-EA84718D3A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AA80-BAEE-4A1F-AFB7-EFD5EEDA3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DBD5-AE50-47F4-B0F2-8A010881C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D788-0E1D-40D7-BBC5-E5D462B4B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64767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BBD8-3C3D-47E7-A017-73FDCDE2B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CA83-2B8A-48BD-9DCC-DA44E7809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4695-F8F4-40AA-8A05-8FD48F654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A142-9DF2-4DB1-840D-D36EC9457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4AB6-976D-4C95-B40A-AAE559D63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39116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Myth of the Ubiquitous $0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door Install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Malik Audeh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 of Wireless Syste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ik.audeh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13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5486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eps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equaliza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-domain equal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 recovery from inevitable deep f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odulation and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f RF and modem at C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eceive diversity when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y not necessary in al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A3B1-F25F-41B1-85B0-8507B5AB8E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638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rther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installation where link budget al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e to standards-based IEEE 802.16a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gorous IEEE process, no single-vendor architectural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baseband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volume RF chipset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2E5A-E292-411E-B26E-A86DE9CB0E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service tiers improve operator RO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 to serve ITFS licensees for more efficient spectrum 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lled user         no streaming, no mult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5603760"/>
            <a:ext cx="6094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6847-F7E7-44D7-825B-F064887D89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5715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G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ally Delayed 3G services are arriving with data as an add-on to v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-speed, streaming data may have unknown effects to voice-based protoco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DMA self-interference may have unknown effect on sca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off processing gain (robustness) for cap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2DB3-F96D-46C4-A322-9BEC02BCC7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867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ison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905120"/>
          <a:ext cx="87184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905120"/>
                    <a:ext cx="87184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60AE-9A29-447D-BE17-205E948DDA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5791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s’ goals are 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, economical deployment strategy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mplete system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the learning curve of unproven technologies that have not even been depl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loy a second-generation system that is founded on a reliable, scalable, globally deployed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increases probability of su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4907-3216-4893-89B9-674A36F67C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120" y="914040"/>
            <a:ext cx="5459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o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 demand complete and econom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to me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BB96-58EC-4BDF-91D3-268378D333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73915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ustry Requirements for Grow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inst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S, 90% cove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cost CPE ($50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stalled c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B516-FE46-40D5-B154-9C0835D55C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543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f-Install is a System-Wide Iss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oice of $0 install affects virtually every architectural system dec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bu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ha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in Load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008D-2DB9-4AD4-BF61-559155854A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64767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0 Install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ossible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mforming, complex phased array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ced D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modul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MO, multi-user de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$0 install is technically possible, but is only relevant if the product can be economically deployed to consumers and businesses on a timely basis to maximize market penet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A1AC-7C8D-4D36-B6AA-FE60B1B499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our Industry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OFD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yCDM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antenna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product fits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588FC-2C78-40CB-828A-D6D34EAFF6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6248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loyment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of DSL and cable modem method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+ years beh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structure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wed build-as-you-grow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entir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-as-you-grow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93BB-95EE-48D5-B6C8-E66B875FF9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5486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wt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965240"/>
            <a:ext cx="3610080" cy="3535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94640" y="3666960"/>
            <a:ext cx="60120" cy="590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010280" y="2687760"/>
            <a:ext cx="687600" cy="687240"/>
            <a:chOff x="7010280" y="2687760"/>
            <a:chExt cx="687600" cy="687240"/>
          </a:xfrm>
        </p:grpSpPr>
        <p:sp>
          <p:nvSpPr>
            <p:cNvPr id="58" name=""/>
            <p:cNvSpPr/>
            <p:nvPr/>
          </p:nvSpPr>
          <p:spPr>
            <a:xfrm>
              <a:off x="7010280" y="2687760"/>
              <a:ext cx="68760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6520" y="302724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483320" y="2309760"/>
            <a:ext cx="687600" cy="687600"/>
            <a:chOff x="7483320" y="2309760"/>
            <a:chExt cx="687600" cy="687600"/>
          </a:xfrm>
        </p:grpSpPr>
        <p:sp>
          <p:nvSpPr>
            <p:cNvPr id="61" name=""/>
            <p:cNvSpPr/>
            <p:nvPr/>
          </p:nvSpPr>
          <p:spPr>
            <a:xfrm>
              <a:off x="7483320" y="230976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19560" y="26496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389560" y="3195720"/>
            <a:ext cx="687240" cy="687240"/>
            <a:chOff x="5389560" y="3195720"/>
            <a:chExt cx="687240" cy="687240"/>
          </a:xfrm>
        </p:grpSpPr>
        <p:sp>
          <p:nvSpPr>
            <p:cNvPr id="64" name=""/>
            <p:cNvSpPr/>
            <p:nvPr/>
          </p:nvSpPr>
          <p:spPr>
            <a:xfrm>
              <a:off x="5389560" y="319572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25800" y="353520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800760" y="4444920"/>
            <a:ext cx="687600" cy="687600"/>
            <a:chOff x="6800760" y="4444920"/>
            <a:chExt cx="687600" cy="687600"/>
          </a:xfrm>
        </p:grpSpPr>
        <p:sp>
          <p:nvSpPr>
            <p:cNvPr id="67" name=""/>
            <p:cNvSpPr/>
            <p:nvPr/>
          </p:nvSpPr>
          <p:spPr>
            <a:xfrm>
              <a:off x="6800760" y="4444920"/>
              <a:ext cx="68760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37000" y="47847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593120" y="2922480"/>
            <a:ext cx="687240" cy="687600"/>
            <a:chOff x="7593120" y="2922480"/>
            <a:chExt cx="687240" cy="687600"/>
          </a:xfrm>
        </p:grpSpPr>
        <p:sp>
          <p:nvSpPr>
            <p:cNvPr id="70" name=""/>
            <p:cNvSpPr/>
            <p:nvPr/>
          </p:nvSpPr>
          <p:spPr>
            <a:xfrm>
              <a:off x="7593120" y="2922480"/>
              <a:ext cx="687240" cy="687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9360" y="326232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156360" y="4457880"/>
            <a:ext cx="687240" cy="687240"/>
            <a:chOff x="6156360" y="4457880"/>
            <a:chExt cx="687240" cy="687240"/>
          </a:xfrm>
        </p:grpSpPr>
        <p:sp>
          <p:nvSpPr>
            <p:cNvPr id="73" name=""/>
            <p:cNvSpPr/>
            <p:nvPr/>
          </p:nvSpPr>
          <p:spPr>
            <a:xfrm>
              <a:off x="6156360" y="4457880"/>
              <a:ext cx="687240" cy="68724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492600" y="4797360"/>
              <a:ext cx="11160" cy="111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2468520"/>
            <a:ext cx="1295640" cy="1295640"/>
            <a:chOff x="2438280" y="2468520"/>
            <a:chExt cx="1295640" cy="1295640"/>
          </a:xfrm>
        </p:grpSpPr>
        <p:sp>
          <p:nvSpPr>
            <p:cNvPr id="76" name=""/>
            <p:cNvSpPr/>
            <p:nvPr/>
          </p:nvSpPr>
          <p:spPr>
            <a:xfrm>
              <a:off x="340812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812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0812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812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6548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6548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6548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2320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2320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92320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2320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80560" y="26298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0560" y="295236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80560" y="32749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38280" y="246852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38280" y="279108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c9e3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8280" y="311364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ee892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3436200"/>
              <a:ext cx="325800" cy="322560"/>
            </a:xfrm>
            <a:prstGeom prst="hexagon">
              <a:avLst>
                <a:gd name="adj" fmla="val 25251"/>
                <a:gd name="vf" fmla="val 11547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7be3c9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20320" y="3104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3320" y="26204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6836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5360" y="342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83800" y="3264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8380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25360" y="278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8360" y="2942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87400" y="5773680"/>
            <a:ext cx="3181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 to Market, Limited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935000"/>
            <a:ext cx="3610080" cy="3535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97080" y="5773680"/>
            <a:ext cx="401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Layer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 Market Coverage, Hotspot follow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4B5D-AF26-4EFC-8C6D-DCE858632C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69339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ing Ahead from a Solid 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0,000 CPE proven on one base station, over 2,000 CPE proven on a single 6-MHz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PEs deployed 1-35 miles from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high throughput under l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n disaster recove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function despite interference and human err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150,000 lines of continually enhanced field-hardened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d architecture for stronger secu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monstrated support of multiple backhaul options (many TDMA protocols preclude RF backhau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A83F8-D488-48B0-A18F-42C605DDEF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0T16:26:27Z</dcterms:created>
  <dc:creator>audeh</dc:creator>
  <dc:description/>
  <dc:language>en-US</dc:language>
  <cp:lastModifiedBy>Karen Crain</cp:lastModifiedBy>
  <cp:lastPrinted>2002-02-08T19:22:59Z</cp:lastPrinted>
  <dcterms:modified xsi:type="dcterms:W3CDTF">2002-02-10T20:28:58Z</dcterms:modified>
  <cp:revision>46</cp:revision>
  <dc:subject/>
  <dc:title>What does the industry need?</dc:title>
</cp:coreProperties>
</file>