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7C36-DE9A-4324-B8C5-7F177F1E9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50E9-CCD8-4006-B03C-C3B227C3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733A-41CE-4463-8595-3D3F08068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D951-F552-443D-A9B0-DF8D6168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4C74-A322-4EBC-A1EE-623634A0D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8963-8AF4-4ACA-8B17-224C13A9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9669-70DA-490F-8F54-4299DD92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9C1C-EDA1-4085-94F2-A2B22C3F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0A6E-F976-4D8C-9B70-E4258201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2DBF-03D4-48F3-886D-66091566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E36C-6931-4C97-9FDA-0739182D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552E-A4F1-45FE-91A3-891C8A5B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787E-E888-4878-AFA0-F5A888A3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4431-5413-408A-B223-0C1C0BBE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2DFE-D65D-4237-A952-DF2CB206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FD30-7BFE-4F9C-9705-3C8B268F8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6D88-B645-476E-B2EC-90708F9D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44F1-DBBD-412B-9A4C-BB9F331C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3E10-5AAA-44F2-AD9A-79A0BA0D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D9D9-97E9-4EC4-B94D-93D569D3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2A1C-47D7-4458-9F41-B5DF7B79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E4FC-C1B1-4AC3-8D2F-F48A6731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9253-09C3-461C-AC23-8603BA68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04CE-3C6B-4354-A46D-C8847A5B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735A-0042-40C1-9FC9-CBFFE3BDAAAF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522E-B2C2-40E3-B31A-0BB15A80546A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Prime Companies Inc.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Broadband Wireless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        World  Forum 2002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38095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February 12-14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Anaheim, California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26668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791320" y="2743200"/>
            <a:ext cx="2727360" cy="3278160"/>
            <a:chOff x="5791320" y="2743200"/>
            <a:chExt cx="2727360" cy="327816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791320" y="2743200"/>
              <a:ext cx="2727360" cy="32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5791320" y="2743200"/>
              <a:ext cx="2727360" cy="327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6699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000D-E0F4-4312-B362-010479023D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lect manufacturer and proper equip’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hroughput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echnolog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is the growth potential?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umber of customers per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ub/per sector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services can be provided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ow and later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Focus on equipment pricing-most   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articularly CPE pricing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E5EB-7F40-42A1-9763-567C6301DA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frequencies to be used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LMDS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5.8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2.4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ment method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point requirement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multipoint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equipment hardware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1181-95B9-47AF-83BB-0E010FB891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Preorder required bandwidth to POP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T1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S3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Use right equipment for right application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Is ATM required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6179-2FC6-49DA-A14B-40D4D07630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LMDS" descr=""/>
          <p:cNvPicPr/>
          <p:nvPr/>
        </p:nvPicPr>
        <p:blipFill>
          <a:blip r:embed="rId1"/>
          <a:srcRect l="0" t="7245" r="0" b="15396"/>
          <a:stretch/>
        </p:blipFill>
        <p:spPr>
          <a:xfrm>
            <a:off x="1523880" y="380880"/>
            <a:ext cx="6096240" cy="609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4CCE-7E0B-48F4-B692-0F61B6F19D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reate Allianc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Join Chambers of Commerc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(C of C) become your advocat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cquaint yourself with Economic Development Agenci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ovide live training sessions to the business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FE6A-07B0-4AD0-BAE0-1643582E14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learly define the benefits of your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Educate your prospective customers on what E-commerce means to them and their busines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Be conscious that your prospective customers are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starving but they are not hungry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4AB8-F5DE-40DE-8AC9-24C822ABA9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does net speed mean to your customers business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how your customer how speed can save them money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ugment your horizons, serve both business as well as your residential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Keep in focus that business has a different requirement than the residential customer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849A-2DB7-4B5C-B3DA-8388C5E55B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 the fact that in general the residential consumer has minimal impact on bandwidth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ame bandwidth can serve both the business as well as the residential consumer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Business uses net usually 8-5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Residence uses net usually 7-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A17D-3435-406A-B995-30494E16A1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?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not accept anything other than reality. Be a realist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ke extensive use of the pre-subscription process to assure yourself that you have custom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and when possible create alliances with manufactur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nufacturers are also going through tough time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BC17-9B2E-4B23-9C40-6FC24EA1E9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mmunicate with your congressional representatives.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ell them on your pla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support you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Look for governmental low interest loan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Remember today what counts is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PROFIT</a:t>
            </a: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4C3A-60C7-4F1F-98AB-3CF40316A8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Strategies Of Deploying Wireless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Broadband Utilizing LMDS,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Unlicensed Bandwidth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(5.8 GHZ and 2.4 GHZ)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886200"/>
            <a:ext cx="7391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esented By Norbert J. Lima           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  President and CEO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ime Companies Incorporated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EAED-2985-407F-B9D9-364E1B12AF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istory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participated in the 1999 LMDS auction in the U.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was successful in acquiring 8 LMDS “A” licens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Geographically speaking, these licenses range from western Pennsylvania going in a northerly direction all the way into the state of new York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1AD2-7570-4C81-8189-C011292074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Goal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trategic and cost effective deployment of broadband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rve all economically feasible markets- both in secondary and tertiary market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DC98-8A75-449B-B027-4BBD23C8D8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of Getting Started</a:t>
            </a:r>
            <a:br>
              <a:rPr sz="3600"/>
            </a:b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a business plan with reasonable and realistic expectations, and follow your business plan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services do you intend to deploy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igh speed internet connectivity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deo conferencin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rtual private networks (VPN’s)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Point to point data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ial ton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631C-1A37-4669-9619-7CAFCC6D10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9140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Which service offering, or package of services do you intend to provide first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98FF-6F73-41C2-B371-6E799F67D6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ations before defining market deploymen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marketing studie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Understand your market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 and customer needs/want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Obtain pre-subscriptio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Is bandwidth available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Negotiate for bandwidth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9497-6820-4FCB-9964-3EFFABC283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onsiderations before defining (con’t)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market makeup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Building siz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Avg number of customers per bld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ow many sectors are req. to provide svc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price points for services to be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ed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xplore terms of rooftop usag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F815-406C-4B08-A64F-EEE251482F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ich market to deploy first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competition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bandwidth availability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DSL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location of deployment hub site!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radio/hub site readily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manufacturers’ equipment do you us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o you have pre-subscriptions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61EC-4643-47A8-A5DA-67CA34A7B3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8:15:46Z</dcterms:created>
  <dc:creator>sondra</dc:creator>
  <dc:description/>
  <dc:language>en-US</dc:language>
  <cp:lastModifiedBy>sondra</cp:lastModifiedBy>
  <dcterms:modified xsi:type="dcterms:W3CDTF">2002-02-08T17:04:38Z</dcterms:modified>
  <cp:revision>83</cp:revision>
  <dc:subject/>
  <dc:title>PowerPoint Presentation</dc:title>
</cp:coreProperties>
</file>