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2.png" ContentType="image/png"/>
  <Override PartName="/ppt/media/image16.png" ContentType="image/png"/>
  <Override PartName="/ppt/media/image15.wmf" ContentType="image/x-wmf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584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D34A2E6-1B8D-4966-876E-31319501D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224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2960" y="4387320"/>
            <a:ext cx="503208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optimal link rate – other rates could be supporte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2960" y="4387320"/>
            <a:ext cx="5032080" cy="415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120" rIns="8712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 cost in the billions of 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170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2036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304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5170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2036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795840" y="2170080"/>
            <a:ext cx="5006880" cy="9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5170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2036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8304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5170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2036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795840" y="2170080"/>
            <a:ext cx="5006880" cy="9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2" marL="343080" indent="-343080">
              <a:spcBef>
                <a:spcPts val="499"/>
              </a:spcBef>
              <a:buClr>
                <a:srgbClr val="993366"/>
              </a:buClr>
              <a:buSzPct val="9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pic>
        <p:nvPicPr>
          <p:cNvPr id="1" name="big_logo" descr=""/>
          <p:cNvPicPr/>
          <p:nvPr/>
        </p:nvPicPr>
        <p:blipFill>
          <a:blip r:embed="rId2"/>
          <a:stretch/>
        </p:blipFill>
        <p:spPr>
          <a:xfrm>
            <a:off x="144360" y="103320"/>
            <a:ext cx="1819440" cy="1647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4589640" y="492120"/>
            <a:ext cx="4554360" cy="7714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052720" y="244440"/>
            <a:ext cx="0" cy="78264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48040" y="1027080"/>
            <a:ext cx="7095960" cy="6523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008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338040"/>
                <a:tab algn="ctr" pos="4521240"/>
                <a:tab algn="r" pos="874728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ww.atheros.com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Atheros Communications, Inc. 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fld id="{60B6594A-8039-4F94-A9B1-584F0E64FCE0}" type="slidenum">
              <a:rPr b="0" lang="en-US" sz="10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08360" y="477720"/>
            <a:ext cx="4535640" cy="9622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ig_logo" descr=""/>
          <p:cNvPicPr/>
          <p:nvPr/>
        </p:nvPicPr>
        <p:blipFill>
          <a:blip r:embed="rId2"/>
          <a:stretch/>
        </p:blipFill>
        <p:spPr>
          <a:xfrm>
            <a:off x="0" y="2101680"/>
            <a:ext cx="3516480" cy="3183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726000" y="2192400"/>
            <a:ext cx="1440" cy="259560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driving" descr=""/>
          <p:cNvPicPr/>
          <p:nvPr/>
        </p:nvPicPr>
        <p:blipFill>
          <a:blip r:embed="rId3"/>
          <a:stretch/>
        </p:blipFill>
        <p:spPr>
          <a:xfrm>
            <a:off x="2136600" y="817560"/>
            <a:ext cx="3246480" cy="36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H="1">
            <a:off x="2007720" y="244440"/>
            <a:ext cx="1800" cy="107640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05120" y="4768920"/>
            <a:ext cx="5438880" cy="31572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282680"/>
            <a:ext cx="9144000" cy="33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993366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89280" y="2075040"/>
            <a:ext cx="54547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2</a:t>
            </a:r>
            <a:r>
              <a:rPr b="1" lang="en-US" sz="2400" spc="-1" strike="noStrike" baseline="30000">
                <a:solidFill>
                  <a:srgbClr val="993366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 Generation</a:t>
            </a:r>
            <a:br>
              <a:rPr sz="2400"/>
            </a:b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Wireless LAN Opportunities</a:t>
            </a:r>
            <a:br>
              <a:rPr sz="2400"/>
            </a:b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and Mass Adoption Challenges</a:t>
            </a: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Atheros Communications, Inc. | www.atheros.com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56920" y="4764240"/>
            <a:ext cx="44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eb 13, 2002 – Broadband Wireless World Fo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3726000"/>
            <a:ext cx="4962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heung 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Product Line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heung@athero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650960" y="103320"/>
            <a:ext cx="74930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ation Techniques: 802.11a, 802.11b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2870280" y="2009880"/>
            <a:ext cx="320364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11g Draft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676600" y="5700600"/>
            <a:ext cx="3697200" cy="459720"/>
          </a:xfrm>
          <a:prstGeom prst="rect">
            <a:avLst/>
          </a:prstGeom>
          <a:solidFill>
            <a:srgbClr val="15bde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ixed mode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ow the 11g Draft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353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32280" y="317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260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915080" y="3168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1167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923080" y="3156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071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94720" y="3166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1449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937240" y="3160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731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1635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1542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959040" y="3165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941840" y="3164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0978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890120" y="317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16200000">
            <a:off x="1836000" y="2364120"/>
            <a:ext cx="476280" cy="3002040"/>
          </a:xfrm>
          <a:custGeom>
            <a:avLst/>
            <a:gdLst>
              <a:gd name="textAreaLeft" fmla="*/ 304200 w 476280"/>
              <a:gd name="textAreaRight" fmla="*/ 476640 w 476280"/>
              <a:gd name="textAreaTop" fmla="*/ 78120 h 3002040"/>
              <a:gd name="textAreaBottom" fmla="*/ 2923920 h 3002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198080" y="4143240"/>
            <a:ext cx="194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1b compat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16200000">
            <a:off x="6269040" y="1891800"/>
            <a:ext cx="476280" cy="3994200"/>
          </a:xfrm>
          <a:custGeom>
            <a:avLst/>
            <a:gdLst>
              <a:gd name="textAreaLeft" fmla="*/ 304200 w 476280"/>
              <a:gd name="textAreaRight" fmla="*/ 476640 w 476280"/>
              <a:gd name="textAreaTop" fmla="*/ 104040 h 3994200"/>
              <a:gd name="textAreaBottom" fmla="*/ 3890160 h 399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808960" y="4167360"/>
            <a:ext cx="164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FDM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424160" y="5850000"/>
            <a:ext cx="69404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47920" y="5467320"/>
            <a:ext cx="689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442880" y="4006800"/>
            <a:ext cx="6910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477800" y="2765520"/>
            <a:ext cx="6924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pport More Users at 5 GHz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6630840" y="1905120"/>
            <a:ext cx="1417680" cy="42847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013120" y="2114640"/>
            <a:ext cx="4371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21120" y="2152800"/>
            <a:ext cx="2489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492200" y="2509920"/>
            <a:ext cx="19828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1420560" y="6205680"/>
            <a:ext cx="693396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422360" y="2565360"/>
            <a:ext cx="0" cy="36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78040" y="2114640"/>
            <a:ext cx="34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roughput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(Mbps/network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23880" y="6022800"/>
            <a:ext cx="1828800" cy="160560"/>
          </a:xfrm>
          <a:prstGeom prst="rect">
            <a:avLst/>
          </a:prstGeom>
          <a:solidFill>
            <a:srgbClr val="f92a2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28880" y="5888160"/>
            <a:ext cx="1411560" cy="303120"/>
          </a:xfrm>
          <a:prstGeom prst="rect">
            <a:avLst/>
          </a:prstGeom>
          <a:solidFill>
            <a:srgbClr val="ffe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87320" y="5709960"/>
            <a:ext cx="5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937120" y="3459240"/>
            <a:ext cx="1416240" cy="27288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2601720"/>
            <a:ext cx="6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68160" y="5266800"/>
            <a:ext cx="63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040" y="3852360"/>
            <a:ext cx="61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95840" y="5326200"/>
            <a:ext cx="1279800" cy="8636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709640" y="2943360"/>
            <a:ext cx="20574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828800" y="3565800"/>
            <a:ext cx="1835280" cy="307080"/>
          </a:xfrm>
          <a:prstGeom prst="rect">
            <a:avLst/>
          </a:prstGeom>
          <a:solidFill>
            <a:srgbClr val="ffe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 GHz 11g (draf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828800" y="3048120"/>
            <a:ext cx="1828800" cy="34920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GHz 11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28800" y="4062600"/>
            <a:ext cx="1809720" cy="307080"/>
          </a:xfrm>
          <a:prstGeom prst="rect">
            <a:avLst/>
          </a:prstGeom>
          <a:solidFill>
            <a:srgbClr val="f92a2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4 GHz 11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783480" y="6326280"/>
            <a:ext cx="23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Source: Agere, Ath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406440" y="1854360"/>
            <a:ext cx="4254480" cy="458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 Interferers means Ease of Us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38120" y="1896840"/>
            <a:ext cx="494208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band is congested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nd interferers can affect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tup and operation of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etwork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licting wireless networ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xed wireless broadba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dless ph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wave ove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m (Amateur) Radi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ss than 100 MHz availabl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 to 3 usable channels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851360" y="1841400"/>
            <a:ext cx="4076640" cy="4584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896000" y="1884240"/>
            <a:ext cx="424800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 GHz band is clean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pectrum operating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under rules preventing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arrowband interfer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conflicting protocols allow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true QoS and new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 15 UNII spectrum rul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vent cordless phones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system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diolocation satellites and Radars remote or in other part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 300 MHz availab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4 to 19 usable channels)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yth of 2.4 GHz Range Advantag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"/>
          <p:cNvSpPr/>
          <p:nvPr/>
        </p:nvSpPr>
        <p:spPr>
          <a:xfrm>
            <a:off x="926280" y="2017800"/>
            <a:ext cx="189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5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33960" y="202896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2.4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858840" y="22003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th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070080" y="246384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376960" y="247500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050360" y="25192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6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actors in WLAN System Rang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926280" y="2017800"/>
            <a:ext cx="189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5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33960" y="202896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2.4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58840" y="22003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th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070080" y="246384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76960" y="247500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050360" y="25192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6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54520" y="3056040"/>
            <a:ext cx="139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qui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nten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70080" y="349416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376960" y="350532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696120" y="3954600"/>
            <a:ext cx="7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3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659840" y="3951360"/>
            <a:ext cx="7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3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057200" y="4844880"/>
            <a:ext cx="88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5091120"/>
            <a:ext cx="53316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397480" y="510228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736080" y="5867280"/>
            <a:ext cx="154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x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x Sensi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095640" y="611352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02160" y="6124680"/>
            <a:ext cx="47808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727080" y="5345280"/>
            <a:ext cx="150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lay Sp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ole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67200" y="5591160"/>
            <a:ext cx="53316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373720" y="560232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055960" y="1108080"/>
            <a:ext cx="7448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1a/b Measured Link Rat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0" y="19828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33"/>
                </a:solidFill>
                <a:latin typeface="Verdana"/>
              </a:rPr>
              <a:t>Link rates of 802.11a are 2 to 5 times those of 802.11b </a:t>
            </a:r>
            <a:br>
              <a:rPr sz="1800"/>
            </a:br>
            <a:r>
              <a:rPr b="1" i="1" lang="en-US" sz="1800" spc="-1" strike="noStrike">
                <a:solidFill>
                  <a:srgbClr val="666633"/>
                </a:solidFill>
                <a:latin typeface="Verdana"/>
              </a:rPr>
              <a:t>at the same distance in actual tests</a:t>
            </a:r>
            <a:endParaRPr b="1" lang="en-US" sz="18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 rot="10800000">
            <a:off x="1019160" y="2838240"/>
            <a:ext cx="454680" cy="27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Link Rate (Mb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135320" y="5999040"/>
            <a:ext cx="14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 (f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11077" t="9388" r="4431" b="6776"/>
          <a:stretch/>
        </p:blipFill>
        <p:spPr>
          <a:xfrm>
            <a:off x="1536840" y="2722680"/>
            <a:ext cx="6665760" cy="335736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rcRect l="11077" t="9388" r="4431" b="6776"/>
          <a:stretch/>
        </p:blipFill>
        <p:spPr>
          <a:xfrm>
            <a:off x="1536840" y="2722680"/>
            <a:ext cx="6665760" cy="335736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rcRect l="11077" t="9388" r="4431" b="6776"/>
          <a:stretch/>
        </p:blipFill>
        <p:spPr>
          <a:xfrm>
            <a:off x="1536840" y="2730600"/>
            <a:ext cx="6665760" cy="3355920"/>
          </a:xfrm>
          <a:prstGeom prst="rect">
            <a:avLst/>
          </a:prstGeom>
          <a:ln w="0">
            <a:noFill/>
          </a:ln>
        </p:spPr>
      </p:pic>
      <p:grpSp>
        <p:nvGrpSpPr>
          <p:cNvPr id="547" name=""/>
          <p:cNvGrpSpPr/>
          <p:nvPr/>
        </p:nvGrpSpPr>
        <p:grpSpPr>
          <a:xfrm>
            <a:off x="2478240" y="3132000"/>
            <a:ext cx="5238720" cy="2430360"/>
            <a:chOff x="2478240" y="3132000"/>
            <a:chExt cx="5238720" cy="2430360"/>
          </a:xfrm>
        </p:grpSpPr>
        <p:sp>
          <p:nvSpPr>
            <p:cNvPr id="548" name=""/>
            <p:cNvSpPr/>
            <p:nvPr/>
          </p:nvSpPr>
          <p:spPr>
            <a:xfrm>
              <a:off x="2546640" y="3132000"/>
              <a:ext cx="0" cy="19616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78240" y="4255560"/>
              <a:ext cx="662040" cy="36828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~5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83600" y="5325120"/>
              <a:ext cx="3240" cy="2372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997680" y="4834800"/>
              <a:ext cx="719280" cy="36828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~3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ill MANY Wireless Challenges Ahead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82320" y="17604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etworking ++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ity (802.11i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 management, Scheduling, QoS (802.11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aming, InterAccess Point Communications (802.11f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Radio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cy in the use of spectru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range of “impairments” to be manag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ing interference (co-channel and adjacent channe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ulatory (international acceptance) (802.11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ortability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ttery lif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curity in Wireless LAN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here are three layers to wireless security, each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relies on and complements the other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44640" y="3189240"/>
            <a:ext cx="11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VPN, D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357280" y="4098960"/>
            <a:ext cx="5646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736880" y="4240080"/>
            <a:ext cx="8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802.1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336760" y="516420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327560" y="53053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WEP, TKIP, A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21640" y="310824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9160" y="417528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4920" y="5284800"/>
            <a:ext cx="17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 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95800" y="3716280"/>
            <a:ext cx="0" cy="3636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091120" y="4768920"/>
            <a:ext cx="0" cy="3636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lication Security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VPN’s provide end-to-end application security but creating a secure “tunnel” from the client to the server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657240" y="3189240"/>
            <a:ext cx="320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VPN (Virtual Private Networ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1640" y="310824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63640" y="4079880"/>
            <a:ext cx="6705720" cy="19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st level of security from one end to the 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Dis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complex and requires most effort to man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fects performance, so hard to scale to large deploy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uthentica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x verifies that clients have the credentials to be on the network and increases the security of a data link  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75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816080" y="3189240"/>
            <a:ext cx="8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802.1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2360" y="310824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63640" y="4079880"/>
            <a:ext cx="7532640" cy="22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s networks easier to manage by using extensible authentication methods to regulate access to a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s the security of a data link by refreshing WLAN encryption ke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Dis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kened by poor data link level 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ireless Data Delivery Alternativ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AN, 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G, 3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 R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.0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perLAN2, HiSWA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roprietary, Non-Standard,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W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ink Encryp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Encryption keeps intruders from eavesdropping on a link, but are dependent on a secure key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2351160" y="3048120"/>
            <a:ext cx="1218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692080" y="318924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W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20560" y="3108240"/>
            <a:ext cx="123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63640" y="4079880"/>
            <a:ext cx="782316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EP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riginal Wired Equivalent Privacy protocol can be cracked by collecting and analyzing a sufficient amount of data – it needs either a VPN or 802.1x rekeying to be made sec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KIP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oral Key Initialization Protocol is a modification of WEP to defend against known at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ES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dvanced Encryption System is the one designated by the US Govt to replace the 3DES system commonly used in financial and other secure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408560" y="3041640"/>
            <a:ext cx="1218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715640" y="318276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TK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483240" y="3048120"/>
            <a:ext cx="121932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822720" y="3189240"/>
            <a:ext cx="54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A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656160" y="3352680"/>
            <a:ext cx="717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27600" y="3359160"/>
            <a:ext cx="717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960640" y="3832200"/>
            <a:ext cx="4049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390560" y="3840120"/>
            <a:ext cx="134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ore Sec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95120" y="1150920"/>
            <a:ext cx="7080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ern 802.11a Products are Highly Integrated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1676520" y="2549520"/>
            <a:ext cx="6403680" cy="303696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76320" y="4699080"/>
            <a:ext cx="1447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Digital Chip:  MAC, Base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Processor, ADCs, DAC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Memo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1447920" y="4606560"/>
            <a:ext cx="1447560" cy="76212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666880" y="3997440"/>
            <a:ext cx="914400" cy="8380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257800" y="5753160"/>
            <a:ext cx="34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F Chip:  Power amp, LNA, VCO, SAW filtration, Frequency conversion, Frequency synthesizers, Variable gain am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800600" y="4454640"/>
            <a:ext cx="1371600" cy="13716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19320" y="2525760"/>
            <a:ext cx="101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eg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590920" y="2778120"/>
            <a:ext cx="1554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048120" y="3463920"/>
            <a:ext cx="304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048120" y="34639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590920" y="376884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2590920" y="2778120"/>
            <a:ext cx="0" cy="99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523880" y="2778120"/>
            <a:ext cx="1219320" cy="53352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048120" y="3463920"/>
            <a:ext cx="457200" cy="3808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24560" y="3692520"/>
            <a:ext cx="9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EEP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1066680" y="3768480"/>
            <a:ext cx="2210040" cy="1522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4143240" y="2771640"/>
            <a:ext cx="0" cy="99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3525480" y="3762360"/>
            <a:ext cx="623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448160" y="4016520"/>
            <a:ext cx="609480" cy="609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486400" y="3387600"/>
            <a:ext cx="380880" cy="38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607800" y="179532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F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5715000" y="2091960"/>
            <a:ext cx="990720" cy="15238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492800" y="4762440"/>
            <a:ext cx="498240" cy="3110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623400" y="567360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32MHz Crys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4495320" y="4987800"/>
            <a:ext cx="228600" cy="6858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685440" y="2004480"/>
            <a:ext cx="8263080" cy="42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33"/>
                </a:solidFill>
                <a:latin typeface="Verdana"/>
              </a:rPr>
              <a:t>Closing the gap with wired</a:t>
            </a:r>
            <a:endParaRPr b="1" lang="en-US" sz="22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reless PCMCIA connections relative to wired (wired =1)</a:t>
            </a:r>
            <a:endParaRPr b="1" lang="en-US" sz="18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620" name=""/>
          <p:cNvSpPr/>
          <p:nvPr/>
        </p:nvSpPr>
        <p:spPr>
          <a:xfrm>
            <a:off x="1486080" y="3097080"/>
            <a:ext cx="517032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86080" y="516888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486080" y="465300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486080" y="412920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486080" y="361332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486080" y="3097080"/>
            <a:ext cx="5170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86080" y="3097080"/>
            <a:ext cx="5170320" cy="25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486080" y="3097080"/>
            <a:ext cx="1440" cy="258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409760" y="56847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09760" y="516888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409760" y="465300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86080" y="5684760"/>
            <a:ext cx="5170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148608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278136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4076640" y="5684400"/>
            <a:ext cx="180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536112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665640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486080" y="3359160"/>
            <a:ext cx="1295280" cy="460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781360" y="3819600"/>
            <a:ext cx="1295280" cy="4125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076640" y="4232160"/>
            <a:ext cx="1284480" cy="2145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61120" y="4446720"/>
            <a:ext cx="1295280" cy="1029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486080" y="5581800"/>
            <a:ext cx="1295280" cy="1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781360" y="5581800"/>
            <a:ext cx="1295280" cy="61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4106880" y="5144760"/>
            <a:ext cx="1284120" cy="444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5361120" y="4652640"/>
            <a:ext cx="1295280" cy="476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457280" y="333540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752560" y="379584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048200" y="420840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332320" y="4422600"/>
            <a:ext cx="57240" cy="4788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627960" y="4511520"/>
            <a:ext cx="42840" cy="619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57280" y="5557680"/>
            <a:ext cx="4752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752560" y="5557680"/>
            <a:ext cx="4788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48200" y="5549760"/>
            <a:ext cx="4752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32320" y="5105520"/>
            <a:ext cx="4788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627960" y="4629240"/>
            <a:ext cx="4752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187640" y="55656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962640" y="504972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0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187640" y="453384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62640" y="401004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187640" y="34941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962640" y="297828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6612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56140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5704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14116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43644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132680" y="4129200"/>
            <a:ext cx="122868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209000" y="4280040"/>
            <a:ext cx="257040" cy="1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304040" y="4255920"/>
            <a:ext cx="57240" cy="4788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600320" y="4152960"/>
            <a:ext cx="41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209000" y="4541760"/>
            <a:ext cx="257040" cy="1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304040" y="4518000"/>
            <a:ext cx="4752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617960" y="4414680"/>
            <a:ext cx="5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Spe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bility without Cos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"/>
          <p:cNvSpPr/>
          <p:nvPr/>
        </p:nvSpPr>
        <p:spPr>
          <a:xfrm>
            <a:off x="1403280" y="412272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401840" y="361800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415880" y="309240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ome Conclusions …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Unlicensed spectra and CMOS technology will combine to allow ubiquitous, low-cost, IP based wireless access (WLAN)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1, and 802.11a in particular, will dominate this WLAN landscape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LANs are exciting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and exponentially grow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innovation is rapid, continuing (hard problems to solv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ietal impacts have but begun to be seen (rapid chang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679" name=""/>
          <p:cNvSpPr/>
          <p:nvPr/>
        </p:nvSpPr>
        <p:spPr>
          <a:xfrm>
            <a:off x="1703520" y="12600"/>
            <a:ext cx="4800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uture: Concl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4016160" y="4764240"/>
            <a:ext cx="126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July 2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44800" y="2195280"/>
            <a:ext cx="4959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-1523880" y="-422280"/>
            <a:ext cx="11741040" cy="820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449280"/>
            <a:ext cx="9144000" cy="9619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0" y="1254240"/>
            <a:ext cx="9144000" cy="33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983120" y="3944880"/>
            <a:ext cx="4160880" cy="5724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6640560"/>
            <a:ext cx="9144000" cy="2174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big_logo" descr=""/>
          <p:cNvPicPr/>
          <p:nvPr/>
        </p:nvPicPr>
        <p:blipFill>
          <a:blip r:embed="rId1"/>
          <a:stretch/>
        </p:blipFill>
        <p:spPr>
          <a:xfrm>
            <a:off x="0" y="2101680"/>
            <a:ext cx="3516480" cy="3183120"/>
          </a:xfrm>
          <a:prstGeom prst="rect">
            <a:avLst/>
          </a:prstGeom>
          <a:ln w="0">
            <a:noFill/>
          </a:ln>
        </p:spPr>
      </p:pic>
      <p:pic>
        <p:nvPicPr>
          <p:cNvPr id="689" name="driving" descr=""/>
          <p:cNvPicPr/>
          <p:nvPr/>
        </p:nvPicPr>
        <p:blipFill>
          <a:blip r:embed="rId2"/>
          <a:stretch/>
        </p:blipFill>
        <p:spPr>
          <a:xfrm>
            <a:off x="3336840" y="3425760"/>
            <a:ext cx="5545080" cy="6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ireless Data Delivery Alternativ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AN, 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G, 3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 R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.0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perLAN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roprietary, Non-Standard,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W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2197080" y="3241800"/>
            <a:ext cx="3719520" cy="9982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172960" y="4597560"/>
            <a:ext cx="37767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63040" y="405936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i-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50480" y="364500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Aka 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86440" y="438948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i-Fi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7600" y="28080"/>
            <a:ext cx="7466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edictions, Myths, and Assertions 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69360" y="2009880"/>
            <a:ext cx="8248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1 is the clear winner (Wireless Ethernet)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reless Ethernet is familiar, IP based, immediately usefu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dely supported, deployed on access points and st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 for computing, consumer electronics, telematics ap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HiperLAN2, HiSWANa will not be volume market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nging to existence with QoS and DFS/T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 ($, wireless ATM), late, centralized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European, Japan manufacturers now 802.11 suppor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HomeRF is overshadowe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RF 2.0 is too little, too l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 has dropped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Bluetooth is for personal area networks 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width, efficiency, system capacity limi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96960" y="113364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licensed Winner: 802.11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7600" y="28080"/>
            <a:ext cx="7466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edictions, Myths, and Assertions 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2454480" y="113364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802.11 is Everywher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MoxiProductFamily2" descr=""/>
          <p:cNvPicPr/>
          <p:nvPr/>
        </p:nvPicPr>
        <p:blipFill>
          <a:blip r:embed="rId1"/>
          <a:stretch/>
        </p:blipFill>
        <p:spPr>
          <a:xfrm>
            <a:off x="3684600" y="3032280"/>
            <a:ext cx="2390760" cy="1809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575160" y="1728720"/>
            <a:ext cx="2079360" cy="1535040"/>
          </a:xfrm>
          <a:prstGeom prst="rect">
            <a:avLst/>
          </a:prstGeom>
          <a:ln w="0">
            <a:noFill/>
          </a:ln>
        </p:spPr>
      </p:pic>
      <p:pic>
        <p:nvPicPr>
          <p:cNvPr id="115" name="Proxim_ap_pccard" descr=""/>
          <p:cNvPicPr/>
          <p:nvPr/>
        </p:nvPicPr>
        <p:blipFill>
          <a:blip r:embed="rId3"/>
          <a:stretch/>
        </p:blipFill>
        <p:spPr>
          <a:xfrm>
            <a:off x="1389240" y="2935440"/>
            <a:ext cx="1774800" cy="1627200"/>
          </a:xfrm>
          <a:prstGeom prst="rect">
            <a:avLst/>
          </a:prstGeom>
          <a:ln w="0">
            <a:noFill/>
          </a:ln>
        </p:spPr>
      </p:pic>
      <p:pic>
        <p:nvPicPr>
          <p:cNvPr id="116" name="IBM_ThinkPad@ThinkPad_T_Series" descr=""/>
          <p:cNvPicPr/>
          <p:nvPr/>
        </p:nvPicPr>
        <p:blipFill>
          <a:blip r:embed="rId4"/>
          <a:stretch/>
        </p:blipFill>
        <p:spPr>
          <a:xfrm>
            <a:off x="372960" y="172872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Intel_AP_w_cards2" descr=""/>
          <p:cNvPicPr/>
          <p:nvPr/>
        </p:nvPicPr>
        <p:blipFill>
          <a:blip r:embed="rId5"/>
          <a:stretch/>
        </p:blipFill>
        <p:spPr>
          <a:xfrm>
            <a:off x="760320" y="4292640"/>
            <a:ext cx="1455840" cy="1290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309840" y="5676840"/>
            <a:ext cx="248292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Consumer</a:t>
            </a:r>
            <a:br>
              <a:rPr sz="1800"/>
            </a:b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Electron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97480" y="5676840"/>
            <a:ext cx="248292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Vehicula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040" y="5676840"/>
            <a:ext cx="238608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Computing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021200" y="4299120"/>
          <a:ext cx="1514520" cy="1323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21200" y="4299120"/>
                    <a:ext cx="151452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ov_mn_sm_photo" descr=""/>
          <p:cNvPicPr/>
          <p:nvPr/>
        </p:nvPicPr>
        <p:blipFill>
          <a:blip r:embed="rId8"/>
          <a:stretch/>
        </p:blipFill>
        <p:spPr>
          <a:xfrm>
            <a:off x="6491160" y="3876840"/>
            <a:ext cx="2222640" cy="130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6451560" y="2286000"/>
          <a:ext cx="2162160" cy="1065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51560" y="2286000"/>
                    <a:ext cx="216216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70214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LAN Data Attractivenes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82680" y="1982880"/>
          <a:ext cx="8485200" cy="4236840"/>
        </p:xfrm>
        <a:graphic>
          <a:graphicData uri="http://schemas.openxmlformats.org/drawingml/2006/table">
            <a:tbl>
              <a:tblPr/>
              <a:tblGrid>
                <a:gridCol w="2828880"/>
                <a:gridCol w="3021120"/>
                <a:gridCol w="263520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le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ctr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3.5 MHz+ (US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licen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MHz (US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en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Mbps per link max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MHz channels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bps per link max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Hz cha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wer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um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 Gb/Wh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4Mbps @ 1.4W pea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6 Gb/Wh (2G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Kbps @ 1.3W pea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station ~$150 &amp; dr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it more costly 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laptops, PDAs, home, enterprise, public a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loyment just 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Future is in 5 GHz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49440" y="2492280"/>
            <a:ext cx="7897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7152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19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19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67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24160" y="2406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65680" y="24145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11520" y="2406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1152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5952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6096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0860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08600" y="2432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54800" y="2419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5480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0244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0424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5188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03400" y="2116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9440" y="1733400"/>
            <a:ext cx="17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2 GHz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78040" y="2098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00480" y="20970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36960" y="2092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79920" y="2089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16400" y="2084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70520" y="2079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92960" y="2090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80200" y="20858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23160" y="2082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59640" y="20779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73600" y="2351160"/>
            <a:ext cx="503280" cy="333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2960" y="3610080"/>
            <a:ext cx="7897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6540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1304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1304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6068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1804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920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5776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0540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0540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5304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5448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0248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02480" y="3549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0068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4832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4832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9596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9776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4540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96920" y="3233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4960" y="2851200"/>
            <a:ext cx="251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U.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71920" y="32162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94000" y="3214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30480" y="32097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73440" y="3206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10280" y="32018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64040" y="31971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86480" y="3208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74080" y="32036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16680" y="3200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53520" y="3195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54240" y="3478320"/>
            <a:ext cx="1417680" cy="333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04000" y="3478320"/>
            <a:ext cx="874800" cy="333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84920" y="3478320"/>
            <a:ext cx="519120" cy="333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8160" y="4714920"/>
            <a:ext cx="7898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060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3824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3824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8588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4324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8476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8296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3060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3060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7860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004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2768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27680" y="4654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2624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7388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7388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12152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2296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77096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22480" y="4338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0160" y="3956040"/>
            <a:ext cx="27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97120" y="4321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19560" y="43196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56040" y="4314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99000" y="4311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35480" y="4307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89600" y="43020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12040" y="43131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99280" y="43084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42240" y="43052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78720" y="43005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79800" y="4583160"/>
            <a:ext cx="1417320" cy="333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29000" y="4583160"/>
            <a:ext cx="1596960" cy="333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5560" y="5718240"/>
            <a:ext cx="7898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7800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2564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2564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7328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3064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7180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7036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1800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1800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6564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6744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1508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15080" y="5657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1328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6128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6128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0892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11036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75800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09880" y="5342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2960" y="4959360"/>
            <a:ext cx="26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Jap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84520" y="5324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406600" y="5322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3440" y="53182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86400" y="5315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22880" y="53103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77000" y="5305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99080" y="53164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86680" y="5311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929640" y="53085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66120" y="5303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66840" y="5586480"/>
            <a:ext cx="757440" cy="333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66080" y="3865680"/>
            <a:ext cx="361800" cy="22129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05520" y="6033960"/>
            <a:ext cx="3138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New Allocation f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Vehicular (Telematics) Applica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and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Gen WL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157400" y="2122560"/>
          <a:ext cx="6986520" cy="3798720"/>
        </p:xfrm>
        <a:graphic>
          <a:graphicData uri="http://schemas.openxmlformats.org/drawingml/2006/table">
            <a:tbl>
              <a:tblPr/>
              <a:tblGrid>
                <a:gridCol w="2144520"/>
                <a:gridCol w="2422440"/>
                <a:gridCol w="2419560"/>
              </a:tblGrid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2.11b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-F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2.11a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-Fi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Rate per Channe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11Mbp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– 54Mbp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 of Operation (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0-2.4835G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5-5.35GHz, 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25-5.825G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le Bandwidth (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.5M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+M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Non-Overlapping Channel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ulation Typ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S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D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50960" y="103320"/>
            <a:ext cx="74930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ation Techniques: 802.11a, 802.11b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1234440" y="3529080"/>
            <a:ext cx="19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.00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 / 0.72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1600" y="231948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SSS / CCK (1-8 bits/se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82840" y="1731960"/>
            <a:ext cx="138420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802.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43920" y="353376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19000" y="229392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FDM (52 sub-carri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870440" y="2590920"/>
            <a:ext cx="3852720" cy="1471680"/>
            <a:chOff x="4870440" y="2590920"/>
            <a:chExt cx="3852720" cy="1471680"/>
          </a:xfrm>
        </p:grpSpPr>
        <p:sp>
          <p:nvSpPr>
            <p:cNvPr id="273" name=""/>
            <p:cNvSpPr/>
            <p:nvPr/>
          </p:nvSpPr>
          <p:spPr>
            <a:xfrm>
              <a:off x="4870440" y="3389040"/>
              <a:ext cx="38527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2196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5419800" y="2714400"/>
              <a:ext cx="3168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785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576760" y="2714400"/>
              <a:ext cx="3168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3624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7355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9284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89284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5052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04980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071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620712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648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63640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2140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5214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787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66783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8364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8356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8580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785808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11880" y="259092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27400" y="3135240"/>
              <a:ext cx="0" cy="4219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27400" y="3473280"/>
              <a:ext cx="35388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566200" y="3135240"/>
              <a:ext cx="0" cy="4219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0148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77007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6135840" y="1700280"/>
            <a:ext cx="138420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802.1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624920" y="4114800"/>
            <a:ext cx="4345560" cy="1305360"/>
            <a:chOff x="4624920" y="4114800"/>
            <a:chExt cx="4345560" cy="1305360"/>
          </a:xfrm>
        </p:grpSpPr>
        <p:grpSp>
          <p:nvGrpSpPr>
            <p:cNvPr id="304" name=""/>
            <p:cNvGrpSpPr/>
            <p:nvPr/>
          </p:nvGrpSpPr>
          <p:grpSpPr>
            <a:xfrm>
              <a:off x="4624920" y="4114800"/>
              <a:ext cx="915120" cy="1305360"/>
              <a:chOff x="4624920" y="4114800"/>
              <a:chExt cx="915120" cy="130536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4632120" y="4114800"/>
                <a:ext cx="907920" cy="915480"/>
                <a:chOff x="4632120" y="4114800"/>
                <a:chExt cx="907920" cy="915480"/>
              </a:xfrm>
            </p:grpSpPr>
            <p:grpSp>
              <p:nvGrpSpPr>
                <p:cNvPr id="306" name=""/>
                <p:cNvGrpSpPr/>
                <p:nvPr/>
              </p:nvGrpSpPr>
              <p:grpSpPr>
                <a:xfrm>
                  <a:off x="4632120" y="4114800"/>
                  <a:ext cx="907920" cy="915480"/>
                  <a:chOff x="4632120" y="4114800"/>
                  <a:chExt cx="907920" cy="91548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 flipV="1">
                    <a:off x="463212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508608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4717800" y="4502160"/>
                  <a:ext cx="736560" cy="141120"/>
                  <a:chOff x="4717800" y="4502160"/>
                  <a:chExt cx="736560" cy="141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4717800" y="450216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5314680" y="450216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2" name=""/>
              <p:cNvSpPr/>
              <p:nvPr/>
            </p:nvSpPr>
            <p:spPr>
              <a:xfrm>
                <a:off x="4624920" y="5021280"/>
                <a:ext cx="88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B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5754600" y="4114800"/>
              <a:ext cx="907920" cy="1305360"/>
              <a:chOff x="5754600" y="4114800"/>
              <a:chExt cx="907920" cy="130536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5754600" y="4114800"/>
                <a:ext cx="907920" cy="915480"/>
                <a:chOff x="5754600" y="4114800"/>
                <a:chExt cx="907920" cy="915480"/>
              </a:xfrm>
            </p:grpSpPr>
            <p:grpSp>
              <p:nvGrpSpPr>
                <p:cNvPr id="315" name=""/>
                <p:cNvGrpSpPr/>
                <p:nvPr/>
              </p:nvGrpSpPr>
              <p:grpSpPr>
                <a:xfrm>
                  <a:off x="5754600" y="4114800"/>
                  <a:ext cx="907920" cy="915480"/>
                  <a:chOff x="5754600" y="4114800"/>
                  <a:chExt cx="907920" cy="91548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 flipV="1">
                    <a:off x="575460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620856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5910120" y="4273560"/>
                  <a:ext cx="596160" cy="597960"/>
                  <a:chOff x="5910120" y="4273560"/>
                  <a:chExt cx="596160" cy="59796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>
                    <a:off x="5910120" y="473040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6366960" y="473040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5910120" y="427356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6366960" y="427356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3" name=""/>
              <p:cNvSpPr/>
              <p:nvPr/>
            </p:nvSpPr>
            <p:spPr>
              <a:xfrm>
                <a:off x="5759280" y="5021280"/>
                <a:ext cx="90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Q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805440" y="4114800"/>
              <a:ext cx="1058400" cy="1305360"/>
              <a:chOff x="6805440" y="4114800"/>
              <a:chExt cx="1058400" cy="130536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6879960" y="4114800"/>
                <a:ext cx="907920" cy="915480"/>
                <a:chOff x="6879960" y="4114800"/>
                <a:chExt cx="907920" cy="91548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6879960" y="4114800"/>
                  <a:ext cx="907920" cy="915480"/>
                  <a:chOff x="6879960" y="4114800"/>
                  <a:chExt cx="907920" cy="91548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687996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733392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6921360" y="4159080"/>
                  <a:ext cx="825480" cy="827280"/>
                  <a:chOff x="6921360" y="4159080"/>
                  <a:chExt cx="825480" cy="8272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69213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73785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69213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73785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69213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73785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69213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73785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71499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76071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71499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76071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71499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76071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71499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76071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46" name=""/>
              <p:cNvSpPr/>
              <p:nvPr/>
            </p:nvSpPr>
            <p:spPr>
              <a:xfrm>
                <a:off x="6805440" y="502128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16QA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7912080" y="4114800"/>
              <a:ext cx="1058400" cy="1305360"/>
              <a:chOff x="7912080" y="4114800"/>
              <a:chExt cx="1058400" cy="13053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7988040" y="4114800"/>
                <a:ext cx="907920" cy="915480"/>
                <a:chOff x="7988040" y="4114800"/>
                <a:chExt cx="907920" cy="915480"/>
              </a:xfrm>
            </p:grpSpPr>
            <p:grpSp>
              <p:nvGrpSpPr>
                <p:cNvPr id="349" name=""/>
                <p:cNvGrpSpPr/>
                <p:nvPr/>
              </p:nvGrpSpPr>
              <p:grpSpPr>
                <a:xfrm>
                  <a:off x="8005320" y="4132080"/>
                  <a:ext cx="874800" cy="880920"/>
                  <a:chOff x="8005320" y="4132080"/>
                  <a:chExt cx="874800" cy="88092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80053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84625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82339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86911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81198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5770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83484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8807040" y="48240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80053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84625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82339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86911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81198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85770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83484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880704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80053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625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82339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86911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81198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85770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83484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8807040" y="45921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80053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84625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82339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86911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81198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85770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83484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880704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80053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84625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82339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86911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81198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85770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83484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880704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80053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84625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82339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86911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81198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85770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83484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880704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80053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84625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82339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86911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81198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85770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83484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880704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80053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84625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82339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86911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81198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85770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83484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880704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4" name=""/>
                <p:cNvGrpSpPr/>
                <p:nvPr/>
              </p:nvGrpSpPr>
              <p:grpSpPr>
                <a:xfrm>
                  <a:off x="7988040" y="4114800"/>
                  <a:ext cx="907920" cy="915480"/>
                  <a:chOff x="7988040" y="4114800"/>
                  <a:chExt cx="907920" cy="91548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 flipV="1">
                    <a:off x="798804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844200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17" name=""/>
              <p:cNvSpPr/>
              <p:nvPr/>
            </p:nvSpPr>
            <p:spPr>
              <a:xfrm>
                <a:off x="7912080" y="502128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64QA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4564440" y="5389560"/>
            <a:ext cx="44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/2, 2/3, 3/4-rate convolutional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1687200">
            <a:off x="5133600" y="356076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21147000">
            <a:off x="5971680" y="354780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1589400">
            <a:off x="7356600" y="352224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rot="20269200">
            <a:off x="8153280" y="35146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58720" y="5942160"/>
            <a:ext cx="8086680" cy="459720"/>
            <a:chOff x="558720" y="5942160"/>
            <a:chExt cx="8086680" cy="459720"/>
          </a:xfrm>
        </p:grpSpPr>
        <p:sp>
          <p:nvSpPr>
            <p:cNvPr id="424" name=""/>
            <p:cNvSpPr/>
            <p:nvPr/>
          </p:nvSpPr>
          <p:spPr>
            <a:xfrm>
              <a:off x="558720" y="5942160"/>
              <a:ext cx="3289320" cy="459720"/>
            </a:xfrm>
            <a:prstGeom prst="rect">
              <a:avLst/>
            </a:prstGeom>
            <a:solidFill>
              <a:srgbClr val="15bde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</a:rPr>
                <a:t>Reduced complex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948200" y="5942160"/>
              <a:ext cx="3697200" cy="459720"/>
            </a:xfrm>
            <a:prstGeom prst="rect">
              <a:avLst/>
            </a:prstGeom>
            <a:solidFill>
              <a:srgbClr val="15bde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</a:rPr>
                <a:t>Increased perform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1205640" y="4121280"/>
            <a:ext cx="2037600" cy="1305360"/>
            <a:chOff x="1205640" y="4121280"/>
            <a:chExt cx="2037600" cy="1305360"/>
          </a:xfrm>
        </p:grpSpPr>
        <p:grpSp>
          <p:nvGrpSpPr>
            <p:cNvPr id="427" name=""/>
            <p:cNvGrpSpPr/>
            <p:nvPr/>
          </p:nvGrpSpPr>
          <p:grpSpPr>
            <a:xfrm>
              <a:off x="1205640" y="4121280"/>
              <a:ext cx="915120" cy="1305360"/>
              <a:chOff x="1205640" y="4121280"/>
              <a:chExt cx="915120" cy="130536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1212840" y="4121280"/>
                <a:ext cx="907920" cy="915480"/>
                <a:chOff x="1212840" y="4121280"/>
                <a:chExt cx="907920" cy="915480"/>
              </a:xfrm>
            </p:grpSpPr>
            <p:grpSp>
              <p:nvGrpSpPr>
                <p:cNvPr id="429" name=""/>
                <p:cNvGrpSpPr/>
                <p:nvPr/>
              </p:nvGrpSpPr>
              <p:grpSpPr>
                <a:xfrm>
                  <a:off x="1212840" y="4121280"/>
                  <a:ext cx="907920" cy="915480"/>
                  <a:chOff x="1212840" y="4121280"/>
                  <a:chExt cx="907920" cy="91548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 flipV="1">
                    <a:off x="1212840" y="457740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1666800" y="412128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2" name=""/>
                <p:cNvGrpSpPr/>
                <p:nvPr/>
              </p:nvGrpSpPr>
              <p:grpSpPr>
                <a:xfrm>
                  <a:off x="1298520" y="4508640"/>
                  <a:ext cx="736560" cy="141120"/>
                  <a:chOff x="1298520" y="4508640"/>
                  <a:chExt cx="736560" cy="14112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1298520" y="450864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1895400" y="450864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35" name=""/>
              <p:cNvSpPr/>
              <p:nvPr/>
            </p:nvSpPr>
            <p:spPr>
              <a:xfrm>
                <a:off x="1205640" y="5027760"/>
                <a:ext cx="88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B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2335320" y="4121280"/>
              <a:ext cx="907920" cy="1305360"/>
              <a:chOff x="2335320" y="4121280"/>
              <a:chExt cx="907920" cy="1305360"/>
            </a:xfrm>
          </p:grpSpPr>
          <p:grpSp>
            <p:nvGrpSpPr>
              <p:cNvPr id="437" name=""/>
              <p:cNvGrpSpPr/>
              <p:nvPr/>
            </p:nvGrpSpPr>
            <p:grpSpPr>
              <a:xfrm>
                <a:off x="2335320" y="4121280"/>
                <a:ext cx="907920" cy="915480"/>
                <a:chOff x="2335320" y="4121280"/>
                <a:chExt cx="907920" cy="915480"/>
              </a:xfrm>
            </p:grpSpPr>
            <p:grpSp>
              <p:nvGrpSpPr>
                <p:cNvPr id="438" name=""/>
                <p:cNvGrpSpPr/>
                <p:nvPr/>
              </p:nvGrpSpPr>
              <p:grpSpPr>
                <a:xfrm>
                  <a:off x="2335320" y="4121280"/>
                  <a:ext cx="907920" cy="915480"/>
                  <a:chOff x="2335320" y="4121280"/>
                  <a:chExt cx="907920" cy="91548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flipV="1">
                    <a:off x="2335320" y="457740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2789280" y="412128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1" name=""/>
                <p:cNvGrpSpPr/>
                <p:nvPr/>
              </p:nvGrpSpPr>
              <p:grpSpPr>
                <a:xfrm>
                  <a:off x="2490840" y="4280040"/>
                  <a:ext cx="596160" cy="597960"/>
                  <a:chOff x="2490840" y="4280040"/>
                  <a:chExt cx="596160" cy="59796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2490840" y="473688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2947680" y="473688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2490840" y="428004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2947680" y="428004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46" name=""/>
              <p:cNvSpPr/>
              <p:nvPr/>
            </p:nvSpPr>
            <p:spPr>
              <a:xfrm>
                <a:off x="2340000" y="5027760"/>
                <a:ext cx="90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Q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7" name=""/>
          <p:cNvGrpSpPr/>
          <p:nvPr/>
        </p:nvGrpSpPr>
        <p:grpSpPr>
          <a:xfrm>
            <a:off x="633240" y="2792520"/>
            <a:ext cx="3469680" cy="545760"/>
            <a:chOff x="633240" y="2792520"/>
            <a:chExt cx="3469680" cy="545760"/>
          </a:xfrm>
        </p:grpSpPr>
        <p:sp>
          <p:nvSpPr>
            <p:cNvPr id="448" name=""/>
            <p:cNvSpPr/>
            <p:nvPr/>
          </p:nvSpPr>
          <p:spPr>
            <a:xfrm>
              <a:off x="633240" y="3065400"/>
              <a:ext cx="346968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33240" y="2792520"/>
              <a:ext cx="3469680" cy="545760"/>
            </a:xfrm>
            <a:custGeom>
              <a:avLst/>
              <a:gdLst/>
              <a:ahLst/>
              <a:rect l="l" t="t" r="r" b="b"/>
              <a:pathLst>
                <a:path w="1056" h="336">
                  <a:moveTo>
                    <a:pt x="0" y="0"/>
                  </a:moveTo>
                  <a:lnTo>
                    <a:pt x="96" y="0"/>
                  </a:lnTo>
                  <a:lnTo>
                    <a:pt x="96" y="336"/>
                  </a:lnTo>
                  <a:lnTo>
                    <a:pt x="192" y="336"/>
                  </a:lnTo>
                  <a:lnTo>
                    <a:pt x="192" y="0"/>
                  </a:lnTo>
                  <a:lnTo>
                    <a:pt x="384" y="0"/>
                  </a:lnTo>
                  <a:lnTo>
                    <a:pt x="384" y="336"/>
                  </a:lnTo>
                  <a:lnTo>
                    <a:pt x="480" y="336"/>
                  </a:lnTo>
                  <a:lnTo>
                    <a:pt x="480" y="0"/>
                  </a:lnTo>
                  <a:lnTo>
                    <a:pt x="768" y="0"/>
                  </a:lnTo>
                  <a:lnTo>
                    <a:pt x="768" y="336"/>
                  </a:lnTo>
                  <a:lnTo>
                    <a:pt x="1056" y="336"/>
                  </a:lnTo>
                </a:path>
              </a:pathLst>
            </a:custGeom>
            <a:noFill/>
            <a:ln w="3816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595440" y="3473280"/>
            <a:ext cx="3538440" cy="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595440" y="3398760"/>
            <a:ext cx="3538440" cy="155520"/>
            <a:chOff x="595440" y="3398760"/>
            <a:chExt cx="3538440" cy="155520"/>
          </a:xfrm>
        </p:grpSpPr>
        <p:sp>
          <p:nvSpPr>
            <p:cNvPr id="452" name=""/>
            <p:cNvSpPr/>
            <p:nvPr/>
          </p:nvSpPr>
          <p:spPr>
            <a:xfrm>
              <a:off x="595440" y="3398760"/>
              <a:ext cx="0" cy="1555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133880" y="3398760"/>
              <a:ext cx="0" cy="1555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 rot="20216400">
            <a:off x="905040" y="3664080"/>
            <a:ext cx="304560" cy="533160"/>
          </a:xfrm>
          <a:prstGeom prst="downArrow">
            <a:avLst>
              <a:gd name="adj1" fmla="val 50000"/>
              <a:gd name="adj2" fmla="val 43765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588800">
            <a:off x="3317760" y="35496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and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Gen W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8T03:19:41Z</dcterms:created>
  <dc:creator>Jeff Gilbert</dc:creator>
  <dc:description/>
  <dc:language>en-US</dc:language>
  <cp:lastModifiedBy>Sheung Li</cp:lastModifiedBy>
  <dcterms:modified xsi:type="dcterms:W3CDTF">2002-02-08T17:33:38Z</dcterms:modified>
  <cp:revision>618</cp:revision>
  <dc:subject>Wireless Internet 2001 Presentation</dc:subject>
  <dc:title>802.11a: A Real Networking Technology</dc:title>
</cp:coreProperties>
</file>