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39.wmf" ContentType="image/x-wmf"/>
  <Override PartName="/ppt/media/image32.png" ContentType="image/png"/>
  <Override PartName="/ppt/media/image35.png" ContentType="image/png"/>
  <Override PartName="/ppt/media/image37.png" ContentType="image/png"/>
  <Override PartName="/ppt/media/image34.jpeg" ContentType="image/jpeg"/>
  <Override PartName="/ppt/media/image36.png" ContentType="image/png"/>
  <Override PartName="/ppt/media/image8.wmf" ContentType="image/x-wmf"/>
  <Override PartName="/ppt/media/image33.jpeg" ContentType="image/jpeg"/>
  <Override PartName="/ppt/media/image5.wmf" ContentType="image/x-wmf"/>
  <Override PartName="/ppt/media/image38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31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2B2F-3465-4D32-947D-BE06945C2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B845-E6B7-4365-A188-2847DF8C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1BF4-4AF9-4EB9-9D8F-9ED484D1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D3C9-08C6-4937-8B8C-F1CE2E18D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E551-C1AE-42C7-BA27-C0FC3799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2204-ECDB-4A7E-BCF7-1BAF43A9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A5F4-6B65-4AD1-9C52-4B98203A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81F7-2FBA-42D6-906D-074E9B79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07CB-A9BD-4784-82DF-9D8A2140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8672-D621-4209-BF2D-DC8F1C87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3D7D-5F49-4925-9EAF-1298F88F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396E-7F68-41A9-8A7B-772DF5FB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DF7C-095A-4E22-9C5A-0F5BBFD0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9646-9376-4D52-825E-6B1FE8EA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9366-63BA-477E-81A8-528ADF3E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ADF9-B495-43E1-B2A1-B9086B673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57B3-F493-411F-A8D9-678520FB7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CC7F-923B-45FD-A03D-94CEBB9B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32CF-A0A5-4726-9206-F4D8748C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AF75-12AF-4B33-BF84-EB2587C7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9F3D-2E73-4E04-95AC-14B30516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5D17-A91A-4591-9369-65DBA123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379E-064A-46BE-9E5F-7AEF58F2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1F25-1FD2-4D05-8082-AA5A9A57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0708-AADE-4634-8112-1F1F5A4859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F5B1-5396-4942-9A74-3D6EB78DBC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-Commer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 W. Purb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@itb.ac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@indo.net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idang Aplikasi E-Com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523880"/>
          <a:ext cx="8686800" cy="53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686800" cy="53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luang &amp; Kendala E-Co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1828800"/>
          <a:ext cx="9144000" cy="48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Commerce Teori-nya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tifitas di Indo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ptualisasi Pengembangan Wilaya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s. Business - Custom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1828800"/>
          <a:ext cx="91440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s. Business - Busin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2057400"/>
          <a:ext cx="91440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57400"/>
                    <a:ext cx="91440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 (EDI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ksi text based melalui jaring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ksi standard dengan berbagai instans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v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ja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unci adalah database &amp; software EDI transla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o Whom EDI Can Be Used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king / fund transfer / credit / debit trans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stom; Legal 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rline / ticketing; Shipping / car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nder / contract; Purchase order; Invo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ob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cal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x; Reinsur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jor cost to move to ED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rchase EDI soft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act with a VAN service provider (or Internet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the data analysis needed to map information from their application systems into the EDI standard form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the programming required to create a file that can interface with EDI translation soft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base dibalik Web 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antangan Selanjutnya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Knowle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ing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laborative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ion L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1371600"/>
            <a:ext cx="4648320" cy="2971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.2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UN/EDIFAC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4724280" y="228600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4495680"/>
            <a:ext cx="99036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019920" y="2286000"/>
            <a:ext cx="1218960" cy="10666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4876920"/>
            <a:ext cx="1219320" cy="1218960"/>
          </a:xfrm>
          <a:prstGeom prst="diamond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6477120" y="4419720"/>
            <a:ext cx="99036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of EDI Mess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-Comm Teori-nya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of EDI Mess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521080" y="2139840"/>
            <a:ext cx="6540480" cy="3568680"/>
          </a:xfrm>
          <a:custGeom>
            <a:avLst/>
            <a:gdLst>
              <a:gd name="textAreaLeft" fmla="*/ 360 w 6540480"/>
              <a:gd name="textAreaRight" fmla="*/ 6541200 w 6540480"/>
              <a:gd name="textAreaTop" fmla="*/ 0 h 3568680"/>
              <a:gd name="textAreaBottom" fmla="*/ 3569040 h 356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CII Text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E-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Protect, 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ing PGP, PEM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 flipH="1" rot="10800000">
            <a:off x="767160" y="3663720"/>
            <a:ext cx="6769080" cy="250164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92520 h 2501640"/>
              <a:gd name="textAreaBottom" fmla="*/ 1998000 h 25016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ow The User to Connect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AN &amp; Inter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4121280" y="1682640"/>
            <a:ext cx="4940280" cy="2425680"/>
          </a:xfrm>
          <a:custGeom>
            <a:avLst/>
            <a:gdLst>
              <a:gd name="textAreaLeft" fmla="*/ 182880 w 4940280"/>
              <a:gd name="textAreaRight" fmla="*/ 4757400 w 4940280"/>
              <a:gd name="textAreaTop" fmla="*/ 89640 h 2425680"/>
              <a:gd name="textAreaBottom" fmla="*/ 1937160 h 2425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rewall To Prot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 flipH="1" rot="10800000">
            <a:off x="4730760" y="3359160"/>
            <a:ext cx="4330800" cy="2882880"/>
          </a:xfrm>
          <a:custGeom>
            <a:avLst/>
            <a:gdLst>
              <a:gd name="textAreaLeft" fmla="*/ 160200 w 4330800"/>
              <a:gd name="textAreaRight" fmla="*/ 4170600 w 4330800"/>
              <a:gd name="textAreaTop" fmla="*/ 106560 h 2882880"/>
              <a:gd name="textAreaBottom" fmla="*/ 2302560 h 2882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unneling 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eate Extra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Virtual VA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3968640" y="3206880"/>
            <a:ext cx="5092920" cy="2730240"/>
          </a:xfrm>
          <a:custGeom>
            <a:avLst/>
            <a:gdLst>
              <a:gd name="textAreaLeft" fmla="*/ 188640 w 5092920"/>
              <a:gd name="textAreaRight" fmla="*/ 4904640 w 5092920"/>
              <a:gd name="textAreaTop" fmla="*/ 100800 h 2730240"/>
              <a:gd name="textAreaBottom" fmla="*/ 2180520 h 2730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GP / PEM 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ed Pro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actical Implement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. Houser, J. Griffin &amp; C. Hage, “Request for Comments: 1865: EDI Meets the Internet - Frequently Asked Questions about Electronic Data Interchange (EDI) on the Internet”, January 1996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suk ke Internet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rvey Potens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&amp; Profile Us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419360" y="2666520"/>
            <a:ext cx="464796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ffic Web Indo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vey User Pro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079640" y="1994040"/>
          <a:ext cx="3014640" cy="37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994040"/>
                    <a:ext cx="3014640" cy="37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Traffic Web Indones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0-80% traffic datangnya dari / ke Indones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est informasi Web yang agak banyak datangnya dar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.com di Amerika Seri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.edu di Amerika Seri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.sg di Singapu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sar traffic Web  harian mencapai 80-100Mby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ategi Perdagang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ga Bersa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tu Tingg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tepatan Waktu sampai ke Pas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Profile User Hasil Sebuah Stud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arakteritik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ference and Perce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Sources &amp; Distribution Chan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du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842080" y="2454120"/>
          <a:ext cx="3089160" cy="430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080" y="2454120"/>
                    <a:ext cx="3089160" cy="43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mum Well Educated .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kar menemukan User Internet yang hanya berpendidikan SD :-)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 dominasi oleh P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mumnya single atau tidak punya ana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umnya Antara 25-35 Tahu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sih Relatif Mu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com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Amerika Serik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ata-rata US$ 65.000 per tah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Erop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ata-rata US$ 42.000 per tah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197320" y="4648320"/>
          <a:ext cx="3616560" cy="20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7320" y="4648320"/>
                    <a:ext cx="36165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149400" y="4560840"/>
          <a:ext cx="517824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9400" y="4560840"/>
                    <a:ext cx="517824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ipe Perusahaan Yang Akan di Untungk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lam Waktu Dek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erusahaan Kec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&lt;100 Pegawai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unci Keberhasil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65120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reativ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ustomizabil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onvenienc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5000760" y="2097000"/>
          <a:ext cx="3706560" cy="33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760" y="2097000"/>
                    <a:ext cx="3706560" cy="33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in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otal Customer Satisfa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ategi Umum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ategi Umu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 a competitive analysis and remember content is 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name of the game is the doma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n't waste your time, do a timel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spond, respond, respo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o on the circu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Offensive di Lapang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ada Indonesia Technology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disional vs Elektroni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lit promosi &amp; akses pas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timpangan persaingan dag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per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konomi biaya tinggi &amp; birokra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edu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ar kurang kompetit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kses pasar muda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nilaian independ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siasi &amp; penawaran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mudahan permintaan produk bar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ur informasi transpar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layanan interakt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nada Indonesia TechNet (CITN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power SMEs (Small Medium Enterpri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ucation, Research, NGO, Gov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adian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tn-ctn@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tnjkt@ibm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ITN - CTN Mapp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219320" y="1486080"/>
          <a:ext cx="7086600" cy="53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86080"/>
                    <a:ext cx="7086600" cy="53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ong-cilik@isnet.itb.ac.i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lman, RCTI, Bank, Dept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ong-cilik mapp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990720" y="1165320"/>
          <a:ext cx="8153280" cy="61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65320"/>
                    <a:ext cx="8153280" cy="61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AN Agriculture W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riculture@apan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Knowledge on Agricul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pporting Techno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und Card Packet Rad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00-9600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+ Sound Card +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home.pages.de/~flexnet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Internet: (Keywo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TT FlexNet via Seri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7" name="ptt_ser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53452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ycom Packet Rad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533520" y="1752480"/>
          <a:ext cx="8610480" cy="464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610480" cy="46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-3240" y="-3240"/>
          <a:ext cx="9074160" cy="678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881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ADI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ADIO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ed Web Ac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3.6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Windows / Linux / FreeBSD +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Internet: (Keywo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g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 Shared Web Ac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0" y="2514600"/>
          <a:ext cx="8839080" cy="27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14600"/>
                    <a:ext cx="883908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rtual Ho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3.6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Windows / Linux / FreeBSD +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Internet: (Keywo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g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i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rtual Ho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04920" y="1600200"/>
          <a:ext cx="883908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83908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veLAN CDM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-10 km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in Router + Ethernet connec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hydra.carleton.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veLAN (CDMA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0" y="1774800"/>
          <a:ext cx="9144000" cy="50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4800"/>
                    <a:ext cx="914400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81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ational Tra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62120" y="1504800"/>
          <a:ext cx="8076960" cy="5353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04800"/>
                    <a:ext cx="8076960" cy="5353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mateur Packet Satelli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FOTO-13" descr="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6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FOT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Telepho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Telepho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0" name="ipfax_white1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Call Wai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2" name="ipfax_white3" descr=""/>
          <p:cNvPicPr/>
          <p:nvPr/>
        </p:nvPicPr>
        <p:blipFill>
          <a:blip r:embed="rId1"/>
          <a:stretch/>
        </p:blipFill>
        <p:spPr>
          <a:xfrm>
            <a:off x="380880" y="1625760"/>
            <a:ext cx="845820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4" name="ip5_dialer" descr=""/>
          <p:cNvPicPr/>
          <p:nvPr/>
        </p:nvPicPr>
        <p:blipFill>
          <a:blip r:embed="rId1"/>
          <a:stretch/>
        </p:blipFill>
        <p:spPr>
          <a:xfrm>
            <a:off x="6006960" y="0"/>
            <a:ext cx="313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-Commerce Glob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66680" y="1674720"/>
          <a:ext cx="7315200" cy="51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4720"/>
                    <a:ext cx="7315200" cy="5183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7e988b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deo Confere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6" name="ip5_scrnphone" descr=""/>
          <p:cNvPicPr/>
          <p:nvPr/>
        </p:nvPicPr>
        <p:blipFill>
          <a:blip r:embed="rId1"/>
          <a:stretch/>
        </p:blipFill>
        <p:spPr>
          <a:xfrm>
            <a:off x="5857920" y="0"/>
            <a:ext cx="328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onseptualisasi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3892680" y="1911240"/>
            <a:ext cx="5168880" cy="341640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126360 h 3416400"/>
              <a:gd name="textAreaBottom" fmla="*/ 2728440 h 3416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mbangunan Bertum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da Gerakan Bottom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 Koperasi-Koper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1758960" y="2063880"/>
            <a:ext cx="6921360" cy="3568680"/>
          </a:xfrm>
          <a:custGeom>
            <a:avLst/>
            <a:gdLst>
              <a:gd name="textAreaLeft" fmla="*/ 256320 w 6921360"/>
              <a:gd name="textAreaRight" fmla="*/ 6665040 w 6921360"/>
              <a:gd name="textAreaTop" fmla="*/ 132120 h 3568680"/>
              <a:gd name="textAreaBottom" fmla="*/ 2850120 h 3568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danya Sistem Inform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mudahkan Interl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tar Koper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4425840" y="387360"/>
            <a:ext cx="4635720" cy="3645000"/>
          </a:xfrm>
          <a:custGeom>
            <a:avLst/>
            <a:gdLst>
              <a:gd name="textAreaLeft" fmla="*/ 171360 w 4635720"/>
              <a:gd name="textAreaRight" fmla="*/ 4464360 w 4635720"/>
              <a:gd name="textAreaTop" fmla="*/ 135000 h 3645000"/>
              <a:gd name="textAreaBottom" fmla="*/ 2910960 h 36450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teraksi Deng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stem Di Atasny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njadi lebih mud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1835280" y="6480"/>
            <a:ext cx="6769080" cy="257796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95400 h 2577960"/>
              <a:gd name="textAreaBottom" fmla="*/ 2058840 h 25779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istem Ekonomi Nas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3892680" y="6480"/>
            <a:ext cx="5168880" cy="265428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98280 h 2654280"/>
              <a:gd name="textAreaBottom" fmla="*/ 2119680 h 26542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eographics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 flipH="1">
            <a:off x="81720" y="6480"/>
            <a:ext cx="6769080" cy="242568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89640 h 2425680"/>
              <a:gd name="textAreaBottom" fmla="*/ 1937160 h 2425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and Information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 rot="16200000">
            <a:off x="-69480" y="2825280"/>
            <a:ext cx="2501640" cy="2349360"/>
          </a:xfrm>
          <a:prstGeom prst="rightArrow">
            <a:avLst>
              <a:gd name="adj1" fmla="val 50000"/>
              <a:gd name="adj2" fmla="val 53245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2368440" y="1378080"/>
            <a:ext cx="6693120" cy="5244840"/>
          </a:xfrm>
          <a:custGeom>
            <a:avLst/>
            <a:gdLst>
              <a:gd name="textAreaLeft" fmla="*/ 360 w 6693120"/>
              <a:gd name="textAreaRight" fmla="*/ 6693840 w 6693120"/>
              <a:gd name="textAreaTop" fmla="*/ 0 h 5244840"/>
              <a:gd name="textAreaBottom" fmla="*/ 5245200 h 524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imasi Tingkat Bunga Yang A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rilaku Masyarakat Dal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nggunaan Sumber Daya Lok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okasi Dana Tingkat Kelu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udy Pola Investa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ase Inovasi E-Commer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ation: penghematan biay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sion:peningkatan performan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: nilai tambah ba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2133720"/>
          <a:ext cx="7084800" cy="52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0848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 flipH="1" rot="16200000">
            <a:off x="-546840" y="2844720"/>
            <a:ext cx="3492360" cy="2311560"/>
          </a:xfrm>
          <a:prstGeom prst="rightArrow">
            <a:avLst>
              <a:gd name="adj1" fmla="val 50000"/>
              <a:gd name="adj2" fmla="val 75548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521080" y="463680"/>
            <a:ext cx="6387840" cy="6311880"/>
          </a:xfrm>
          <a:custGeom>
            <a:avLst/>
            <a:gdLst>
              <a:gd name="textAreaLeft" fmla="*/ 360 w 6387840"/>
              <a:gd name="textAreaRight" fmla="*/ 6388560 w 6387840"/>
              <a:gd name="textAreaTop" fmla="*/ 0 h 6311880"/>
              <a:gd name="textAreaBottom" fmla="*/ 6312240 h 631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sar Komodi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ulasi &amp; Peratur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knologi Tepat Gu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akwa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formasi Management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gan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re Patter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ople Networ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Empower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and Crea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Technology Supp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9T09:48:31Z</dcterms:created>
  <dc:creator>Onno W. Purbo</dc:creator>
  <dc:description/>
  <dc:language>en-US</dc:language>
  <cp:lastModifiedBy>Onno W. Purbo</cp:lastModifiedBy>
  <dcterms:modified xsi:type="dcterms:W3CDTF">1999-06-29T02:23:48Z</dcterms:modified>
  <cp:revision>24</cp:revision>
  <dc:subject/>
  <dc:title>No Slide Title</dc:title>
</cp:coreProperties>
</file>