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522E-FB32-44D6-8A45-E70E6D67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BC92-C86F-4670-9ADF-10A5F245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8A62-8B20-4A18-9F5B-889FB913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4E2-0A8E-4B01-B4E4-F3A306D3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F902-0BD2-4F5D-BAB6-84B5260A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173B-7FB1-4F5B-BE18-0A627FC0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3CFE-9E96-4B2F-83CF-F41C70A8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47A2-3EA3-49DE-ABB9-33983711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21D5-0CB6-4EF4-9CB5-0687CE3F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6051-B0CA-4277-B59A-7B776532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1044-7E0C-48ED-B1A7-DA6055C1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EC86-8078-4C9C-B8E3-7F51AD33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4F55-122D-40C4-94BD-105B0FF1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FCA6-CA27-469B-A9BE-44E3E2FD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7840-1404-44FF-91DE-C19C5C34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ED17-EF59-4640-BCC4-BC2C1C73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7481-BD10-4E73-A6B5-DCDE8FDD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850-E13A-43FA-B2E9-9039794D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C41-82B9-497F-AF0C-CF4815E2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B03D-B11D-48E4-8964-987DCBA0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E913-8540-48F2-AE39-99CE71CE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9536-71D7-4833-9D1E-FA5C570C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8EB-9FD4-468C-B9D0-382901EE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D2B-7069-4291-AC61-1586F64D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16AF-BC6F-4B40-902F-ABCABAF41E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4665-F69D-465D-A09E-5C3A46E10B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ndonesia-panel@itb.ac.id" TargetMode="External"/><Relationship Id="rId2" Type="http://schemas.openxmlformats.org/officeDocument/2006/relationships/hyperlink" Target="http://www.mdaemon.com/" TargetMode="External"/><Relationship Id="rId3" Type="http://schemas.openxmlformats.org/officeDocument/2006/relationships/hyperlink" Target="http://www.wingate.com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mailto:onno@indo.net.id" TargetMode="External"/><Relationship Id="rId2" Type="http://schemas.openxmlformats.org/officeDocument/2006/relationships/hyperlink" Target="mailto:onno@itb.ac.id" TargetMode="External"/><Relationship Id="rId3" Type="http://schemas.openxmlformats.org/officeDocument/2006/relationships/hyperlink" Target="mailto:onno@itb.ac.id" TargetMode="External"/><Relationship Id="rId4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&amp; Web Mur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I3/IT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dak perlu registr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ge langsung ke telepon b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Brow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Perlu akal-akalan utk E-mail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Bandung / Jakarta – 1Mbyte / 5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0-1000 e-mail / 5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kup 5-10 menit / hari utk satu institusi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Ujung Pandang – 400Kbyte / 7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p. 50-200.000 / bulan / institusi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Dial 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ai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-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al1" descr=""/>
          <p:cNvPicPr/>
          <p:nvPr/>
        </p:nvPicPr>
        <p:blipFill>
          <a:blip r:embed="rId1"/>
          <a:stretch/>
        </p:blipFill>
        <p:spPr>
          <a:xfrm>
            <a:off x="685800" y="15840"/>
            <a:ext cx="84582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l5" descr=""/>
          <p:cNvPicPr/>
          <p:nvPr/>
        </p:nvPicPr>
        <p:blipFill>
          <a:blip r:embed="rId1"/>
          <a:stretch/>
        </p:blipFill>
        <p:spPr>
          <a:xfrm>
            <a:off x="2362320" y="0"/>
            <a:ext cx="65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dial2" descr=""/>
          <p:cNvPicPr/>
          <p:nvPr/>
        </p:nvPicPr>
        <p:blipFill>
          <a:blip r:embed="rId1"/>
          <a:stretch/>
        </p:blipFill>
        <p:spPr>
          <a:xfrm>
            <a:off x="838080" y="-27000"/>
            <a:ext cx="83059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rung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Access Ce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letakan di konsentrasi mas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kol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guruan Tingg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sant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rget Biay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0.000 / bulan untuk e-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0-1000 mail / h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5-7.000 / jam untuk We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~ 1-2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www.mdaemon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http://www.wingat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iness Overview (x Rp. jut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2743200"/>
          <a:ext cx="7812000" cy="2076480"/>
        </p:xfrm>
        <a:graphic>
          <a:graphicData uri="http://schemas.openxmlformats.org/drawingml/2006/table">
            <a:tbl>
              <a:tblPr/>
              <a:tblGrid>
                <a:gridCol w="2717640"/>
                <a:gridCol w="1301760"/>
                <a:gridCol w="1225800"/>
                <a:gridCol w="1377720"/>
                <a:gridCol w="118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-mail 300 u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10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3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Detail –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disi U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asi Rp. 21 ju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-300 penggu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-2000 mail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-15 menit connect ke ISP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itung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 user x Rp.10.000/bln = Rp.3 juta/b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 mnt/hr x Rp.150/mnt x 30 = Rp.70.000/bl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mbahan Operasional Rp. 1 juta / bu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sa uang Rp. 2 juta / bulan utk balik mod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 Lebih Lanj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eknologi Warung Interne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CP/IP Disain &amp; Implementasi”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9 January 2000 – Seminar / workshop WARNET di I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ingate-password" descr=""/>
          <p:cNvPicPr/>
          <p:nvPr/>
        </p:nvPicPr>
        <p:blipFill>
          <a:blip r:embed="rId1"/>
          <a:stretch/>
        </p:blipFill>
        <p:spPr>
          <a:xfrm>
            <a:off x="1295280" y="-6480"/>
            <a:ext cx="78487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ingate-servic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ingate-syste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wingate-dialer" descr=""/>
          <p:cNvPicPr/>
          <p:nvPr/>
        </p:nvPicPr>
        <p:blipFill>
          <a:blip r:embed="rId1"/>
          <a:stretch/>
        </p:blipFill>
        <p:spPr>
          <a:xfrm>
            <a:off x="2543040" y="0"/>
            <a:ext cx="660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kusi di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IE 5.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e-connection" descr=""/>
          <p:cNvPicPr/>
          <p:nvPr/>
        </p:nvPicPr>
        <p:blipFill>
          <a:blip r:embed="rId1"/>
          <a:stretch/>
        </p:blipFill>
        <p:spPr>
          <a:xfrm>
            <a:off x="2984400" y="0"/>
            <a:ext cx="615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e-proxy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kuensi 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c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E-mail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Web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a Alternati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Servis ET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666880"/>
            <a:ext cx="342900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RN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TRN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um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a sebuah institu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al sebuah PC window 95 / 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kur-sukur ada beberapa komputer (dalam dikaitkan dalam LA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 sebuah PC Windows95 + modem sebagai gateway k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DomainP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666880"/>
            <a:ext cx="518148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X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X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ntuk MDaem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mdaemon-hom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ses Web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blikasi Home Page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unikasi E-mai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Komunikasi E-mail jauh lebih penting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mdaemon-setup-ras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mdaemon-setup-isp-logon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mademon-schedul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mdaemon-system-daem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mdaemon-domain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/windows/h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7.0.0.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3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nesha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21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32.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6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juna.telkom.co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15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1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2.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2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mdaemon-setup-etrn-dequeue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mdaemon-account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ber Daya Man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d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ahli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Sedikit $$$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ima kasi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1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2"/>
              </a:rPr>
              <a:t>onno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3"/>
              </a:rPr>
              <a:t>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stakawan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-network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elit VSAT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sed Line JAMUS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LAN Microwave (2-11 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pon (33.6 K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 radio (1200bps - 9600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um pernah akses Interne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ganan IS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 TelkomNet Instant – 0809 8 9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abaya, Malang, Madi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ka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jung Pand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g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jarma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6T00:47:54Z</dcterms:created>
  <dc:creator>Onno W. Purbo</dc:creator>
  <dc:description/>
  <dc:language>en-US</dc:language>
  <cp:lastModifiedBy>Onno W. Purbo</cp:lastModifiedBy>
  <dcterms:modified xsi:type="dcterms:W3CDTF">2000-03-16T11:37:25Z</dcterms:modified>
  <cp:revision>79</cp:revision>
  <dc:subject/>
  <dc:title>Akses E-mail &amp; Web Murah</dc:title>
</cp:coreProperties>
</file>