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EAC9A5-50F0-461D-ADE0-CE414A1B2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B84D3-E2F8-40C1-8B89-D88EF348FE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CBB1A99F-4745-4A04-B8E5-31C04F2BB6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AB29FB05-7AB9-4B34-BCA7-7A1738E115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CD766191-257F-48C6-9621-B5705BCCE8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AB6A4C-F9CB-4505-B5D4-F7DEAA6457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EEB8CE-DF23-4B89-815A-2799B7946F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F12E80-3585-4139-AEAE-F111BB2414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EF8D9D6D-4E3E-4AEF-94DB-B0B2661C4D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36E3A4C6-6156-4792-8EB7-B8811F9C17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20822736-9F28-4164-A083-F75574A1F8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2D5241B0-DC98-4233-A16E-877D18911C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0856AC5-5D89-46CA-B6AE-29D2E65132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AF4A4AE6-4BB1-44C1-8217-B4E1EFE4EB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F55CDED7-484C-4E88-95D3-3AC6AFFD85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4AD6ADB2-E6E9-4C4C-BDB5-C8EDBE6F2F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4CC67038-AFCC-4622-AB94-93E7FB55D4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BC2F52FD-D33D-4ED7-AE6E-2DB9973568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5B1582B-2ABF-43FE-8844-1A3F97FAC5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9E957D6-C5C8-412C-8A25-6498482F03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7BE91376-13F8-4303-9E74-4039B90F51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23E0B46-F1DC-437E-BF22-27A7F6EBC7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AEE66D0-7929-450A-BFBF-5A904A6981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8F34604-4121-4142-A2AB-75EA34BAF1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92D04E9-EF69-467D-8E4C-ECD75B5336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F76A-C730-4776-832D-607EB054C792}"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ECC5-40D1-479C-AECF-2E2650D0F367}"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6B5A-7E48-4433-ADAA-8022FB8D614B}" type="datetime3">
              <a:rPr b="0" lang="en-US" sz="2800" spc="-1" strike="noStrike">
                <a:solidFill>
                  <a:srgbClr val="ffffff"/>
                </a:solidFill>
                <a:latin typeface="Arial"/>
              </a:rPr>
              <a:t>July 30,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F1BF832-98D0-43D0-A372-6DCA283D30CF}"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3AD3F5D-70C2-4629-87F4-402F4E3BB3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ED53C6C2-D29C-4997-8ADF-0A094E6728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EF88925-F949-46D9-91FD-A401C7ACC1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A6A4CF3-B861-4D3A-8B86-8342E88829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9E67190-F73A-464B-9C1B-A984E079D5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BF63884-790F-4B77-9471-9AA643C587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E8E7DA7-15CF-4735-8447-38129B3ECC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209B2C4-8D53-46D3-B939-20B1D034D7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FD381A3-D3E9-430C-96DC-985B2A99C5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1E55A84-231D-48D6-B9C0-8B355E20DB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8BCD4EB7-5592-4921-842E-9A70F04810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22F689E-AEBF-477A-990D-823467327E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40515154-D535-47DC-AD8B-431E7C999777}"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4B406EE-C919-4C2B-8BCF-99CC8BC8A6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869B2FC4-252F-42C9-801D-5165BB7F58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34CE6314-1939-44D0-BA1D-B3B69EA2DC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646A4DBA-9DD2-4136-A845-B22706C289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41AFF9FE-5EC7-400B-8115-1699F6C097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CA52417-CF8E-4C64-813D-E79EE9085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AD95F29-C468-4E0D-A8D3-2B933CCCB2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