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33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35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49.jpeg" ContentType="image/jpeg"/>
  <Override PartName="/ppt/media/image32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19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50819-8B4A-4F0F-B33F-030BF35B7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F9867-AE21-42E1-BC9F-49D1D7448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73707-2F72-4DAE-9763-1E6513D3C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CA8BE-0791-40EB-8ADA-C04A5C60F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20B76-8AF7-438C-A453-8183DD577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A2849-22AE-4F26-9B57-87F1D2025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8A4E9-83C6-4B32-8418-7442AC4CF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2B0F0-8293-49DB-BD15-33CF7D076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9CA07-6AB3-41D8-84EA-6D1A4FD60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697CD-0CDA-4303-854E-7E2AA78F4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31E57-E17C-42B7-8A1E-9A80FBCE50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5B945-F72F-4BEA-8BB4-A0CEE940D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7543800" y="5943600"/>
              <a:ext cx="1295280" cy="70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543360"/>
            <a:ext cx="9144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7566-F32D-4A67-9BC7-3B0222BD814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0" y="5952960"/>
          <a:ext cx="9142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" y="5952960"/>
                    <a:ext cx="9142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3com.com/wireless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orinocowireless.com/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alcatel.com/" TargetMode="External"/><Relationship Id="rId9" Type="http://schemas.openxmlformats.org/officeDocument/2006/relationships/image" Target="../media/image15.png"/><Relationship Id="rId10" Type="http://schemas.openxmlformats.org/officeDocument/2006/relationships/hyperlink" Target="http://www.alvarion.com/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http://www.amd.com/" TargetMode="External"/><Relationship Id="rId13" Type="http://schemas.openxmlformats.org/officeDocument/2006/relationships/image" Target="../media/image17.jpeg"/><Relationship Id="rId14" Type="http://schemas.openxmlformats.org/officeDocument/2006/relationships/hyperlink" Target="http://www.apple.com/" TargetMode="External"/><Relationship Id="rId15" Type="http://schemas.openxmlformats.org/officeDocument/2006/relationships/image" Target="../media/image18.jpeg"/><Relationship Id="rId16" Type="http://schemas.openxmlformats.org/officeDocument/2006/relationships/hyperlink" Target="http://www.atheros.com/" TargetMode="External"/><Relationship Id="rId17" Type="http://schemas.openxmlformats.org/officeDocument/2006/relationships/image" Target="../media/image19.jpeg"/><Relationship Id="rId18" Type="http://schemas.openxmlformats.org/officeDocument/2006/relationships/hyperlink" Target="http://www.broadcom.com/" TargetMode="External"/><Relationship Id="rId19" Type="http://schemas.openxmlformats.org/officeDocument/2006/relationships/image" Target="../media/image20.png"/><Relationship Id="rId20" Type="http://schemas.openxmlformats.org/officeDocument/2006/relationships/hyperlink" Target="http://www.cirrus.com/wireless" TargetMode="External"/><Relationship Id="rId21" Type="http://schemas.openxmlformats.org/officeDocument/2006/relationships/image" Target="../media/image21.jpeg"/><Relationship Id="rId22" Type="http://schemas.openxmlformats.org/officeDocument/2006/relationships/hyperlink" Target="http://www.cisco.com/go/wireless_networking" TargetMode="External"/><Relationship Id="rId23" Type="http://schemas.openxmlformats.org/officeDocument/2006/relationships/image" Target="../media/image22.png"/><Relationship Id="rId24" Type="http://schemas.openxmlformats.org/officeDocument/2006/relationships/hyperlink" Target="http://www.compaq.com/products/wlan/index.html" TargetMode="External"/><Relationship Id="rId25" Type="http://schemas.openxmlformats.org/officeDocument/2006/relationships/image" Target="../media/image23.jpeg"/><Relationship Id="rId26" Type="http://schemas.openxmlformats.org/officeDocument/2006/relationships/hyperlink" Target="http://www.conexant.com/" TargetMode="External"/><Relationship Id="rId27" Type="http://schemas.openxmlformats.org/officeDocument/2006/relationships/image" Target="../media/image24.jpeg"/><Relationship Id="rId28" Type="http://schemas.openxmlformats.org/officeDocument/2006/relationships/hyperlink" Target="http://www.dlink.com/" TargetMode="External"/><Relationship Id="rId29" Type="http://schemas.openxmlformats.org/officeDocument/2006/relationships/image" Target="../media/image25.jpeg"/><Relationship Id="rId30" Type="http://schemas.openxmlformats.org/officeDocument/2006/relationships/hyperlink" Target="http://www.enterasys.com/wireless" TargetMode="External"/><Relationship Id="rId31" Type="http://schemas.openxmlformats.org/officeDocument/2006/relationships/image" Target="../media/image26.jpeg"/><Relationship Id="rId32" Type="http://schemas.openxmlformats.org/officeDocument/2006/relationships/hyperlink" Target="http://www.ericsson-webcom.com/" TargetMode="External"/><Relationship Id="rId33" Type="http://schemas.openxmlformats.org/officeDocument/2006/relationships/image" Target="../media/image27.jpeg"/><Relationship Id="rId34" Type="http://schemas.openxmlformats.org/officeDocument/2006/relationships/hyperlink" Target="http://www.fujitsu.com/" TargetMode="External"/><Relationship Id="rId35" Type="http://schemas.openxmlformats.org/officeDocument/2006/relationships/image" Target="../media/image28.jpeg"/><Relationship Id="rId36" Type="http://schemas.openxmlformats.org/officeDocument/2006/relationships/hyperlink" Target="http://www.hp.com/" TargetMode="External"/><Relationship Id="rId37" Type="http://schemas.openxmlformats.org/officeDocument/2006/relationships/image" Target="../media/image29.jpeg"/><Relationship Id="rId38" Type="http://schemas.openxmlformats.org/officeDocument/2006/relationships/hyperlink" Target="http://www.ibm.com/" TargetMode="External"/><Relationship Id="rId39" Type="http://schemas.openxmlformats.org/officeDocument/2006/relationships/image" Target="../media/image30.jpeg"/><Relationship Id="rId40" Type="http://schemas.openxmlformats.org/officeDocument/2006/relationships/hyperlink" Target="http://www.intel.com/" TargetMode="External"/><Relationship Id="rId41" Type="http://schemas.openxmlformats.org/officeDocument/2006/relationships/image" Target="../media/image31.jpeg"/><Relationship Id="rId42" Type="http://schemas.openxmlformats.org/officeDocument/2006/relationships/hyperlink" Target="http://www.intersil.com/design/prism/" TargetMode="External"/><Relationship Id="rId43" Type="http://schemas.openxmlformats.org/officeDocument/2006/relationships/image" Target="../media/image32.jpeg"/><Relationship Id="rId44" Type="http://schemas.openxmlformats.org/officeDocument/2006/relationships/hyperlink" Target="http://www.lgnetwork.com/" TargetMode="External"/><Relationship Id="rId45" Type="http://schemas.openxmlformats.org/officeDocument/2006/relationships/image" Target="../media/image33.jpeg"/><Relationship Id="rId46" Type="http://schemas.openxmlformats.org/officeDocument/2006/relationships/hyperlink" Target="http://www.linksys.com/" TargetMode="External"/><Relationship Id="rId47" Type="http://schemas.openxmlformats.org/officeDocument/2006/relationships/image" Target="../media/image34.jpeg"/><Relationship Id="rId48" Type="http://schemas.openxmlformats.org/officeDocument/2006/relationships/hyperlink" Target="http://www.lucent.com/" TargetMode="External"/><Relationship Id="rId49" Type="http://schemas.openxmlformats.org/officeDocument/2006/relationships/image" Target="../media/image35.jpeg"/><Relationship Id="rId50" Type="http://schemas.openxmlformats.org/officeDocument/2006/relationships/hyperlink" Target="http://www.microsoft.com/" TargetMode="External"/><Relationship Id="rId51" Type="http://schemas.openxmlformats.org/officeDocument/2006/relationships/image" Target="../media/image36.jpeg"/><Relationship Id="rId52" Type="http://schemas.openxmlformats.org/officeDocument/2006/relationships/hyperlink" Target="http://www.motorola.com/" TargetMode="External"/><Relationship Id="rId53" Type="http://schemas.openxmlformats.org/officeDocument/2006/relationships/image" Target="../media/image37.jpeg"/><Relationship Id="rId54" Type="http://schemas.openxmlformats.org/officeDocument/2006/relationships/hyperlink" Target="http://www.national.com/" TargetMode="External"/><Relationship Id="rId55" Type="http://schemas.openxmlformats.org/officeDocument/2006/relationships/image" Target="../media/image38.jpeg"/><Relationship Id="rId56" Type="http://schemas.openxmlformats.org/officeDocument/2006/relationships/hyperlink" Target="http://www.nec-global.com/" TargetMode="External"/><Relationship Id="rId57" Type="http://schemas.openxmlformats.org/officeDocument/2006/relationships/image" Target="../media/image39.jpeg"/><Relationship Id="rId58" Type="http://schemas.openxmlformats.org/officeDocument/2006/relationships/hyperlink" Target="http://www.netgear.com/" TargetMode="External"/><Relationship Id="rId59" Type="http://schemas.openxmlformats.org/officeDocument/2006/relationships/image" Target="../media/image40.jpeg"/><Relationship Id="rId60" Type="http://schemas.openxmlformats.org/officeDocument/2006/relationships/hyperlink" Target="http://www.nokia.com/main.html" TargetMode="External"/><Relationship Id="rId61" Type="http://schemas.openxmlformats.org/officeDocument/2006/relationships/image" Target="../media/image41.png"/><Relationship Id="rId62" Type="http://schemas.openxmlformats.org/officeDocument/2006/relationships/hyperlink" Target="http://www.philips.com/" TargetMode="External"/><Relationship Id="rId63" Type="http://schemas.openxmlformats.org/officeDocument/2006/relationships/image" Target="../media/image42.png"/><Relationship Id="rId64" Type="http://schemas.openxmlformats.org/officeDocument/2006/relationships/hyperlink" Target="http://www.proxim.com/" TargetMode="External"/><Relationship Id="rId65" Type="http://schemas.openxmlformats.org/officeDocument/2006/relationships/image" Target="../media/image43.jpeg"/><Relationship Id="rId66" Type="http://schemas.openxmlformats.org/officeDocument/2006/relationships/hyperlink" Target="http://www.ricoh.com/" TargetMode="External"/><Relationship Id="rId67" Type="http://schemas.openxmlformats.org/officeDocument/2006/relationships/image" Target="../media/image44.jpeg"/><Relationship Id="rId68" Type="http://schemas.openxmlformats.org/officeDocument/2006/relationships/image" Target="../media/image45.jpeg"/><Relationship Id="rId69" Type="http://schemas.openxmlformats.org/officeDocument/2006/relationships/image" Target="../media/image46.jpeg"/><Relationship Id="rId70" Type="http://schemas.openxmlformats.org/officeDocument/2006/relationships/image" Target="../media/image47.jpeg"/><Relationship Id="rId71" Type="http://schemas.openxmlformats.org/officeDocument/2006/relationships/image" Target="../media/image48.jpeg"/><Relationship Id="rId72" Type="http://schemas.openxmlformats.org/officeDocument/2006/relationships/image" Target="../media/image49.jpeg"/><Relationship Id="rId73" Type="http://schemas.openxmlformats.org/officeDocument/2006/relationships/image" Target="../media/image50.png"/><Relationship Id="rId74" Type="http://schemas.openxmlformats.org/officeDocument/2006/relationships/image" Target="../media/image51.jpeg"/><Relationship Id="rId75" Type="http://schemas.openxmlformats.org/officeDocument/2006/relationships/image" Target="../media/image52.jpeg"/><Relationship Id="rId7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ireless LANs—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Understanding the Options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Broadband World Wireless Foru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February 13, 200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vid A. Su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Telnecit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n Jose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umi@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694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694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694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94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694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has underway a task group called 802.1X – enhanced security for all Etherne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is the wireless specific extension of 802.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EP is 40bits with static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proposed 128 bit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essio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9520" y="1192320"/>
            <a:ext cx="311940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in draft form, but largely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ing higher data rates,  a’ la 802.11a solutions, to the 2.4GHz band – up to 54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s compatible with 802.11b, something 802.11a is n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both OFDM and CCK over DS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116240" y="1402200"/>
            <a:ext cx="4681800" cy="4339800"/>
            <a:chOff x="4116240" y="1402200"/>
            <a:chExt cx="4681800" cy="4339800"/>
          </a:xfrm>
        </p:grpSpPr>
        <p:sp>
          <p:nvSpPr>
            <p:cNvPr id="222" name=""/>
            <p:cNvSpPr/>
            <p:nvPr/>
          </p:nvSpPr>
          <p:spPr>
            <a:xfrm>
              <a:off x="4778280" y="4916520"/>
              <a:ext cx="401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olution of IEEE 2.4GHz WLAN Data 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4116240" y="1402200"/>
              <a:ext cx="4676400" cy="2920680"/>
              <a:chOff x="4116240" y="1402200"/>
              <a:chExt cx="4676400" cy="292068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231520" y="1436400"/>
                <a:ext cx="3561120" cy="2719080"/>
                <a:chOff x="5231520" y="1436400"/>
                <a:chExt cx="3561120" cy="2719080"/>
              </a:xfrm>
            </p:grpSpPr>
            <p:cxnSp>
              <p:nvCxnSpPr>
                <p:cNvPr id="225" name=""/>
                <p:cNvCxnSpPr/>
                <p:nvPr/>
              </p:nvCxnSpPr>
              <p:spPr>
                <a:xfrm flipH="1">
                  <a:off x="5231520" y="1436400"/>
                  <a:ext cx="24120" cy="2704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26" name=""/>
                <p:cNvCxnSpPr/>
                <p:nvPr/>
              </p:nvCxnSpPr>
              <p:spPr>
                <a:xfrm>
                  <a:off x="5232960" y="4140360"/>
                  <a:ext cx="3560040" cy="154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227" name=""/>
              <p:cNvSpPr/>
              <p:nvPr/>
            </p:nvSpPr>
            <p:spPr>
              <a:xfrm rot="16200000">
                <a:off x="3832560" y="2450160"/>
                <a:ext cx="139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ta R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Mbp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48360" y="403560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8360" y="39099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8360" y="35733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48360" y="32083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70320" y="15397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664240" y="4041720"/>
                <a:ext cx="936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83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800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839120" y="3920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839120" y="3664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839120" y="3383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773600" y="3081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6200000">
                <a:off x="4775040" y="14209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5277240" y="3875040"/>
            <a:ext cx="884880" cy="929160"/>
            <a:chOff x="5277240" y="3875040"/>
            <a:chExt cx="884880" cy="929160"/>
          </a:xfrm>
        </p:grpSpPr>
        <p:sp>
          <p:nvSpPr>
            <p:cNvPr id="242" name=""/>
            <p:cNvSpPr/>
            <p:nvPr/>
          </p:nvSpPr>
          <p:spPr>
            <a:xfrm>
              <a:off x="5277240" y="440532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19600" y="3875040"/>
              <a:ext cx="131760" cy="25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320160" y="3214800"/>
            <a:ext cx="1012680" cy="1589400"/>
            <a:chOff x="6320160" y="3214800"/>
            <a:chExt cx="1012680" cy="1589400"/>
          </a:xfrm>
        </p:grpSpPr>
        <p:sp>
          <p:nvSpPr>
            <p:cNvPr id="245" name=""/>
            <p:cNvSpPr/>
            <p:nvPr/>
          </p:nvSpPr>
          <p:spPr>
            <a:xfrm>
              <a:off x="632016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59720" y="3214800"/>
              <a:ext cx="153720" cy="92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429680" y="1512720"/>
            <a:ext cx="1012680" cy="3291480"/>
            <a:chOff x="7429680" y="1512720"/>
            <a:chExt cx="1012680" cy="3291480"/>
          </a:xfrm>
        </p:grpSpPr>
        <p:sp>
          <p:nvSpPr>
            <p:cNvPr id="248" name=""/>
            <p:cNvSpPr/>
            <p:nvPr/>
          </p:nvSpPr>
          <p:spPr>
            <a:xfrm>
              <a:off x="742968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43760" y="1512720"/>
              <a:ext cx="189000" cy="2630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– allay technical issues ETSI has with 802.11a to promote its acceptance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Pow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Frequency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4151160" y="4344840"/>
            <a:ext cx="1960560" cy="1981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6783480" y="1193760"/>
            <a:ext cx="196056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4732560" y="2952360"/>
            <a:ext cx="2516400" cy="2487960"/>
            <a:chOff x="4732560" y="2952360"/>
            <a:chExt cx="2516400" cy="2487960"/>
          </a:xfrm>
        </p:grpSpPr>
        <p:sp>
          <p:nvSpPr>
            <p:cNvPr id="255" name=""/>
            <p:cNvSpPr/>
            <p:nvPr/>
          </p:nvSpPr>
          <p:spPr>
            <a:xfrm rot="18643800">
              <a:off x="5276520" y="318024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643800">
              <a:off x="5144760" y="354636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643800">
              <a:off x="5107680" y="397944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643800">
              <a:off x="5303520" y="426996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509800" y="1974960"/>
            <a:ext cx="2487600" cy="2453760"/>
            <a:chOff x="5509800" y="1974960"/>
            <a:chExt cx="2487600" cy="2453760"/>
          </a:xfrm>
        </p:grpSpPr>
        <p:sp>
          <p:nvSpPr>
            <p:cNvPr id="260" name=""/>
            <p:cNvSpPr/>
            <p:nvPr/>
          </p:nvSpPr>
          <p:spPr>
            <a:xfrm rot="8508000">
              <a:off x="5951520" y="222840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8508000">
              <a:off x="6350040" y="219060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8508000">
              <a:off x="6615720" y="218412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8508000">
              <a:off x="6920640" y="225144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162920" y="6345360"/>
            <a:ext cx="1600200" cy="436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perLAN 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European Telecommunications Standards Institute- Broadband Radio Area Networks Standard for WLA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ETSI BRAN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2617920"/>
            <a:ext cx="8729640" cy="950760"/>
          </a:xfrm>
          <a:prstGeom prst="rect">
            <a:avLst/>
          </a:prstGeom>
          <a:solidFill>
            <a:srgbClr val="008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0040" y="3567240"/>
            <a:ext cx="8729640" cy="906480"/>
          </a:xfrm>
          <a:prstGeom prst="rect">
            <a:avLst/>
          </a:prstGeom>
          <a:solidFill>
            <a:srgbClr val="cc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erLAN 2 and 802.11a Spectrum Comparis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66276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1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6200" y="3646440"/>
            <a:ext cx="182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U-NII – 3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90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109520" y="4633920"/>
            <a:ext cx="32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330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5494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744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96992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184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4084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627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846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068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78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508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7260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9481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1673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3876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831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5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024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246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464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847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9054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1228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343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5660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783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0056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2010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424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42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8645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0852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3026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6992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167360" y="4533840"/>
            <a:ext cx="144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34356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488440" y="4524120"/>
            <a:ext cx="1440" cy="23004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4096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2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4452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4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272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6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0340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8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378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3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38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5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100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7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5120" y="4600440"/>
            <a:ext cx="7753320" cy="65160"/>
          </a:xfrm>
          <a:prstGeom prst="rect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759200" y="3097080"/>
            <a:ext cx="2906640" cy="364680"/>
            <a:chOff x="4759200" y="3097080"/>
            <a:chExt cx="2906640" cy="364680"/>
          </a:xfrm>
        </p:grpSpPr>
        <p:grpSp>
          <p:nvGrpSpPr>
            <p:cNvPr id="320" name=""/>
            <p:cNvGrpSpPr/>
            <p:nvPr/>
          </p:nvGrpSpPr>
          <p:grpSpPr>
            <a:xfrm>
              <a:off x="4759200" y="3097080"/>
              <a:ext cx="2906640" cy="364680"/>
              <a:chOff x="4759200" y="3097080"/>
              <a:chExt cx="2906640" cy="364680"/>
            </a:xfrm>
          </p:grpSpPr>
          <p:sp>
            <p:nvSpPr>
              <p:cNvPr id="321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759200" y="3097080"/>
              <a:ext cx="2905200" cy="363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36560" y="2732040"/>
            <a:ext cx="240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iperLAN – 455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371600" y="3125880"/>
            <a:ext cx="1693800" cy="364320"/>
            <a:chOff x="1371600" y="3125880"/>
            <a:chExt cx="1693800" cy="364320"/>
          </a:xfrm>
        </p:grpSpPr>
        <p:grpSp>
          <p:nvGrpSpPr>
            <p:cNvPr id="454" name=""/>
            <p:cNvGrpSpPr/>
            <p:nvPr/>
          </p:nvGrpSpPr>
          <p:grpSpPr>
            <a:xfrm>
              <a:off x="1371600" y="3125880"/>
              <a:ext cx="1693800" cy="364320"/>
              <a:chOff x="1371600" y="3125880"/>
              <a:chExt cx="1693800" cy="364320"/>
            </a:xfrm>
          </p:grpSpPr>
          <p:sp>
            <p:nvSpPr>
              <p:cNvPr id="455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1371600" y="3125880"/>
              <a:ext cx="1692360" cy="362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 flipV="1">
            <a:off x="725400" y="4506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347840" y="4029120"/>
            <a:ext cx="2300400" cy="364320"/>
            <a:chOff x="1347840" y="4029120"/>
            <a:chExt cx="2300400" cy="364320"/>
          </a:xfrm>
        </p:grpSpPr>
        <p:grpSp>
          <p:nvGrpSpPr>
            <p:cNvPr id="588" name=""/>
            <p:cNvGrpSpPr/>
            <p:nvPr/>
          </p:nvGrpSpPr>
          <p:grpSpPr>
            <a:xfrm>
              <a:off x="1347840" y="4029120"/>
              <a:ext cx="2300400" cy="364320"/>
              <a:chOff x="1347840" y="4029120"/>
              <a:chExt cx="2300400" cy="364320"/>
            </a:xfrm>
          </p:grpSpPr>
          <p:sp>
            <p:nvSpPr>
              <p:cNvPr id="589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1347840" y="4029120"/>
              <a:ext cx="229860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380600" y="4076640"/>
            <a:ext cx="206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25; 5.25 - 5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626240" y="3990960"/>
            <a:ext cx="1253520" cy="364320"/>
            <a:chOff x="7626240" y="3990960"/>
            <a:chExt cx="1253520" cy="364320"/>
          </a:xfrm>
        </p:grpSpPr>
        <p:grpSp>
          <p:nvGrpSpPr>
            <p:cNvPr id="722" name=""/>
            <p:cNvGrpSpPr/>
            <p:nvPr/>
          </p:nvGrpSpPr>
          <p:grpSpPr>
            <a:xfrm>
              <a:off x="7626240" y="3990960"/>
              <a:ext cx="1253520" cy="364320"/>
              <a:chOff x="7626240" y="3990960"/>
              <a:chExt cx="1253520" cy="364320"/>
            </a:xfrm>
          </p:grpSpPr>
          <p:sp>
            <p:nvSpPr>
              <p:cNvPr id="723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7626240" y="3990960"/>
              <a:ext cx="125208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7657920" y="405288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725 - 5.8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400040" y="3157560"/>
            <a:ext cx="16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824360" y="3132000"/>
            <a:ext cx="279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70 - 5.7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iperLAN 2 vs 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almost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has TPC and D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supports selective AR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QoS or Scheduler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 and 168 bit DES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2224080" y="3021120"/>
          <a:ext cx="4937040" cy="3031920"/>
        </p:xfrm>
        <a:graphic>
          <a:graphicData uri="http://schemas.openxmlformats.org/drawingml/2006/table">
            <a:tbl>
              <a:tblPr/>
              <a:tblGrid>
                <a:gridCol w="1182600"/>
                <a:gridCol w="922320"/>
                <a:gridCol w="1565280"/>
                <a:gridCol w="689040"/>
                <a:gridCol w="577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ate-M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me RF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62120" y="1262160"/>
            <a:ext cx="77724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March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member companies (Intel, Motorola, Compaq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Mbps,1.6Mbps, 5Mbps and 10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Hz and 5MHz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CS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both IP data and DECT teleph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ecurity -128 bi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reless Fidel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WiF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21840" y="1379520"/>
            <a:ext cx="35146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by the Wireless Ethernet Communications Alliance to promote interoperability and testing of 802.11 devices beyond the 802.11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companies such as 3COM, Cisco, Compaq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iFi products are 802.11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802.11 products are not necessarily WiF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400640" y="1859040"/>
            <a:ext cx="4422240" cy="3607920"/>
            <a:chOff x="4400640" y="1859040"/>
            <a:chExt cx="4422240" cy="3607920"/>
          </a:xfrm>
        </p:grpSpPr>
        <p:sp>
          <p:nvSpPr>
            <p:cNvPr id="865" name=""/>
            <p:cNvSpPr/>
            <p:nvPr/>
          </p:nvSpPr>
          <p:spPr>
            <a:xfrm>
              <a:off x="4410000" y="1863720"/>
              <a:ext cx="4411800" cy="356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400640" y="1859040"/>
              <a:ext cx="4422240" cy="3607920"/>
              <a:chOff x="4400640" y="1859040"/>
              <a:chExt cx="4422240" cy="3607920"/>
            </a:xfrm>
          </p:grpSpPr>
          <p:pic>
            <p:nvPicPr>
              <p:cNvPr id="867" name="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4407840" y="1864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" descr="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5238360" y="1863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13836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" descr="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7026840" y="1859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1" name="" descr="">
                <a:hlinkClick r:id="rId12"/>
              </p:cNvPr>
              <p:cNvPicPr/>
              <p:nvPr/>
            </p:nvPicPr>
            <p:blipFill>
              <a:blip r:embed="rId13"/>
              <a:stretch/>
            </p:blipFill>
            <p:spPr>
              <a:xfrm>
                <a:off x="793440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" descr="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440352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" descr="">
                <a:hlinkClick r:id="rId16"/>
              </p:cNvPr>
              <p:cNvPicPr/>
              <p:nvPr/>
            </p:nvPicPr>
            <p:blipFill>
              <a:blip r:embed="rId17"/>
              <a:stretch/>
            </p:blipFill>
            <p:spPr>
              <a:xfrm>
                <a:off x="528588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4" name="" descr="">
                <a:hlinkClick r:id="rId18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6170400" y="23140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" descr="">
                <a:hlinkClick r:id="rId20"/>
              </p:cNvPr>
              <p:cNvPicPr/>
              <p:nvPr/>
            </p:nvPicPr>
            <p:blipFill>
              <a:blip r:embed="rId21"/>
              <a:stretch/>
            </p:blipFill>
            <p:spPr>
              <a:xfrm>
                <a:off x="7054560" y="23126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6" name="" descr="">
                <a:hlinkClick r:id="rId22"/>
              </p:cNvPr>
              <p:cNvPicPr/>
              <p:nvPr/>
            </p:nvPicPr>
            <p:blipFill>
              <a:blip r:embed="rId23"/>
              <a:stretch/>
            </p:blipFill>
            <p:spPr>
              <a:xfrm>
                <a:off x="7935840" y="2315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7" name="" descr="">
                <a:hlinkClick r:id="rId24"/>
              </p:cNvPr>
              <p:cNvPicPr/>
              <p:nvPr/>
            </p:nvPicPr>
            <p:blipFill>
              <a:blip r:embed="rId25"/>
              <a:stretch/>
            </p:blipFill>
            <p:spPr>
              <a:xfrm>
                <a:off x="440460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8" name="" descr="">
                <a:hlinkClick r:id="rId26"/>
              </p:cNvPr>
              <p:cNvPicPr/>
              <p:nvPr/>
            </p:nvPicPr>
            <p:blipFill>
              <a:blip r:embed="rId27"/>
              <a:stretch/>
            </p:blipFill>
            <p:spPr>
              <a:xfrm>
                <a:off x="5292000" y="2772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9" name="" descr="">
                <a:hlinkClick r:id="rId28"/>
              </p:cNvPr>
              <p:cNvPicPr/>
              <p:nvPr/>
            </p:nvPicPr>
            <p:blipFill>
              <a:blip r:embed="rId29"/>
              <a:stretch/>
            </p:blipFill>
            <p:spPr>
              <a:xfrm>
                <a:off x="618336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0" name="" descr="">
                <a:hlinkClick r:id="rId30"/>
              </p:cNvPr>
              <p:cNvPicPr/>
              <p:nvPr/>
            </p:nvPicPr>
            <p:blipFill>
              <a:blip r:embed="rId31"/>
              <a:stretch/>
            </p:blipFill>
            <p:spPr>
              <a:xfrm>
                <a:off x="7071840" y="2767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1" name="" descr="">
                <a:hlinkClick r:id="rId32"/>
              </p:cNvPr>
              <p:cNvPicPr/>
              <p:nvPr/>
            </p:nvPicPr>
            <p:blipFill>
              <a:blip r:embed="rId33"/>
              <a:stretch/>
            </p:blipFill>
            <p:spPr>
              <a:xfrm>
                <a:off x="795312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2" name="" descr="">
                <a:hlinkClick r:id="rId34"/>
              </p:cNvPr>
              <p:cNvPicPr/>
              <p:nvPr/>
            </p:nvPicPr>
            <p:blipFill>
              <a:blip r:embed="rId35"/>
              <a:stretch/>
            </p:blipFill>
            <p:spPr>
              <a:xfrm>
                <a:off x="440784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3" name="" descr="">
                <a:hlinkClick r:id="rId36"/>
              </p:cNvPr>
              <p:cNvPicPr/>
              <p:nvPr/>
            </p:nvPicPr>
            <p:blipFill>
              <a:blip r:embed="rId37"/>
              <a:stretch/>
            </p:blipFill>
            <p:spPr>
              <a:xfrm>
                <a:off x="5296320" y="32274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4" name="" descr="">
                <a:hlinkClick r:id="rId38"/>
              </p:cNvPr>
              <p:cNvPicPr/>
              <p:nvPr/>
            </p:nvPicPr>
            <p:blipFill>
              <a:blip r:embed="rId39"/>
              <a:stretch/>
            </p:blipFill>
            <p:spPr>
              <a:xfrm>
                <a:off x="6180480" y="322596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5" name="" descr="">
                <a:hlinkClick r:id="rId40"/>
              </p:cNvPr>
              <p:cNvPicPr/>
              <p:nvPr/>
            </p:nvPicPr>
            <p:blipFill>
              <a:blip r:embed="rId41"/>
              <a:stretch/>
            </p:blipFill>
            <p:spPr>
              <a:xfrm>
                <a:off x="706176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6" name="" descr="">
                <a:hlinkClick r:id="rId42"/>
              </p:cNvPr>
              <p:cNvPicPr/>
              <p:nvPr/>
            </p:nvPicPr>
            <p:blipFill>
              <a:blip r:embed="rId43"/>
              <a:stretch/>
            </p:blipFill>
            <p:spPr>
              <a:xfrm>
                <a:off x="7947360" y="32302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7" name="" descr="">
                <a:hlinkClick r:id="rId44"/>
              </p:cNvPr>
              <p:cNvPicPr/>
              <p:nvPr/>
            </p:nvPicPr>
            <p:blipFill>
              <a:blip r:embed="rId45"/>
              <a:stretch/>
            </p:blipFill>
            <p:spPr>
              <a:xfrm>
                <a:off x="440352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8" name="" descr="">
                <a:hlinkClick r:id="rId46"/>
              </p:cNvPr>
              <p:cNvPicPr/>
              <p:nvPr/>
            </p:nvPicPr>
            <p:blipFill>
              <a:blip r:embed="rId47"/>
              <a:stretch/>
            </p:blipFill>
            <p:spPr>
              <a:xfrm>
                <a:off x="5292000" y="3681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9" name="" descr="">
                <a:hlinkClick r:id="rId48"/>
              </p:cNvPr>
              <p:cNvPicPr/>
              <p:nvPr/>
            </p:nvPicPr>
            <p:blipFill>
              <a:blip r:embed="rId49"/>
              <a:stretch/>
            </p:blipFill>
            <p:spPr>
              <a:xfrm>
                <a:off x="6180480" y="3676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0" name="" descr="">
                <a:hlinkClick r:id="rId50"/>
              </p:cNvPr>
              <p:cNvPicPr/>
              <p:nvPr/>
            </p:nvPicPr>
            <p:blipFill>
              <a:blip r:embed="rId51"/>
              <a:stretch/>
            </p:blipFill>
            <p:spPr>
              <a:xfrm>
                <a:off x="705168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1" name="" descr="">
                <a:hlinkClick r:id="rId52"/>
              </p:cNvPr>
              <p:cNvPicPr/>
              <p:nvPr/>
            </p:nvPicPr>
            <p:blipFill>
              <a:blip r:embed="rId53"/>
              <a:stretch/>
            </p:blipFill>
            <p:spPr>
              <a:xfrm>
                <a:off x="794016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2" name="" descr="">
                <a:hlinkClick r:id="rId54"/>
              </p:cNvPr>
              <p:cNvPicPr/>
              <p:nvPr/>
            </p:nvPicPr>
            <p:blipFill>
              <a:blip r:embed="rId55"/>
              <a:stretch/>
            </p:blipFill>
            <p:spPr>
              <a:xfrm>
                <a:off x="440460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" descr="">
                <a:hlinkClick r:id="rId56"/>
              </p:cNvPr>
              <p:cNvPicPr/>
              <p:nvPr/>
            </p:nvPicPr>
            <p:blipFill>
              <a:blip r:embed="rId57"/>
              <a:stretch/>
            </p:blipFill>
            <p:spPr>
              <a:xfrm>
                <a:off x="5287680" y="41248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" descr="">
                <a:hlinkClick r:id="rId58"/>
              </p:cNvPr>
              <p:cNvPicPr/>
              <p:nvPr/>
            </p:nvPicPr>
            <p:blipFill>
              <a:blip r:embed="rId59"/>
              <a:stretch/>
            </p:blipFill>
            <p:spPr>
              <a:xfrm>
                <a:off x="6176160" y="41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5" name="" descr="">
                <a:hlinkClick r:id="rId60"/>
              </p:cNvPr>
              <p:cNvPicPr/>
              <p:nvPr/>
            </p:nvPicPr>
            <p:blipFill>
              <a:blip r:embed="rId61"/>
              <a:stretch/>
            </p:blipFill>
            <p:spPr>
              <a:xfrm>
                <a:off x="7063560" y="41274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6" name="" descr="">
                <a:hlinkClick r:id="rId62"/>
              </p:cNvPr>
              <p:cNvPicPr/>
              <p:nvPr/>
            </p:nvPicPr>
            <p:blipFill>
              <a:blip r:embed="rId63"/>
              <a:stretch/>
            </p:blipFill>
            <p:spPr>
              <a:xfrm>
                <a:off x="794916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7" name="" descr="">
                <a:hlinkClick r:id="rId64"/>
              </p:cNvPr>
              <p:cNvPicPr/>
              <p:nvPr/>
            </p:nvPicPr>
            <p:blipFill>
              <a:blip r:embed="rId65"/>
              <a:stretch/>
            </p:blipFill>
            <p:spPr>
              <a:xfrm>
                <a:off x="4400640" y="4582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8" name="" descr="">
                <a:hlinkClick r:id="rId66"/>
              </p:cNvPr>
              <p:cNvPicPr/>
              <p:nvPr/>
            </p:nvPicPr>
            <p:blipFill>
              <a:blip r:embed="rId67"/>
              <a:stretch/>
            </p:blipFill>
            <p:spPr>
              <a:xfrm>
                <a:off x="5287680" y="45784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6170400" y="4577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7058880" y="4575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7949160" y="4578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7952040" y="50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4403520" y="50263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6171840" y="50292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287680" y="50320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7060320" y="502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7" name=""/>
          <p:cNvSpPr/>
          <p:nvPr/>
        </p:nvSpPr>
        <p:spPr>
          <a:xfrm>
            <a:off x="3819600" y="1890720"/>
            <a:ext cx="536400" cy="3452760"/>
          </a:xfrm>
          <a:custGeom>
            <a:avLst/>
            <a:gdLst>
              <a:gd name="textAreaLeft" fmla="*/ 342720 w 536400"/>
              <a:gd name="textAreaRight" fmla="*/ 536400 w 536400"/>
              <a:gd name="textAreaTop" fmla="*/ 90000 h 3452760"/>
              <a:gd name="textAreaBottom" fmla="*/ 3362760 h 345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120"/>
                </a:lnTo>
                <a:cubicBezTo>
                  <a:pt x="10800" y="12020"/>
                  <a:pt x="5400" y="12920"/>
                  <a:pt x="0" y="12920"/>
                </a:cubicBezTo>
                <a:cubicBezTo>
                  <a:pt x="5400" y="12920"/>
                  <a:pt x="10800" y="13820"/>
                  <a:pt x="10800" y="147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ture applica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video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ox streams video to multiple mon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your Stereo to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MP3’s to you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s have a bright futu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and HomeRF leading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er data rates, QoS, and better security applications are un-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38280" y="143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Marketing Consulting - Offers a continuum of strategic marketing services to companies in all phases of the company life cy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band Intelligence Products -  Custom and periodic reports have an initial focus on all wireless mark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AN (802.11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ed Wireless (802.16, satellite, 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G/4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Intelligence Products will focus on current and next generation access technolog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Mod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760" y="5656320"/>
            <a:ext cx="831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elnecity Group consists of two groups: Strategic Marketing Consulting and Broadband Intelligence Produc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Telnecity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089520" y="2122560"/>
            <a:ext cx="29300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vid A. 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Dsumi@telnecit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08 293-81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–Massive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&amp; Fo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rt: WLAN Mark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66840" y="1633680"/>
            <a:ext cx="2187360" cy="15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wth of the market is dependant on current IT spending in the existing strong vertical markets and the expected explosion of the Enterprise mar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708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8140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81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63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0068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74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384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20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567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931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00320" y="3797280"/>
            <a:ext cx="5124600" cy="1708200"/>
            <a:chOff x="3100320" y="3797280"/>
            <a:chExt cx="5124600" cy="1708200"/>
          </a:xfrm>
        </p:grpSpPr>
        <p:sp>
          <p:nvSpPr>
            <p:cNvPr id="106" name=""/>
            <p:cNvSpPr/>
            <p:nvPr/>
          </p:nvSpPr>
          <p:spPr>
            <a:xfrm>
              <a:off x="3100320" y="5165640"/>
              <a:ext cx="3441600" cy="33984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00320" y="4821120"/>
              <a:ext cx="4961160" cy="344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00320" y="4481640"/>
              <a:ext cx="5124600" cy="339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0320" y="4135320"/>
              <a:ext cx="3773520" cy="34632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00320" y="3797280"/>
              <a:ext cx="4326120" cy="33804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100320" y="5759280"/>
            <a:ext cx="5392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0032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63708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8140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7181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563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0068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3374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7384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4120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9567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4931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0032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63960" y="57592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63960" y="35416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960" y="13320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93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504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86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250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69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43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254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636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91000" y="45943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1000" y="23842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9600" y="604188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00320" y="2949480"/>
            <a:ext cx="1165320" cy="33840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2610000"/>
            <a:ext cx="1292400" cy="3394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2263680"/>
            <a:ext cx="1081080" cy="34632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00320" y="1925640"/>
            <a:ext cx="1187640" cy="3380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00320" y="1585800"/>
            <a:ext cx="1179720" cy="33984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149960" y="1712880"/>
            <a:ext cx="1792440" cy="1628640"/>
            <a:chOff x="7149960" y="1712880"/>
            <a:chExt cx="1792440" cy="1628640"/>
          </a:xfrm>
        </p:grpSpPr>
        <p:sp>
          <p:nvSpPr>
            <p:cNvPr id="148" name=""/>
            <p:cNvSpPr/>
            <p:nvPr/>
          </p:nvSpPr>
          <p:spPr>
            <a:xfrm>
              <a:off x="7149960" y="1712880"/>
              <a:ext cx="1792440" cy="162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27720" y="1755720"/>
              <a:ext cx="182880" cy="18252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74400" y="17272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27720" y="2058840"/>
              <a:ext cx="182880" cy="18288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73680" y="2039760"/>
              <a:ext cx="128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s Unlimi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7720" y="2362320"/>
              <a:ext cx="182880" cy="1825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2200" y="2354400"/>
              <a:ext cx="122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st and Sulli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27720" y="2665440"/>
              <a:ext cx="182880" cy="182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76200" y="2666880"/>
              <a:ext cx="45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S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27720" y="2968560"/>
              <a:ext cx="182880" cy="18252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6920" y="298116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ket Share of WLAN Access Point Shipments, by Vendor, Worldwid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077840" y="5821200"/>
            <a:ext cx="77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InStat, June 200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7800" y="1832040"/>
            <a:ext cx="1714320" cy="100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LAN offers the capability to attract Enterprise and Service Providers under the same roo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8560" y="4879800"/>
            <a:ext cx="196200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ing vendors are aggressively pursuing 802.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76520" y="2332080"/>
            <a:ext cx="2149560" cy="2415960"/>
          </a:xfrm>
          <a:custGeom>
            <a:avLst/>
            <a:gdLst/>
            <a:ahLst/>
            <a:rect l="l" t="t" r="r" b="b"/>
            <a:pathLst>
              <a:path w="289" h="325">
                <a:moveTo>
                  <a:pt x="112" y="0"/>
                </a:moveTo>
                <a:cubicBezTo>
                  <a:pt x="41" y="54"/>
                  <a:pt x="1" y="138"/>
                  <a:pt x="1" y="227"/>
                </a:cubicBezTo>
                <a:cubicBezTo>
                  <a:pt x="0" y="261"/>
                  <a:pt x="6" y="294"/>
                  <a:pt x="18" y="325"/>
                </a:cubicBezTo>
                <a:lnTo>
                  <a:pt x="289" y="227"/>
                </a:lnTo>
                <a:lnTo>
                  <a:pt x="112" y="0"/>
                </a:lnTo>
                <a:close/>
              </a:path>
            </a:pathLst>
          </a:custGeom>
          <a:solidFill>
            <a:srgbClr val="9999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09920" y="1870200"/>
            <a:ext cx="1382760" cy="2149200"/>
          </a:xfrm>
          <a:custGeom>
            <a:avLst/>
            <a:gdLst/>
            <a:ahLst/>
            <a:rect l="l" t="t" r="r" b="b"/>
            <a:pathLst>
              <a:path w="186" h="289">
                <a:moveTo>
                  <a:pt x="186" y="1"/>
                </a:moveTo>
                <a:cubicBezTo>
                  <a:pt x="183" y="1"/>
                  <a:pt x="180" y="1"/>
                  <a:pt x="177" y="1"/>
                </a:cubicBezTo>
                <a:cubicBezTo>
                  <a:pt x="113" y="0"/>
                  <a:pt x="50" y="22"/>
                  <a:pt x="0" y="62"/>
                </a:cubicBezTo>
                <a:lnTo>
                  <a:pt x="177" y="289"/>
                </a:lnTo>
                <a:lnTo>
                  <a:pt x="186" y="1"/>
                </a:lnTo>
                <a:close/>
              </a:path>
            </a:pathLst>
          </a:custGeom>
          <a:solidFill>
            <a:srgbClr val="9933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6080" y="1878120"/>
            <a:ext cx="1315800" cy="2141280"/>
          </a:xfrm>
          <a:custGeom>
            <a:avLst/>
            <a:gdLst/>
            <a:ahLst/>
            <a:rect l="l" t="t" r="r" b="b"/>
            <a:pathLst>
              <a:path w="177" h="288">
                <a:moveTo>
                  <a:pt x="177" y="60"/>
                </a:moveTo>
                <a:cubicBezTo>
                  <a:pt x="129" y="23"/>
                  <a:pt x="70" y="2"/>
                  <a:pt x="9" y="0"/>
                </a:cubicBezTo>
                <a:lnTo>
                  <a:pt x="0" y="288"/>
                </a:lnTo>
                <a:lnTo>
                  <a:pt x="177" y="60"/>
                </a:lnTo>
                <a:close/>
              </a:path>
            </a:pathLst>
          </a:custGeom>
          <a:solidFill>
            <a:srgbClr val="ffff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6080" y="2324160"/>
            <a:ext cx="2016000" cy="1695240"/>
          </a:xfrm>
          <a:custGeom>
            <a:avLst/>
            <a:gdLst/>
            <a:ahLst/>
            <a:rect l="l" t="t" r="r" b="b"/>
            <a:pathLst>
              <a:path w="271" h="228">
                <a:moveTo>
                  <a:pt x="271" y="128"/>
                </a:moveTo>
                <a:cubicBezTo>
                  <a:pt x="252" y="78"/>
                  <a:pt x="220" y="33"/>
                  <a:pt x="177" y="0"/>
                </a:cubicBezTo>
                <a:lnTo>
                  <a:pt x="0" y="228"/>
                </a:lnTo>
                <a:lnTo>
                  <a:pt x="271" y="128"/>
                </a:lnTo>
                <a:close/>
              </a:path>
            </a:pathLst>
          </a:custGeom>
          <a:solidFill>
            <a:srgbClr val="cc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6080" y="3276720"/>
            <a:ext cx="2149560" cy="817560"/>
          </a:xfrm>
          <a:custGeom>
            <a:avLst/>
            <a:gdLst/>
            <a:ahLst/>
            <a:rect l="l" t="t" r="r" b="b"/>
            <a:pathLst>
              <a:path w="289" h="110">
                <a:moveTo>
                  <a:pt x="288" y="110"/>
                </a:moveTo>
                <a:cubicBezTo>
                  <a:pt x="288" y="106"/>
                  <a:pt x="289" y="103"/>
                  <a:pt x="289" y="100"/>
                </a:cubicBezTo>
                <a:cubicBezTo>
                  <a:pt x="289" y="66"/>
                  <a:pt x="282" y="32"/>
                  <a:pt x="271" y="0"/>
                </a:cubicBezTo>
                <a:lnTo>
                  <a:pt x="0" y="100"/>
                </a:lnTo>
                <a:lnTo>
                  <a:pt x="288" y="110"/>
                </a:lnTo>
                <a:close/>
              </a:path>
            </a:pathLst>
          </a:custGeom>
          <a:solidFill>
            <a:srgbClr val="6600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6080" y="4019400"/>
            <a:ext cx="2141280" cy="587520"/>
          </a:xfrm>
          <a:custGeom>
            <a:avLst/>
            <a:gdLst/>
            <a:ahLst/>
            <a:rect l="l" t="t" r="r" b="b"/>
            <a:pathLst>
              <a:path w="288" h="79">
                <a:moveTo>
                  <a:pt x="278" y="79"/>
                </a:moveTo>
                <a:cubicBezTo>
                  <a:pt x="284" y="56"/>
                  <a:pt x="288" y="33"/>
                  <a:pt x="288" y="10"/>
                </a:cubicBezTo>
                <a:lnTo>
                  <a:pt x="0" y="0"/>
                </a:lnTo>
                <a:lnTo>
                  <a:pt x="278" y="79"/>
                </a:lnTo>
                <a:close/>
              </a:path>
            </a:pathLst>
          </a:custGeom>
          <a:solidFill>
            <a:srgbClr val="ff80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11520" y="4019400"/>
            <a:ext cx="4081320" cy="2143440"/>
          </a:xfrm>
          <a:custGeom>
            <a:avLst/>
            <a:gdLst/>
            <a:ahLst/>
            <a:rect l="l" t="t" r="r" b="b"/>
            <a:pathLst>
              <a:path w="549" h="288">
                <a:moveTo>
                  <a:pt x="0" y="98"/>
                </a:moveTo>
                <a:cubicBezTo>
                  <a:pt x="41" y="213"/>
                  <a:pt x="150" y="288"/>
                  <a:pt x="271" y="288"/>
                </a:cubicBezTo>
                <a:cubicBezTo>
                  <a:pt x="400" y="288"/>
                  <a:pt x="513" y="203"/>
                  <a:pt x="549" y="79"/>
                </a:cubicBezTo>
                <a:lnTo>
                  <a:pt x="271" y="0"/>
                </a:lnTo>
                <a:lnTo>
                  <a:pt x="0" y="98"/>
                </a:lnTo>
                <a:close/>
              </a:path>
            </a:pathLst>
          </a:custGeom>
          <a:solidFill>
            <a:srgbClr val="0066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23160" y="332100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0440" y="17510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98000" y="178128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8680" y="259236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2520" y="360360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22520" y="431784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6920" y="627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24640" y="2265480"/>
            <a:ext cx="1373400" cy="2401920"/>
            <a:chOff x="7424640" y="2265480"/>
            <a:chExt cx="1373400" cy="2401920"/>
          </a:xfrm>
        </p:grpSpPr>
        <p:sp>
          <p:nvSpPr>
            <p:cNvPr id="178" name=""/>
            <p:cNvSpPr/>
            <p:nvPr/>
          </p:nvSpPr>
          <p:spPr>
            <a:xfrm>
              <a:off x="7424640" y="2265480"/>
              <a:ext cx="1373400" cy="2401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1720" y="2386080"/>
              <a:ext cx="182520" cy="1825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20360" y="23734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1720" y="2720880"/>
              <a:ext cx="182520" cy="18252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20360" y="272412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37320" y="3057480"/>
              <a:ext cx="182520" cy="1825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20360" y="308628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37320" y="3392640"/>
              <a:ext cx="182520" cy="18252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1080" y="33796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37320" y="3728880"/>
              <a:ext cx="182520" cy="18288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18200" y="371160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teras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51720" y="4064040"/>
              <a:ext cx="182520" cy="18252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1080" y="403056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51720" y="4400640"/>
              <a:ext cx="182520" cy="182520"/>
            </a:xfrm>
            <a:prstGeom prst="rect">
              <a:avLst/>
            </a:prstGeom>
            <a:solidFill>
              <a:srgbClr val="0066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19640" y="43909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First Ru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2600" y="1390680"/>
            <a:ext cx="4894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in 1997 after 7 years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equence Spread Spectrum &amp; Frequency Hopping Spread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only (2.4GHz-2.4835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nd 2Mbps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MHz channels DSSS, 1MHz 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 (Ethernet Like) or RTS/CTS via “virtual carrier sens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 and ESS: ro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/Users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Contro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via encrypted Shared Key (W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67057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045120" y="142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67520" y="5029200"/>
            <a:ext cx="27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ctures from the Proxim website, 200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SS only w/ 20MHz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5.5 and 11Mbps data rates (CCK mod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wards compatible with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C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same time as 802.11b (Fall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Y layer extension only to the existing 802.11 standard- OFDM based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GHz only, UNII bands 1,2 and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12,24Mbps mand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8,36,48,54Mbps 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MHz channels, 52 sub-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i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583440" y="4114800"/>
            <a:ext cx="4432680" cy="1942200"/>
            <a:chOff x="3583440" y="4114800"/>
            <a:chExt cx="4432680" cy="1942200"/>
          </a:xfrm>
        </p:grpSpPr>
        <p:sp>
          <p:nvSpPr>
            <p:cNvPr id="203" name=""/>
            <p:cNvSpPr/>
            <p:nvPr/>
          </p:nvSpPr>
          <p:spPr>
            <a:xfrm>
              <a:off x="3935520" y="4125960"/>
              <a:ext cx="3760560" cy="152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40520" y="5719320"/>
              <a:ext cx="13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U-NII B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344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5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1736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6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9568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92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10508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15-5.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63824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25-5.3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6116760" y="4627440"/>
              <a:ext cx="1558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725-5.8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29200" y="4152960"/>
              <a:ext cx="0" cy="14479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72840"/>
            <a:ext cx="380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Development – many components of White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upport for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s a Hybrid Coordination Function – combination of PCF and D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DCF (EDCF)– 8 traffic categories, minimum of 4 physical 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MAC level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itter and Latency are adjustable parameters as well as min/max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ability to handle voice and streaming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124160" y="1536840"/>
          <a:ext cx="4780080" cy="4365360"/>
        </p:xfrm>
        <a:graphic>
          <a:graphicData uri="http://schemas.openxmlformats.org/drawingml/2006/table">
            <a:tbl>
              <a:tblPr/>
              <a:tblGrid>
                <a:gridCol w="1206720"/>
                <a:gridCol w="1041480"/>
                <a:gridCol w="871560"/>
                <a:gridCol w="757080"/>
                <a:gridCol w="9032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tt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 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Transfer (F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P 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access (HT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-confere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 over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moderate to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-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7:53:23Z</dcterms:created>
  <dc:creator>David A. Sumi</dc:creator>
  <dc:description/>
  <dc:language>en-US</dc:language>
  <cp:lastModifiedBy>David A. Sumi</cp:lastModifiedBy>
  <dcterms:modified xsi:type="dcterms:W3CDTF">2002-02-13T21:40:59Z</dcterms:modified>
  <cp:revision>33</cp:revision>
  <dc:subject/>
  <dc:title>Wireless L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74422621</vt:r8>
  </property>
  <property fmtid="{D5CDD505-2E9C-101B-9397-08002B2CF9AE}" pid="3" name="_AuthorEmail">
    <vt:lpwstr>dsumi@telnecity.com</vt:lpwstr>
  </property>
  <property fmtid="{D5CDD505-2E9C-101B-9397-08002B2CF9AE}" pid="4" name="_AuthorEmailDisplayName">
    <vt:lpwstr>Dave Sumi</vt:lpwstr>
  </property>
  <property fmtid="{D5CDD505-2E9C-101B-9397-08002B2CF9AE}" pid="5" name="_EmailSubject">
    <vt:lpwstr>slides</vt:lpwstr>
  </property>
</Properties>
</file>