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924-A12C-4A64-8532-0C6BB119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0A1-BAAE-4454-8423-6AC41DD9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3EC-D14D-4312-91F2-CDEBE745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F56-B2F2-47C8-AAE1-88C5C678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33AE-69BF-4B59-8D03-250BCAACD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8AC20-C0F1-493A-9AA2-30EC625C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9C24-1D03-4388-85A5-A6925CA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E98A-ADE3-4C93-A631-03C96A2B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0D98-B2A2-4D1D-988D-60431067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3259-4452-47F0-A889-5F4FB61F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500B-FFBC-41A6-907B-87B82ADA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776-B9D9-4483-B859-EFEFEA63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B039-544E-4531-88FF-282AC2FA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2BFF-934F-46A7-9B92-F41C1B45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0D0D-1F82-48D4-8E18-C1050D8D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49DB-3AC1-472F-A4CD-3010B22E0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7D80-08E4-4654-A1DF-261C47B5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1AB-7F85-4306-A8EF-49440092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DDA6-B855-4151-AB35-98A531B61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2E6-9D2C-4464-9E5D-BFD2C6F1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761A-AC97-496C-AB56-5A71F305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14D-9E8F-4FE7-BD52-8AC4E78D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AC6-CFD7-4C6B-B3C9-BC534D70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3E4-1306-4ACE-8370-76459F60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70FA-C518-4C2F-9DFE-055EECC0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A10C-F1B1-4848-8A40-C0D5BE21F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ttclogo1%206-2000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438280" y="3049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Caslon Regular"/>
              </a:rPr>
              <a:t>Central Texas Telephone Cooperative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66440" y="2362320"/>
            <a:ext cx="49798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PRACTICE: Planning and Exec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rofitable Coverage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96240" y="4782960"/>
            <a:ext cx="4027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sented By:  Larry D. Pechacek, P.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ntral Texas Telephone Cooperative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ief Technology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Network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596600" y="2330280"/>
            <a:ext cx="566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Transport via ATM Network Allow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Services via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Emulation Interface To TD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urity via ATM VPI/V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 Concentration via ATM Switch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Network Qo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97680" y="41274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-location of MMDS and LMDS Systems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96240" y="4510080"/>
            <a:ext cx="47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Data Traffic From End Office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94080" y="48909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ff Load VoIP to local End Office Switch - Existing Class 5 Circ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es With Appreciable Service Life From Both Fina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ervices 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94800" y="19810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Integrate Wireless Systems with Existing Wireli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RF Planning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95520" y="3672000"/>
            <a:ext cx="672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/LMDS Sectorization Used to Accommodat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Characterized by Customer Density and U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s (Capacity and Symmet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94080" y="1828800"/>
            <a:ext cx="695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Will Begin with 3 Super Cells and Additional Mini/Micro C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 as Needed Basis As Dictated By Line-of-Sigh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97320" y="2438280"/>
            <a:ext cx="66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equires Planning and Coordination with Surrounding B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94080" y="3016080"/>
            <a:ext cx="72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MDS Radius of Coverage, Channel Bandwidth, and Mod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s Must be Coordinated for Best Fit to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95160" y="4616280"/>
            <a:ext cx="70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 Requires Careful Radius of Coverage Determination Based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n Fade and Reli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98040" y="5226120"/>
            <a:ext cx="63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ermitting of Telecommunications Facilities Can be Problema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99120" y="5576760"/>
            <a:ext cx="545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Frequency Planning for TDD Systems vs FDD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93360" y="595800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and Base and RF Planning Software for Link Evaluation &amp;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– Initial San Angelo, Tx RF Coverag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1447920" y="1828800"/>
          <a:ext cx="6781680" cy="4098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1828800"/>
                    <a:ext cx="678168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92280" y="1905120"/>
            <a:ext cx="623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tarted With a 3 Base Station Deployment In San Angelo and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Base Station Deployment In Goldthwaite U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95160" y="28195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Redeployed Using Ensemble Communications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94080" y="3214800"/>
            <a:ext cx="653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Currently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Base Stations Deployed in San Angelo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 Sectors Using both A and B Band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roximately 52 Customers and 45 CPE Deploy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and Voice (Limited) Services Provided and Loo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wards Video Services 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93000" y="4967280"/>
            <a:ext cx="687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Allowed us to go into San Angelo, a town of 100,000 peopl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very efficiently deploy facilities without overbuilding, and 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service area and create additional revenue streams as a full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C offering advanced broad band servi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Project/Network Tod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594440" y="2057400"/>
            <a:ext cx="653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Evaluation System in Goldthwaite and Undergo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ion T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90480" y="4343400"/>
            <a:ext cx="706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ary:  If it works as anticipated, and as we expect, the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local loop will allow us to deliver broad band services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across our Cooperative area and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.  It will also allow us to cost efficiently expand our competi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age areas into the surrounding rural a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94080" y="306216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Deployed 8 Test CPE with Services Being Provided Up To 25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94440" y="3427560"/>
            <a:ext cx="666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Have Test Customer Installations Providing 2-Way Data and An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V Using the Same Antenna.  (Replace the receiver with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ceiver and add a data mod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99120" y="2666880"/>
            <a:ext cx="58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Using MDS I for Upstream and MMDS E1 for Downstr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594440" y="233028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up to 3 and 5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96960" y="2725560"/>
            <a:ext cx="641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Generally Proprietary Equipment Based Upon ATM and DOC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97680" y="333540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Developing Towards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96240" y="41148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93720" y="4495680"/>
            <a:ext cx="62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Not Generally Subject to Multipath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94800" y="4876920"/>
            <a:ext cx="60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Greater Compared to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92280" y="3716280"/>
            <a:ext cx="71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ell (TDM via Circuit Emulation) and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- WL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5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95520" y="2330280"/>
            <a:ext cx="524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apable of Providing 25 to 30 Mile Coverage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95880" y="2725560"/>
            <a:ext cx="57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Both Standards Based and Proprietary Solu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97680" y="3106800"/>
            <a:ext cx="66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Data Delivery Speeds Up To 3 Mbps on Standards Based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95880" y="3854520"/>
            <a:ext cx="465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Relatively Unaffected by 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93000" y="423540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is Line of Sight Limited (or Near Line of Sigh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93720" y="4616280"/>
            <a:ext cx="64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RF Propagation Subject to Multipath Interference (or Challeng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94800" y="4997520"/>
            <a:ext cx="585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quipment Costs are Relatively Lower Compared to L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98400" y="3487680"/>
            <a:ext cx="35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cket Based Network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Experiences To Dat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2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594080" y="1905120"/>
            <a:ext cx="677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From Wireless TV Start-Up and Operations H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d Learning Curve for the 2-Way WLL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Start-up Issues/Concer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95160" y="2819520"/>
            <a:ext cx="668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rience Gained During First LMDS Deployment Has Been 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eficial to Ascertaining Technology and 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91920" y="3656160"/>
            <a:ext cx="667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nterconnection Agreement Negotiations Were Initially Tediou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ngthy; Today Favorable Agreements Exist That May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ed I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91920" y="4494240"/>
            <a:ext cx="63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Zoning and Permitting of Telecommunications Facilities Can 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t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94440" y="5105520"/>
            <a:ext cx="656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Expect the MMDS and LMDS WLL Technologies Will Play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 Role in Enabling Advanced and Broad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communications, and Expanding Our Service Area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nue Options in a Cost Effective M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Conclu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596240" y="2133720"/>
            <a:ext cx="668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and CTC - Very Excited About the Economic and Servi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ilities the MMDS and LMDS WLL Technologies W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 for our Organiz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Fu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90480" y="3048120"/>
            <a:ext cx="694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be an Important Asset Signific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urviving Forthcoming Regulatory Requirements and in 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ly Competitive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90840" y="3960720"/>
            <a:ext cx="669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otentially Save us Million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llars by Alleviating the Need to Rock Saw for Pla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ble in the G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90480" y="4876920"/>
            <a:ext cx="64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We Believe WLL Technologies Will Prove to be a Cost Effic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echnically Capable Broadband Alterna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97320" y="228600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unded in 1951 in Goldthwaite Tex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98040" y="2743200"/>
            <a:ext cx="42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3,302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600" y="320040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17 Telephone Exchanges with DSL De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all Ex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040" y="3824280"/>
            <a:ext cx="44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Approximately 7,600 Acc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96600" y="4738680"/>
            <a:ext cx="46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Member of the Texas Lone Star Fib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94440" y="5195880"/>
            <a:ext cx="69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Unregulated Services Through Central Texa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95520" y="4295880"/>
            <a:ext cx="593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Distance Learning by Connecting 12 Rural Sch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C Introduc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5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596600" y="2286000"/>
            <a:ext cx="708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Formed in 1993 to Provide Wireless TV Services Using MDS &amp; MM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98400" y="2743200"/>
            <a:ext cx="41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Serves Approximately 4700 Square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7680" y="3200400"/>
            <a:ext cx="49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onsists of 3 Super Cells with Analog Head 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95520" y="365760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Video Broadcast Services to Approximately 3,000 Subscri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97680" y="4129200"/>
            <a:ext cx="44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rovides Long Distance to CTTC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99120" y="4586400"/>
            <a:ext cx="37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Operates an ISP Business Since 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98040" y="5027760"/>
            <a:ext cx="604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Participated in the 1997/1998 LMDS Auction and Ac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&amp; B Spectrum Blocks in 2 Basic Trade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ing 19 County Area Consisting of 212,000 p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7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CTTC and CTC Coverage Are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57" name="Texas%20LMDS_MMDS_ILEC%20Larry3" descr=""/>
          <p:cNvPicPr/>
          <p:nvPr/>
        </p:nvPicPr>
        <p:blipFill>
          <a:blip r:embed="rId4"/>
          <a:stretch/>
        </p:blipFill>
        <p:spPr>
          <a:xfrm>
            <a:off x="1828800" y="1295280"/>
            <a:ext cx="632448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Legacy Narrow Band Netw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2" name="Circuit%20Network%20No%20Title" descr=""/>
          <p:cNvPicPr/>
          <p:nvPr/>
        </p:nvPicPr>
        <p:blipFill>
          <a:blip r:embed="rId4"/>
          <a:stretch/>
        </p:blipFill>
        <p:spPr>
          <a:xfrm>
            <a:off x="2057400" y="16002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Fixed Wireless (LMDS) and ATM Network Overla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ATM%20Overlay" descr=""/>
          <p:cNvPicPr/>
          <p:nvPr/>
        </p:nvPicPr>
        <p:blipFill>
          <a:blip r:embed="rId4"/>
          <a:stretch/>
        </p:blipFill>
        <p:spPr>
          <a:xfrm>
            <a:off x="1905120" y="1600200"/>
            <a:ext cx="6095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otivations for Wireless Technolog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1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93360" y="2286000"/>
            <a:ext cx="63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TC Services a High Cost Area - Alternative to Bulldozing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ck S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99120" y="351936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xpand Servic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98400" y="3914640"/>
            <a:ext cx="31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New Revenue Str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94440" y="4295880"/>
            <a:ext cx="601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Enable Enhanced Services to our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oad Band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Effective Packet Based Enabling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hanced Voice Services (Vo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92640" y="2895480"/>
            <a:ext cx="579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CTC - Cost Efficient Local Loop Enabling Facilities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 Services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/LMDS - Market Consider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0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92640" y="1981080"/>
            <a:ext cx="6749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2-Way M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Radius of Coverage Area Suitable for Spar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Base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3 Mbps (DOCSI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gnificantly Low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Residential, SOHO, and Sm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3360" y="4005360"/>
            <a:ext cx="6671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LM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rt Radius of Coverage Area Suitable for Densely Populated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ATM and Packet Based System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peeds up to Approximately 100 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vely Higher CP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Suitable Technology for Small Through Very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228600" y="1600200"/>
          <a:ext cx="3618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00200"/>
                    <a:ext cx="3618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33360" y="533160"/>
            <a:ext cx="6476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Caslon Regular"/>
              </a:rPr>
              <a:t>MMDS &amp; LMDS - Getting Star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cttclogo1%206-2000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1222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96600" y="1905120"/>
            <a:ext cx="461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Use Spectrum We’ve Secured Over the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93720" y="3930480"/>
            <a:ext cx="663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Identified Requirements and Issued a Detailed Request for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elected Vend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95520" y="2681280"/>
            <a:ext cx="490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Leveraging Existing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ber Network Into Surrounding Ar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utation of Mobile Wireless Affil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 TV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97680" y="4586400"/>
            <a:ext cx="552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Selected Vendors and Deployed Evalu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bridge Networks/Alca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emble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MDS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vecom Communications and Ci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598040" y="2286000"/>
            <a:ext cx="43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»  Perform Preliminary Network RF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18:19:14Z</dcterms:created>
  <dc:creator>Mike Connely</dc:creator>
  <dc:description/>
  <dc:language>en-US</dc:language>
  <cp:lastModifiedBy>LarryP</cp:lastModifiedBy>
  <cp:lastPrinted>2001-12-18T15:54:35Z</cp:lastPrinted>
  <dcterms:modified xsi:type="dcterms:W3CDTF">2002-02-06T21:23:23Z</dcterms:modified>
  <cp:revision>77</cp:revision>
  <dc:subject/>
  <dc:title>No Slide Title</dc:title>
</cp:coreProperties>
</file>