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0" y="457200"/>
            <a:ext cx="9142920" cy="6019920"/>
            <a:chOff x="-3600" y="457200"/>
            <a:chExt cx="9142920" cy="6019920"/>
          </a:xfrm>
        </p:grpSpPr>
        <p:grpSp>
          <p:nvGrpSpPr>
            <p:cNvPr id="1" name=""/>
            <p:cNvGrpSpPr/>
            <p:nvPr/>
          </p:nvGrpSpPr>
          <p:grpSpPr>
            <a:xfrm>
              <a:off x="-3600" y="4286160"/>
              <a:ext cx="9142920" cy="1524240"/>
              <a:chOff x="-3600" y="4286160"/>
              <a:chExt cx="9142920" cy="15242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-3600" y="4286160"/>
                <a:ext cx="913932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-3600" y="4438800"/>
                <a:ext cx="913932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-3240" y="4591080"/>
                <a:ext cx="914256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-3240" y="4743360"/>
                <a:ext cx="914256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-3240" y="4896000"/>
                <a:ext cx="914256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-3240" y="5048280"/>
                <a:ext cx="914256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-360" y="5200560"/>
                <a:ext cx="913932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-3240" y="5353200"/>
                <a:ext cx="914256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-3240" y="5505480"/>
                <a:ext cx="91425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-3240" y="5657760"/>
                <a:ext cx="914256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-3240" y="5810400"/>
                <a:ext cx="914256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c008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4712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775836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00942969-DF04-4D4F-B0D0-4B650C2013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2c40"/>
            </a:gs>
            <a:gs pos="50000">
              <a:srgbClr val="e5405d"/>
            </a:gs>
            <a:gs pos="100000">
              <a:srgbClr val="9f2c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2477520"/>
            <a:ext cx="7769520" cy="759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nggunaan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hmad Dani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di Nursaso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UC on Micro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B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ersonal mail forwarding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lakukan dengan membuat file 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for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 berisi alamat tujuan pada home director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.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etih@cnrg.itb.ac.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gsi uta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si sendmai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wri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ddress kedalam bentuk yang tepat bagi mailer pener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address ke instruksi yang diperlukan untuk mengirim 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dapatkan sample 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.uu.net mail/sendmail/sendmail.5.65.tar.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Berisi beberapa prototype fi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uu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ucpproto.c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General sendmail.cf structur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l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i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ssage Prece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of Hea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ing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il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chine-dependent Part of 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 Macr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Macro x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d1[ word2].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class c to word1 word2 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ad class c from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 o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1[ user2...]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 are user1,user2,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Preceden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=numb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ame to precedence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,{field=value}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Head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[?mflag?]name:forma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 header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Rulese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ruleset number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Ru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hs rhs comme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e lhs pattern to rhs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2000" y="2279520"/>
            <a:ext cx="4570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cnrg.itb.ac.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403812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Macro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 of the Macro being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assigned to the Mac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macro dan  mengisikan nilai padany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berapa macro internal harus didefinisikan, yai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TP entry mesag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j Sendmail $v ready at $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te's official ddomain na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w.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t of the UNIX from l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$g 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used in error messa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LER-DAEM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 of operators in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%\@!^=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ault sender address forma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g$?x ($x)$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3840" y="1960560"/>
            <a:ext cx="246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rnal Mac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macro menggunakan huruf kecil, User-defined macro menggunakan huruf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tuk melihat isi dari macro digunakan tanda $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lm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nut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j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w.$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 q mengandung conditional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g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x ($x)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 x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 Mar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aka q akan beri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(Yeni Marl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okok Bahasa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jalankan Sendmail Sebagai 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mail ali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figurasi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writ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il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dapat berupa konstruksi "else", dilambangkan denga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|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taksny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text1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|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xt2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adalah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ray of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segala sesuatu yang memiliki bermacam-macam harga tapi ditangani dengan cara yang s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 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etc/sendmail.c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 values to sendmail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user-created 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name of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t N minutes for @:@; the rebuild the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blank subtitutio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ue mail for expensive mai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ild the alias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 in background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usr/lib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06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Trusted Users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definisikan user yang dapat dipercaya untuk mengganti alamat pengirim dengan menggunakan flag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-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 ma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ing u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uu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Predence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uk menentukan prioritas messasge dalam antri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irst-class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pecial-delivery=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ulk=-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junk=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header yang disertakan dalam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er flag terdapat beberapa tanda tanya, menentukan apakah header itu disertakan atau tidak untuk suatu mailer terten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P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turn-Path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ived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?sfrom  $s $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y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j ($v/$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nt-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From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 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rom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x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ull-Nam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bjec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bjekti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konfigurasi sendmail pada UN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gunakan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progra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l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dipakai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name, {field=value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ler Definition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 of the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/bin/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ag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mail flags for this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lsDF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sender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ipi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recipient address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mailer argument vec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sh -c $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-of-line string for the mail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\r\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siz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imum message leng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oca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mai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rlsDFMmn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mail -d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og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sh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lsDFMe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sh -c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cp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[IPC]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mDFMueXLC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IPC $h, E=\r\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tter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ransforma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om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Pattern Match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*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zero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+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one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exactly one to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=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~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ll token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!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the NIS hosts.byname 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ken adalah string dalam e-mail address yang dipisahkan oleh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 alamat tetih@cnrg.itb.ac.id mengandung tok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tih, @, cnrg, . , itb, . , ac, . , 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amat itu akan match dengan pattern: $-@$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adalah string yang match, dan dinomori beruru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: address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@cnrg.itb.ac.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-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  dua  indefinite token yaitu  $1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$2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nrg,.,itb,.,ac,.,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dapat direfer dengan $1, $2, $3 , dan seterusny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yang digunakan  untuk me-rewrite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ation metasi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indefinite toke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[</a:t>
            </a:r>
            <a:r>
              <a:rPr b="0" i="1" lang="en-US" sz="2400" spc="-1" strike="noStrike">
                <a:solidFill>
                  <a:srgbClr val="ffde06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canonical 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&gt;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ruleset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@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ule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ewrite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trasformasi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t&lt;@nbsenh.bitnet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@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bitnet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@&lt;@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S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e the Bitnet r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hu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nbsen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@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cunyum.cuny.ed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address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&lt; @  nbsenh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|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pattrer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+    &lt; @  $+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indefinite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    nbse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transform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1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$2     &lt; @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B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 |             |   | 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rewritten add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nbsenh &lt; @ cunyum.cuny.edu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[name$]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konversi host's nickname  atau IP addressnya kedalam canonical namenya dengan memberikan harga name ke name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$&gt;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anggil ruleset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&gt;9$1%$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an memanggil rulset 9 dan memberikan harga $1, %, $2 kepadanya untuk  dipr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verview 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mail dibuat untuk mengatasi masalah dalam konfigurasi bermacam-macam program dan protocol yang digunakan untuk e-mail yang memilik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livery progra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ressing sche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ang berb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$@ dan $: untuk control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nsformasi diawali dengan  $@, ruleset berhenti, dan hasilnya adalah  hasil akhir proses transforma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sformasi diawali dengan $: ruleset hanya  dieksekusi sekali, dapat menghindari loops saat memanggil rulese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pecial Rewrite Rul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rewrite rule syntax yang hanya ada pada ruleset 0 untuk menuliskan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mailer$@host$: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resolveSMTP traff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$*&lt;@$+&gt;$*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$#tcpld$@$2$:$1&lt;@$2&gt;$3     user@host.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tcpld$@cnrg.itb.ac.id$: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adalah kumpulan dari ruleset yang dapat di-refer dengan angk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set yang punya fungsi khusus dalam sendmai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set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ang pertama kali dikenakan pada address. Mengkonversi address kedalam bentuk canonical-nya local-part@host.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recipient address. Menghasilkan triple mailer,host,u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ad seluruh alamat pengi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lamat pener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ddress. Menterjemahkan internal address format ke dalam external address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ore Informati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ensi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P/IP Network Administra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, Craig Hunt, O’Reilly &amp; Associat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tp://... sendmail.8.6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irim mail ke seorang user dengan program delivery yang cocok yang berdasarkan kepada alamat e-ma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erima dan mengirim internet (SMTP) 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yediak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-wide mail ali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sehingga memungkinkan mailing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2057400"/>
          <a:ext cx="655308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5530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jalankan sendmail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bagai Daem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if [ -f /usr/lib/sendmail ]; t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d /usr/spool/mqueue; rm -f lf*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/usr/lib/sendmail -bd -q1h; echo -n ' sendmail' &gt; /dev/cons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nany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ernate nam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uk setiap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ing mail ke hos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Format file /etc/alia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9b0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ias_name: recipient1[ ,recipient2, 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 /etc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special 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ostmaster: adn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oot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ccept first-initial_last-name@itb.ac.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udi: rudi@system.pa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niel: daniel@cn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 mailing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dmin: adnan, ismail, arman, yeni@hme.ee,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tetih@biot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wner-admin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2T14:28:18Z</dcterms:created>
  <dc:creator/>
  <dc:description/>
  <dc:language>en-US</dc:language>
  <cp:lastModifiedBy>Onno W. Purbo</cp:lastModifiedBy>
  <cp:lastPrinted>1995-11-19T15:43:52Z</cp:lastPrinted>
  <dcterms:modified xsi:type="dcterms:W3CDTF">1999-04-19T03:11:23Z</dcterms:modified>
  <cp:revision>15</cp:revision>
  <dc:subject/>
  <dc:title>Training</dc:title>
</cp:coreProperties>
</file>