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6AF-7D7F-40C8-9F92-1927211C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C3E-ED10-4706-9588-1C02A9A4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1A1-B138-4FE8-ADD8-C4858F70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F0C-01F2-4FF4-9831-ADCE1568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65F5-DE76-4BAA-976A-8BDE7594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1277-7638-47A4-B69B-15FCB955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AC29-934D-4E8A-95FB-353AEFAC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DCAC-1002-4294-B8F7-E3C2868D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DC40-75F1-42AC-B2EF-ACF5AF9C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D817-E311-4096-82E3-82918B0D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5E21-528F-4A85-9241-EA78D29F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E82-6C82-48AF-8EFB-F3B85B8B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1C7B-9726-4D36-8DCC-0463D4E6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96BA-AD6A-4141-8560-B417D2A1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0AA2-2A08-4457-A85A-2C235DC2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660F-71B2-4F8E-A1D8-19E980FD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200C-70B9-4925-8D00-B7F64DF1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406-7972-4E6C-92F7-F0029B8F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3E6-E7D8-4DC6-985B-F4C55178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D17-900E-401D-AEF8-0CF8AC73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151-A359-48F5-8361-3101FBD8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DFB-C68C-4742-9C3A-6BB6A19D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932-27FB-4CD1-9B65-EFCDA032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E83-CDF0-45D1-8CE5-9B2EDEE2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3654-CF0C-42C7-80D0-933F40447F5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D104-2606-40D4-B863-1FBB2C80B3F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mailto:ismail@itb.ac.id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groups.com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igital.lib.itb.ac.id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idln-announcement-subscribe@idln.itb.ac.id" TargetMode="External"/><Relationship Id="rId3" Type="http://schemas.openxmlformats.org/officeDocument/2006/relationships/hyperlink" Target="mailto:idln-announcement-subscribe@idln.itb.ac.id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http://netmon.itb.ac.id/~ismai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decisionmaker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 Untuk 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mail Fah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@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owledge Management Research Group IT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lma Dinamika - Sheraton, 18 Oktober 2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kmrg-logo-web01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868320" cy="101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Ms Outloo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mpilan dep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7467480" cy="531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3429000"/>
            <a:ext cx="1219320" cy="2743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2590920"/>
            <a:ext cx="5333760" cy="9144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962520"/>
            <a:ext cx="5333760" cy="23619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819520"/>
            <a:ext cx="76212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0040" y="2286000"/>
            <a:ext cx="14821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lend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80" y="41148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52600" y="2133720"/>
            <a:ext cx="2140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ader Ema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3800" y="3581280"/>
            <a:ext cx="13176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si sur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600200"/>
            <a:ext cx="762120" cy="304920"/>
          </a:xfrm>
          <a:prstGeom prst="ellipse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600200"/>
            <a:ext cx="1752480" cy="228600"/>
          </a:xfrm>
          <a:prstGeom prst="rect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5120" y="1523880"/>
            <a:ext cx="871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ar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7080" y="1066680"/>
            <a:ext cx="22428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i Respon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41120" y="1905120"/>
            <a:ext cx="21240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ules Wiz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2EA-700F-464E-A82E-8BF35EBA52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ngatur Fol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at-surat masuk dikelompokkan berdasarkan topik/pengirim/gro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ules Wiz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905280" cy="390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67080" y="2895480"/>
            <a:ext cx="1828800" cy="1600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800600"/>
            <a:ext cx="28954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1640" y="34290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6040" y="5029200"/>
            <a:ext cx="1168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tu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D13-8894-4349-BDCD-86D57EF76E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oter, identitas pengirim, organisasi, alamat kontak 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4757" t="58197" r="0" b="0"/>
          <a:stretch/>
        </p:blipFill>
        <p:spPr>
          <a:xfrm>
            <a:off x="2895480" y="3733920"/>
            <a:ext cx="5905800" cy="2333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4800600"/>
            <a:ext cx="54100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0248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5D3-2D6A-482B-A902-773F33DEA9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179880" cy="3352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657600" y="1447920"/>
            <a:ext cx="2819520" cy="278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4057920" cy="3647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18636000">
            <a:off x="2743200" y="3079800"/>
            <a:ext cx="2362320" cy="304560"/>
          </a:xfrm>
          <a:prstGeom prst="rightArrow">
            <a:avLst>
              <a:gd name="adj1" fmla="val 50000"/>
              <a:gd name="adj2" fmla="val 193913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19810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A1A-2C7A-416C-9F82-3DB3C8286B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irim File (Attachmen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off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commun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5600880" cy="3943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29200" y="2971800"/>
            <a:ext cx="380880" cy="38088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648320"/>
            <a:ext cx="5257800" cy="7617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844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12720" y="2438280"/>
            <a:ext cx="155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nsert f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5638680"/>
            <a:ext cx="838080" cy="8384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16360" y="5867280"/>
            <a:ext cx="34099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ile yang akan dik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A31-9F57-4FB4-A2BF-8B05310CEA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san Err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0" y="1525680"/>
            <a:ext cx="5301360" cy="2770920"/>
          </a:xfrm>
          <a:prstGeom prst="rect">
            <a:avLst/>
          </a:prstGeom>
          <a:noFill/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From: Mail Delivery Subsyste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Date: Sat, 25 May 91 16:45:14 -0400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To: mg@gracie.co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Cc: Postmaster@cs.widener.edu Subject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Returned mail: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----- Transcript of session follows -----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While talking to cs.widener.edu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gt;&gt;&gt; RCPT To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lt;&lt;&lt; 550 ...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550 lsimpson... User unknow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3352680"/>
            <a:ext cx="236232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6160" y="4267080"/>
            <a:ext cx="562896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esan error dapat diketahui dar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Email yang dikembalikan ke peng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A90-266E-432B-950F-E29FA4CF3E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alend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467840" cy="5310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6520" y="2895480"/>
            <a:ext cx="68580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953320" y="1219320"/>
            <a:ext cx="25473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ave sbg HT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6E4-DE2B-4588-A7C0-E8C5B27E0A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ling list: sebuah alamat email yang mendistribusikan setiap pesan ke seluruh anggotany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buat mailing list sendiri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ww.egroups.c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585-783B-475E-985C-48ECEDC01D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al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Courier New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mendaftar sebagai anggo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 tertentu misal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subscrib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keluar dari keanggota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unsubscri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un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C4A-47CF-4D9B-ABA6-1E2D9E26F7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: etika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semakin diperlukan ketik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irim email ke distribution lis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net, ata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t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oh netiquette yang buruk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DF8-44EA-4319-96D9-806451F73C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Public Re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ngap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gaimana sampai ke sa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gital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B3D-1792-4D9E-9B43-64DBF8BC70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irim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unsolicite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email di Interne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a perusahaan yang khusus mengumpulkan alamat email untuk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dispam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ang spamming misal ingin beriklan, promosi produk, dll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maki seseorang di forum umum (mailing list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amming biasanya ditujukan pada ORANG (subjektif) bukan pada INFORMASI (objektif) yang sedang dibah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69B-A854-44CA-9ECF-AB6CE8C6B9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wslet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719520" y="1295280"/>
            <a:ext cx="5157720" cy="5334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67760" y="1828800"/>
            <a:ext cx="2667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kirim hanya 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scri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gus untuk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yebarkan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si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rbaru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gan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7760" y="6019920"/>
            <a:ext cx="21834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sis Te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B3E4-46EE-479E-9A62-4C4C7E29B5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039000" cy="4695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943600" y="2590920"/>
            <a:ext cx="12952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572000"/>
            <a:ext cx="160020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2590920"/>
            <a:ext cx="45720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74640" y="2133720"/>
            <a:ext cx="198828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Order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22760" y="2057400"/>
            <a:ext cx="16117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lp de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03200" y="4038480"/>
            <a:ext cx="1742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howro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3962520"/>
            <a:ext cx="2210040" cy="1371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4680" y="342900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73D-1322-4FD5-997B-D877DCB47C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gital Libr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elola arsip-arsip secara digit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untunga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emat tempa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an cepat ditemu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iorganisasi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pat diakses secara onl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ngat membantu kinerja organis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tuk berbagai format arsip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mat arsip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ll teks, source co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e, gamb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ltimedia (audio, vide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C58-8838-43FE-8B5A-D82B82BD16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</a:t>
            </a:r>
            <a:r>
              <a:rPr b="0" lang="en-US" sz="4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digital.lib.itb.ac.id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6105240" cy="5165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743200" y="3809880"/>
            <a:ext cx="3733920" cy="10670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4952880"/>
            <a:ext cx="1905120" cy="15242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8280" y="3352680"/>
            <a:ext cx="3733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gai tipe 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1480" y="533412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47C-F3BC-48CC-A0BC-745C4DF0D2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dahnya akses arsip digit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665440" y="1371600"/>
            <a:ext cx="4973760" cy="5367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3676680" cy="3095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rcRect l="0" t="27931" r="29011" b="7700"/>
          <a:stretch/>
        </p:blipFill>
        <p:spPr>
          <a:xfrm>
            <a:off x="228600" y="2743200"/>
            <a:ext cx="3048120" cy="1752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3657600"/>
            <a:ext cx="2286000" cy="3049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2286000"/>
            <a:ext cx="31240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6840" y="3124080"/>
            <a:ext cx="173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Judul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31480" y="1752480"/>
            <a:ext cx="22046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tegori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6095880"/>
            <a:ext cx="2133360" cy="457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11600" y="5334120"/>
            <a:ext cx="213588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Download/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lay file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92680" y="4191120"/>
            <a:ext cx="2817360" cy="13737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eal Player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utk mendengarkan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rsip multimed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rcRect l="0" t="44018" r="28947" b="0"/>
          <a:stretch/>
        </p:blipFill>
        <p:spPr>
          <a:xfrm>
            <a:off x="228600" y="1676520"/>
            <a:ext cx="2971800" cy="1028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1600200"/>
            <a:ext cx="2590560" cy="5335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46360" y="1219320"/>
            <a:ext cx="11469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ea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2362320"/>
            <a:ext cx="0" cy="5331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438280" y="3048120"/>
            <a:ext cx="1752840" cy="7617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D89-4AAB-40FA-A2C9-6D1507F6B8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aringan Digital Library Nasi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titusi pendidikan dan ris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ling berbagi informasi ilmu pengetahuan yang dimiliki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isiatif KMRG ITB: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onesiaDLN, Indonesian Digital Library Network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 site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scribe mailing list: </a:t>
            </a:r>
            <a:br>
              <a:rPr sz="3200"/>
            </a:b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idln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-announcement-subscribe@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9F3-9888-479B-930D-F4E9ABF2DA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kenario IndonesiaDL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1472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76520" y="1447920"/>
          <a:ext cx="6705360" cy="51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67053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4EE-77E0-4C4F-BE9D-18C750B5EF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ncana Implementasi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766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1447920"/>
          <a:ext cx="7086600" cy="50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708660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D71-D432-4952-A675-E697BA195B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imakasi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MRG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@itb.ac.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netmon.itb.ac.id/~isma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/Fax: 022-2500089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pustakaan Pusat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l. Ganesha 10 Bandung 4013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FD0-E78B-452C-9EFF-C5B2E7E848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ap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lombang ketiga: Informas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tumbuh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pat, Efektif, Efisi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lua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e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ll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ntanga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ktretaris, staff, boss mau tidak mau harus dapat memanfaatk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0C8-F30E-4996-A5AB-E6B103ABC3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Comme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Tail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isn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an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EBF-5D05-4F72-93C2-AEC445B91C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ectronic Commerce (EC): Jual beli barang/jasa di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 dilakukan melalui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-tailing (virtual storefronts, virtual mall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mazon.com: buk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DNow: C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liesOnline: office supply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 (misal data demigrafis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lling, survey via web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I, Electronic Data Interchange, pertukaran data bisnis secara elektro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Bersambung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EA0-2895-4AB6-94D0-B2627B505E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, Fax, Internet Telephony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solicited ads (promosi lewat email spam)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mail newsletter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gn-up to receive email (ttg produk yang diminati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-to-B (Business-to-Business)  jual bel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Jual beli produk antar perusahaan melalui Intern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4 jam/hari showc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 reach a right people in a comp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of Business Transaction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uthentik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gistrasi akses dan logi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kripsi (penyandian dat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vacy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609-262B-407F-A425-16D4EBC954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Busi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-Bisnis, Bisnis di Interne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dak hanya untuk jual bel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pi juga pemberian layanan, kolaborasi, dan joint research dengan partner bisni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tama kali digunakan oleh IBM (Oktober 97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ini banyak perusahaan berfikir bisnis dengan budaya dan kapabilitas baru menggunakan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oh sukses: Amazon.com, IBM, HP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jalah ttg E-bisnis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decisionmaker.c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61B-D367-478F-A987-9E24C79BFF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gaimana bisa ke san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kill dasar bagi Public Rela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ai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c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s Grou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21A-42DA-4769-B1D1-1D0CFC5B78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ma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 tool paling ampuh untuk  komunikasi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pat dan mudah memberi response, tidak perlu khawatir bagaimana sampai ke tuju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ftware-2 Email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s Outloo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scape Communicat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gasus M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0D3-BDAF-49C3-9637-8E567622B9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01:18:43Z</dcterms:created>
  <dc:creator>Ismail Fahmi</dc:creator>
  <dc:description/>
  <dc:language>en-US</dc:language>
  <cp:lastModifiedBy>Ismail Fahmi</cp:lastModifiedBy>
  <dcterms:modified xsi:type="dcterms:W3CDTF">2000-10-16T09:29:38Z</dcterms:modified>
  <cp:revision>35</cp:revision>
  <dc:subject/>
  <dc:title>Internet Untuk Sekretaris</dc:title>
</cp:coreProperties>
</file>