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99840" y="397836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8460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860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9984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3860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8460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99840" y="397836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8460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6940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53860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9984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6940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53860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460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2" marL="966240" indent="-20340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3" marL="1271520" indent="-203400">
              <a:spcBef>
                <a:spcPts val="799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4" marL="1576440" indent="-20340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5" marL="1576440" indent="-20340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6" marL="1576440" indent="-20340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lvl="2" marL="85716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8000"/>
              </a:solidFill>
              <a:latin typeface="Tahoma"/>
            </a:endParaRPr>
          </a:p>
          <a:p>
            <a:pPr lvl="3" marL="1200240" algn="ctr">
              <a:spcBef>
                <a:spcPts val="499"/>
              </a:spcBef>
              <a:buClr>
                <a:srgbClr val="008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4" marL="154296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5" marL="154296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6" marL="154296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66120" y="0"/>
            <a:ext cx="666720" cy="5931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0" y="2666880"/>
            <a:ext cx="838440" cy="417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64120" cy="6915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7632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 Black"/>
              </a:rPr>
              <a:t>How collection building works</a:t>
            </a:r>
            <a:br>
              <a:rPr sz="3600"/>
            </a:b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029200"/>
            <a:ext cx="5257800" cy="1676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ourse material prepared b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Greenstone Digital Library Project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University of Waikato, New Zealand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and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National Centre for Science Information,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Indian Institute of Science, Bangalor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79920" y="1295280"/>
            <a:ext cx="2826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14400" y="1523880"/>
            <a:ext cx="7543800" cy="1079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buildda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te  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951855434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indexmap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  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section:text-&gt;stx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section:Title-&gt;stt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ocument:text-&gt;dtx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numbytes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3029746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numdocs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11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28600"/>
            <a:ext cx="71625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Contents of demo/index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9907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used by receptionist to determine indexe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0666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build.cfg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3544920"/>
            <a:ext cx="259092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r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text: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r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ldb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r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t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text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r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td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ictionary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r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ti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text index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23920"/>
                <a:tab algn="r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demo.tsd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stats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13240"/>
            <a:ext cx="19814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assoc: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0141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0169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01a3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01b4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01ba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01d6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0f76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863c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8b94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c5b3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HASHd803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3544920"/>
            <a:ext cx="35816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0360"/>
                <a:tab algn="r" pos="3193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s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tx: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  stt:   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tx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: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0360"/>
                <a:tab algn="r" pos="3193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i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inverted file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0360"/>
                <a:tab algn="r" pos="3193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tiw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oc weights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0360"/>
                <a:tab algn="r" pos="3193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wa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approx weights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0360"/>
                <a:tab algn="r" pos="3193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idb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term dict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0360"/>
                <a:tab algn="r" pos="3193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ib1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stem indexes: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0360"/>
                <a:tab algn="r" pos="3193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ib2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casefolded,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0360"/>
                <a:tab algn="r" pos="3193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demo.ib3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 </a:t>
            </a:r>
            <a:r>
              <a:rPr b="0" i="1" lang="en-US" sz="1400" spc="-1" strike="noStrike">
                <a:solidFill>
                  <a:srgbClr val="008000"/>
                </a:solidFill>
                <a:latin typeface="Courier New"/>
                <a:ea typeface="MS Mincho"/>
              </a:rPr>
              <a:t>stemmed, both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31240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associated files        mg text                   mg indexe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5977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ocument database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895480" y="3962520"/>
            <a:ext cx="0" cy="22096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962520"/>
            <a:ext cx="53352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6172200"/>
            <a:ext cx="2286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466120" y="0"/>
            <a:ext cx="666720" cy="5931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0" y="2666880"/>
            <a:ext cx="838440" cy="417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64120" cy="6915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971800" y="2286000"/>
            <a:ext cx="5867280" cy="34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8000"/>
                </a:solidFill>
                <a:latin typeface="Tahoma"/>
              </a:rPr>
              <a:t>Building a collection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8000"/>
                </a:solidFill>
                <a:latin typeface="Tahoma"/>
              </a:rPr>
              <a:t>The dreaded black screen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8000"/>
                </a:solidFill>
                <a:latin typeface="Tahoma"/>
              </a:rPr>
              <a:t>More on building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77120" cy="97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2971800"/>
            <a:ext cx="68580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352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$GSDLHOM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118584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llect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2023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emo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3048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mport          archives            building            index       etc      perllib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76212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152388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243828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0040" y="2438280"/>
            <a:ext cx="1219320" cy="5335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828440" y="2438280"/>
            <a:ext cx="2438280" cy="5335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2438280"/>
            <a:ext cx="1371600" cy="609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2438280"/>
            <a:ext cx="2133720" cy="609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2438280"/>
            <a:ext cx="2819160" cy="609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1523880"/>
            <a:ext cx="53316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1523880"/>
            <a:ext cx="91440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733560" y="1523880"/>
            <a:ext cx="609480" cy="3812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762120"/>
            <a:ext cx="53316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762120"/>
            <a:ext cx="91440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733560" y="762120"/>
            <a:ext cx="609480" cy="3808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5812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1400" y="35812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5280" y="35812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35053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4495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Put material her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3341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import.pl demo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4572000"/>
            <a:ext cx="0" cy="6858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48006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buildcol.pl demo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457200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5334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del index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move building index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4120" y="4572000"/>
            <a:ext cx="0" cy="6858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4572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llection served from here (or to CD-ROM)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10280" y="3657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llection configuration fil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3429000"/>
            <a:ext cx="304920" cy="2286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rot="5400000">
            <a:off x="635400" y="347904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5228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The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building process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9440" y="231156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kcol.pl demo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Start a command prompt</a:t>
            </a: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51902" r="69335" b="0"/>
          <a:stretch/>
        </p:blipFill>
        <p:spPr>
          <a:xfrm>
            <a:off x="0" y="1600200"/>
            <a:ext cx="4892760" cy="5257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30560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449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14300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   </a:t>
            </a: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Command Promp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44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198108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428840" indent="-1428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:\&gt; cd "C:\Program Files\Greenstone"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:\Program Files\Greenstone&gt; setup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:\Program Files\Greenstone&gt;perl –S mkcol.p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–creator me@here colnam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py source into collect\colname\import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:\&gt;perl –S import.pl colnam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:\&gt;perl –S buildcol.pl colnam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name the “building” directory to “index”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The building process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466120" y="0"/>
            <a:ext cx="666720" cy="5931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80" y="2666880"/>
            <a:ext cx="838440" cy="417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64120" cy="69152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971800" y="2286000"/>
            <a:ext cx="5867280" cy="34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8000"/>
                </a:solidFill>
                <a:latin typeface="Tahoma"/>
              </a:rPr>
              <a:t>Building a collection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8000"/>
                </a:solidFill>
                <a:latin typeface="Tahoma"/>
              </a:rPr>
              <a:t>The dreaded black screen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8000"/>
                </a:solidFill>
                <a:latin typeface="Tahoma"/>
              </a:rPr>
              <a:t>More on building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77120" cy="97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3429000"/>
            <a:ext cx="68580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8600" y="1371600"/>
            <a:ext cx="8763120" cy="5385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?xml version="1.0" ?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!DOCTYPE GreenstoneDirectoryMetadata SYSTEM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"http://greenstone.org/dtd/GreenstoneDirectoryMetadata/1.0/GreenstoneDirectoryMetadata.dtd"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DirectoryMetadata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FileSet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FileName&gt;nugget.*&lt;/FileName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Description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 name="Title"&gt;Nugget Point, The Catlins&lt;/Metadata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 name="Place" mode="accumulate"&gt;Nugget Point&lt;/Metadata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/Description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/FileSet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FileSet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FileName&gt;nugget-point-1.jpg&lt;/FileName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Description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 name="Title"&gt;Nugget Point Lighthouse&lt;/Metadata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 name="Subject"&gt;Lighthouse&lt;/Metadata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/Description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MS Mincho"/>
              </a:rPr>
              <a:t>&lt;/FileSet&gt;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&lt;/DirectoryMetadata&gt;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-763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Arial Black"/>
              </a:rPr>
              <a:t>Specifying metadata:</a:t>
            </a:r>
            <a:br>
              <a:rPr sz="4000"/>
            </a:br>
            <a:r>
              <a:rPr b="0" lang="en-NZ" sz="4000" spc="-1" strike="noStrike">
                <a:solidFill>
                  <a:srgbClr val="008000"/>
                </a:solidFill>
                <a:latin typeface="Arial Black"/>
              </a:rPr>
              <a:t>XML metadata file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04920" y="2224080"/>
            <a:ext cx="8534160" cy="302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DOCTYPE GreenstoneDirectoryMetadata [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ELEMENT DirectoryMetadata (FileSet*)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ELEMENT FileSet (FileName+,Description)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ELEMENT FileName (#PCDATA)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ELEMENT Description (Metadata*)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ELEMENT Metadata (#PCDATA)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ATTLIST Metadata name CDATA #REQUIRED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ATTLIST Metadata mode (accumulate|override) "override"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]&gt;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0"/>
            <a:ext cx="7772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XML metadata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3360" y="141912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Tahoma"/>
              </a:rPr>
              <a:t>Document type definition (DTD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09680" y="76320"/>
            <a:ext cx="6858000" cy="673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?xml version=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1.0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?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!DOCTYPE GreenstoneArchive SYSTEM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http://greenstone.org/dtd/GreenstoneArchive/1.0/GreenstoneArchive.dtd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Sec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Descrip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 name=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gsdlsourcefilename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gt;ec158e.txt&lt;/Metadata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 name=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Title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gt;Freshwater Resources in Arid Lands&lt;/Metadata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</a:t>
            </a:r>
            <a:r>
              <a:rPr b="1" lang="en-NZ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name=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Identifier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gt;HASH0158f56086efffe592636058&lt;/Metadata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</a:t>
            </a:r>
            <a:r>
              <a:rPr b="1" lang="en-NZ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name=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gsdlassocfile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gt;cover.jpg:image/jpeg:&lt;/Metadata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</a:t>
            </a:r>
            <a:r>
              <a:rPr b="1" lang="en-NZ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name=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gsdlassocfile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gt;p07a.png:image/png:&lt;/Metadata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/Descrip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Sec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Descrip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 name=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Title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gt;Preface&lt;/Metadata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/Descrip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Content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  </a:t>
            </a:r>
            <a:r>
              <a:rPr b="1" i="1" lang="en-AU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This is the text of the preface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/Content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/Sec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Sec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Descrip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 name=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Title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gt;First and only chapter&lt;/Metadata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/Descrip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Sec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Descrip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Metadata name=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Title</a:t>
            </a:r>
            <a:r>
              <a:rPr b="1" lang="en-CA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gt;Part 1&lt;/Metadata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/Descrip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Content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  </a:t>
            </a:r>
            <a:r>
              <a:rPr b="1" i="1" lang="en-AU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This is the first part of the first and only chapter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/Content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/Sec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MS Mincho"/>
              </a:rPr>
              <a:t>&lt;/Section&gt;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&lt;/Section&gt; 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52280"/>
            <a:ext cx="2133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Tahoma"/>
              </a:rPr>
              <a:t>Greenstone Archive Format: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Tahoma"/>
              </a:rPr>
              <a:t>Example document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6324480"/>
            <a:ext cx="6858000" cy="304920"/>
          </a:xfrm>
          <a:custGeom>
            <a:avLst/>
            <a:gdLst>
              <a:gd name="textAreaLeft" fmla="*/ 0 w 6858000"/>
              <a:gd name="textAreaRight" fmla="*/ 6858360 w 6858000"/>
              <a:gd name="textAreaTop" fmla="*/ 63000 h 304920"/>
              <a:gd name="textAreaBottom" fmla="*/ 2419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466120" y="0"/>
            <a:ext cx="666720" cy="5931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0" y="2666880"/>
            <a:ext cx="838440" cy="417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64120" cy="6915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971800" y="2286000"/>
            <a:ext cx="5867280" cy="34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8000"/>
                </a:solidFill>
                <a:latin typeface="Tahoma"/>
              </a:rPr>
              <a:t>Building a collection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8000"/>
                </a:solidFill>
                <a:latin typeface="Tahoma"/>
              </a:rPr>
              <a:t>The dreaded black screen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8000"/>
                </a:solidFill>
                <a:latin typeface="Tahoma"/>
              </a:rPr>
              <a:t>More on building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77120" cy="97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4920" y="2224080"/>
            <a:ext cx="8534160" cy="235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DOCTYPE GreenstoneArchive [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ELEMENT Section (Description,Content,Section*)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ELEMENT Description (Metadata*)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ELEMENT Content (#PCDATA)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!ELEMENT Metadata (#PCDATA)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  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&lt;ATTLIST Metadata name CDATA #REQUIRED&gt;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MS Mincho"/>
              </a:rPr>
              <a:t>]&gt;</a:t>
            </a:r>
            <a:r>
              <a:rPr b="1" lang="en-AU" sz="1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0"/>
            <a:ext cx="7772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Greenstone archive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3360" y="141912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Tahoma"/>
              </a:rPr>
              <a:t>Document type definition (DTD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43000" y="0"/>
            <a:ext cx="7467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Black"/>
              </a:rPr>
              <a:t>Document database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533520"/>
            <a:ext cx="5562720" cy="6316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[42]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section&gt;HASH863cfd85c90056aeb66bc3.7.1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----------------------------------------------------------------------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[HASH863cfd85c90056aeb66bc3.7.1]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doctype&gt;doc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hastxt&gt;1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Title&gt;National park restoration in Chad: luxury or necessity ?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docnum&gt;42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----------------------------------------------------------------------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[HASH863cfd85c90056aeb66bc3.8]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doctype&gt;doc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hastxt&gt;0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Title&gt;Developing World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childtype&gt;VList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contains&gt;".1;".2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docnum&gt;43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----------------------------------------------------------------------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[CL1]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doctype&gt;classify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hastxt&gt;0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childtype&gt;VList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Title&gt;Subject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numleafdocs&gt;17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thistype&gt;Invisible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contains&gt;".1;".2;".3;".4;".5;".6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----------------------------------------------------------------------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[CL1.2]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doctype&gt;classify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hastxt&gt;0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childtype&gt;VList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Title&gt;Communication, Information and Documentation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numleafdocs&gt;1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contains&gt;".1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8000"/>
                </a:solidFill>
                <a:latin typeface="Courier New"/>
                <a:ea typeface="MS Mincho"/>
              </a:rPr>
              <a:t>&lt;mdoffset&gt;</a:t>
            </a:r>
            <a:endParaRPr b="0" lang="en-US" sz="1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609480"/>
            <a:ext cx="1828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emo/ index/ demo.ldb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52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$GSDLHOM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118584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llect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2023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emo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048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mport          archives            building            index       etc      perllib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76212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152388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43828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200040" y="2438280"/>
            <a:ext cx="1219320" cy="5335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828440" y="2438280"/>
            <a:ext cx="2438280" cy="5335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438280"/>
            <a:ext cx="1371600" cy="609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438280"/>
            <a:ext cx="2133720" cy="609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438280"/>
            <a:ext cx="2819160" cy="609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523880"/>
            <a:ext cx="53316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1523880"/>
            <a:ext cx="91440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1523880"/>
            <a:ext cx="609480" cy="3812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762120"/>
            <a:ext cx="53316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762120"/>
            <a:ext cx="91440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33560" y="762120"/>
            <a:ext cx="609480" cy="3808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3480" y="35812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1400" y="35812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5280" y="35812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35053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4495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Put material here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3341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import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4572000"/>
            <a:ext cx="0" cy="6858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5029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build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457200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5334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rename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Tahoma"/>
              </a:rPr>
              <a:t>directory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572000"/>
            <a:ext cx="0" cy="6858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572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Collection served from here (or to CD-ROM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657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Collection configuration file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3429000"/>
            <a:ext cx="304920" cy="2286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5400000">
            <a:off x="635400" y="347904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5228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The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building process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352680" y="763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emo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1430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mport          archives            building            index       etc      perllib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53352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00040" y="533520"/>
            <a:ext cx="121932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28440" y="533520"/>
            <a:ext cx="243828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533520"/>
            <a:ext cx="137160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33520"/>
            <a:ext cx="213372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533520"/>
            <a:ext cx="281916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34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81400" y="16765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52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17524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llection configuration fil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523880"/>
            <a:ext cx="304920" cy="2286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5400000">
            <a:off x="635400" y="157392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2514600"/>
            <a:ext cx="1752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import proces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657600"/>
            <a:ext cx="73152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Navigates </a:t>
            </a:r>
            <a:r>
              <a:rPr b="0" i="1" lang="en-US" sz="1800" spc="-1" strike="noStrike">
                <a:solidFill>
                  <a:srgbClr val="008000"/>
                </a:solidFill>
                <a:latin typeface="Tahoma"/>
              </a:rPr>
              <a:t>import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directory structure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Assigns OIDs to documents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Recognizes subsection structure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8000"/>
                </a:solidFill>
                <a:latin typeface="Tahoma"/>
              </a:rPr>
              <a:t>chapters, sections, subsections, pages, …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8000"/>
                </a:solidFill>
                <a:latin typeface="Tahoma"/>
              </a:rPr>
              <a:t>used for (a) reading books, (b) search indexes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nserts metadata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8000"/>
                </a:solidFill>
                <a:latin typeface="Tahoma"/>
              </a:rPr>
              <a:t>Dublin Core plus extensions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nverts to Greenstone Archive format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8000"/>
                </a:solidFill>
                <a:latin typeface="Tahoma"/>
              </a:rPr>
              <a:t>uses plugins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Regularizes file structur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52680" y="763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emo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1430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mport          archives            building            index       etc      perllib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53352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00040" y="533520"/>
            <a:ext cx="121932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828440" y="533520"/>
            <a:ext cx="243828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33520"/>
            <a:ext cx="137160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533520"/>
            <a:ext cx="213372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533520"/>
            <a:ext cx="281916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334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1400" y="16765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52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7524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llection configuration fil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1523880"/>
            <a:ext cx="304920" cy="2286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5400000">
            <a:off x="635400" y="157392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590920"/>
            <a:ext cx="1752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build proces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657600"/>
            <a:ext cx="73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Creates indexes of full-text and/or metadata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Compresses document text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Classifies documents for browsing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Generates a database for metadata, document structure, and browsing classifier structur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352680" y="763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emo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1430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mport          archives            building            index       etc      perllib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53352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00040" y="533520"/>
            <a:ext cx="121932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828440" y="533520"/>
            <a:ext cx="243828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33520"/>
            <a:ext cx="137160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33520"/>
            <a:ext cx="213372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533520"/>
            <a:ext cx="281916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34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81400" y="16765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52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17524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llection configuration fil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523880"/>
            <a:ext cx="304920" cy="2286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rot="5400000">
            <a:off x="635400" y="157392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666880"/>
            <a:ext cx="1752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Rename directory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657600"/>
            <a:ext cx="73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elete current indexes – these are used to serve the collection while the new index is being built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Make the new index (in building directory) live (in index directory)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52680" y="763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emo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1430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mport          archives            building            index       etc      perllib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53352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200040" y="533520"/>
            <a:ext cx="121932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828440" y="533520"/>
            <a:ext cx="243828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33520"/>
            <a:ext cx="137160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533520"/>
            <a:ext cx="213372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533520"/>
            <a:ext cx="281916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334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81400" y="16765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52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2590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Collection configuration file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6600" y="1523880"/>
            <a:ext cx="457200" cy="10670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5400000">
            <a:off x="635400" y="157392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2666880"/>
            <a:ext cx="1752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657600"/>
            <a:ext cx="73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Controls import and build proces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lugins for import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Indexes, classifiers for build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Collection metadata for serv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352680" y="763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emo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1430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mport          archives            building            index       etc      perllib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53352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200040" y="533520"/>
            <a:ext cx="121932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828440" y="533520"/>
            <a:ext cx="243828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33520"/>
            <a:ext cx="137160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33520"/>
            <a:ext cx="213372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533520"/>
            <a:ext cx="281916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334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1400" y="16765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52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2666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llection served from here (or to CD-ROM)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rot="5400000">
            <a:off x="635400" y="157392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581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misc subdirs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11 .htm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11 .jpg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248 .png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ndex.txt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400" y="3581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11 subdirectories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each with doc.xml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+ associated .jpg and .png files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3581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MG compressed text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MG full-text indexes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dbm databa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Associated files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collect.cfg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mags.txt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sub.txt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org.txt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971800" y="1447560"/>
            <a:ext cx="0" cy="198108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219320" y="1447560"/>
            <a:ext cx="304560" cy="198108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1640" y="1447560"/>
            <a:ext cx="685800" cy="198108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7010280" y="1447560"/>
            <a:ext cx="533520" cy="198108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334120" y="1447560"/>
            <a:ext cx="685800" cy="198108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514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Put material her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352680" y="763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emo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1430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mport          archives            building            index       etc      perllib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53352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0040" y="533520"/>
            <a:ext cx="121932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828440" y="533520"/>
            <a:ext cx="2438280" cy="533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33520"/>
            <a:ext cx="137160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533520"/>
            <a:ext cx="213372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533520"/>
            <a:ext cx="2819160" cy="609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334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81400" y="16765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5280" y="16765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581280"/>
            <a:ext cx="1447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bostid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ecourie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faobetf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index.txt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wb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1523880"/>
            <a:ext cx="0" cy="20574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5400000">
            <a:off x="635400" y="157392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3581280"/>
            <a:ext cx="1752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0105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017d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63e6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aad6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0144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026b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7df3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e52a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0173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54cf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HASHa0a5.dir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archives.inf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1523880"/>
            <a:ext cx="0" cy="20574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81280"/>
            <a:ext cx="1447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00"/>
                </a:solidFill>
                <a:latin typeface="Courier New"/>
              </a:rPr>
              <a:t>(empty)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1523880"/>
            <a:ext cx="0" cy="20574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3581280"/>
            <a:ext cx="1447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assoc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build.cfg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dtx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stt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stx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text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486040" y="1523880"/>
            <a:ext cx="609480" cy="20574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3581280"/>
            <a:ext cx="1447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ollect.cfg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mags.txt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sub.txt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org.txt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523880"/>
            <a:ext cx="0" cy="20574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lassify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1523880"/>
            <a:ext cx="381240" cy="2057400"/>
          </a:xfrm>
          <a:prstGeom prst="line">
            <a:avLst/>
          </a:prstGeom>
          <a:ln w="12600">
            <a:solidFill>
              <a:srgbClr val="008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9436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(list of archived files)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03:40:46Z</dcterms:created>
  <dc:creator>Administrator</dc:creator>
  <dc:description/>
  <dc:language>en-US</dc:language>
  <cp:lastModifiedBy>kjdon</cp:lastModifiedBy>
  <cp:lastPrinted>2003-11-19T04:24:29Z</cp:lastPrinted>
  <dcterms:modified xsi:type="dcterms:W3CDTF">2005-09-07T04:03:22Z</dcterms:modified>
  <cp:revision>13</cp:revision>
  <dc:subject/>
  <dc:title>Slide 1</dc:title>
</cp:coreProperties>
</file>