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29E-61E3-421A-8146-83E16E09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7E2-158B-4B9F-B41D-521E9FB4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FAC-C942-4136-BFA5-2A7E4697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B44-5043-412B-A845-95CBD2C0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81A-7F97-4DAA-990A-4FFA613D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81C-DEAA-49FB-B071-E65C88A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FE4-0AF3-4203-A282-33000F23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6E0-921B-4ACA-9060-28541204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BDF-04E6-49BC-B902-48EA5648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264-BADF-47E2-8870-74639DBD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693-2831-4DB4-9D23-338F7F1D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878-809F-4B15-98AA-9FAE56F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B7D3-ED3B-41A7-996C-D701BE6597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77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net Linking for Amateur 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LinkingExample" descr=""/>
          <p:cNvPicPr/>
          <p:nvPr/>
        </p:nvPicPr>
        <p:blipFill>
          <a:blip r:embed="rId1"/>
          <a:stretch/>
        </p:blipFill>
        <p:spPr>
          <a:xfrm>
            <a:off x="1600200" y="1073160"/>
            <a:ext cx="594360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EchoLink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Repeat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EchoLink_Mike_Joe_Sam_Repeat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ringing it all Togeth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5" name="EchoLink3_TheWholeGroup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92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t 97 Link Require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x link and Repeater link as depicted here require a control operat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ink is installed at the repeater side, it becomes a part of the repeater, and can then run in “automatic control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d now -- The Softwar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048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main Screen, listing the Stations currently on the Link, by Country, Call Zone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of the Screen shows the current Transmit and Receive Audio levels in a colored bar graph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echolink_screensho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50292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ic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81480" y="2437920"/>
            <a:ext cx="3353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thing to do after installing the software is to configure your Station Set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EL_InitialSetup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343400" cy="32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first time you use Echolink, you will have to wait to be validated, before you are connected to the EchoLink ser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udio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your Audio details, for the PC Speakers and Micro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ELaudio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935600" cy="366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nection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362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creen allows you to configure the various Internet connections you are willing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ELpreferance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357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676520"/>
            <a:ext cx="7162200" cy="2390760"/>
            <a:chOff x="685800" y="1676520"/>
            <a:chExt cx="7162200" cy="239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2079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911400" y="2571840"/>
              <a:ext cx="3936600" cy="824040"/>
              <a:chOff x="3911400" y="2571840"/>
              <a:chExt cx="3936600" cy="824040"/>
            </a:xfrm>
          </p:grpSpPr>
          <p:sp>
            <p:nvSpPr>
              <p:cNvPr id="101" name=""/>
              <p:cNvSpPr/>
              <p:nvPr/>
            </p:nvSpPr>
            <p:spPr>
              <a:xfrm>
                <a:off x="5387760" y="2571840"/>
                <a:ext cx="2460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Out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1400" y="2693160"/>
                <a:ext cx="1476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00200" y="3657600"/>
            <a:ext cx="6838560" cy="2286000"/>
            <a:chOff x="1600200" y="3657600"/>
            <a:chExt cx="683856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4296600"/>
              <a:ext cx="3756600" cy="824040"/>
              <a:chOff x="1600200" y="4296600"/>
              <a:chExt cx="3756600" cy="824040"/>
            </a:xfrm>
          </p:grpSpPr>
          <p:sp>
            <p:nvSpPr>
              <p:cNvPr id="105" name=""/>
              <p:cNvSpPr/>
              <p:nvPr/>
            </p:nvSpPr>
            <p:spPr>
              <a:xfrm>
                <a:off x="1600200" y="4296600"/>
                <a:ext cx="2306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In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72960" y="4487040"/>
                <a:ext cx="1383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431320" y="3657600"/>
              <a:ext cx="30074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09480" y="144792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Pc Audio Scree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Receiv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8800"/>
            <a:ext cx="221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Op Mode is used when interfacing a Transceiver, and requires additional set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Lsysop_RX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Transmi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676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ELsysop_TX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4435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48520" y="220968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choices for triggering the PTT interface to the R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eneral Topic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choL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M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ing EchoLink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to Computer vi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iver to Computer to the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Radio Interfa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nking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Amateur Radi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Identific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ELsysop_Ident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487692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209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W and Voice ID are available, along with the method and time interval for the ID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90720" y="1752480"/>
            <a:ext cx="2971800" cy="1828440"/>
            <a:chOff x="990720" y="1752480"/>
            <a:chExt cx="2971800" cy="1828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90720" y="2099160"/>
              <a:ext cx="2971800" cy="14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62960" y="1752480"/>
              <a:ext cx="196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25480" y="1752480"/>
            <a:ext cx="3100320" cy="3200400"/>
            <a:chOff x="5325480" y="1752480"/>
            <a:chExt cx="3100320" cy="3200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425920" y="2243160"/>
              <a:ext cx="28371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25480" y="1752480"/>
              <a:ext cx="310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r and Softwa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52480" y="3733920"/>
            <a:ext cx="2819520" cy="2133360"/>
            <a:chOff x="1752480" y="3733920"/>
            <a:chExt cx="2819520" cy="21333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52480" y="4115160"/>
              <a:ext cx="2819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529000" y="3733920"/>
              <a:ext cx="127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hat’s Needed for SysOp Mode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ing Your Own Interfa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eo patch cord with 1/8” plugs from receiver audio to PC “Line-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ch cord from PC “Mic-Out” to Transmitter Audio input (should be attenuated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TT circuitry from COM 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interface_rts_ttl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03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t, a “Good” Interface should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 the computer audio from transce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 the speaker/line level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atching of audio to mic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of all gr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easy to hook up, and leave i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Soundcard Interfa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4" name="Rigblasters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2004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echolinkWB2REM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328840" cy="1509840"/>
          </a:xfrm>
          <a:prstGeom prst="rect">
            <a:avLst/>
          </a:prstGeom>
          <a:ln w="0">
            <a:noFill/>
          </a:ln>
        </p:spPr>
      </p:pic>
      <p:pic>
        <p:nvPicPr>
          <p:cNvPr id="146" name="interface_VA3TO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276720" cy="140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105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blaster is the more common interface, with jumpers to configure any brand of microphone and r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IG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West Mountain radio is probably the most versa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41148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ncludes a software CD for most popular Soundcard programs including PSK, SSTV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“jumper” configurations to interface to “Any” radio microphone wiring sche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Mountain Radio provides excellent Internet, email and phone supp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good Choice for the Interfa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IGblaster Featur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-isolation prevents ground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able PC speaker level output to mic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s directly into the mic jack on your transceiver with an included 8 pin round to RJ45 ad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ncludes a Serial cable, along with stereo speaker and microphone input c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the existing jacks on computer and r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used with almost any brand and model of radio, using internal microphone jum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tay in-line at all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different models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ther VoIP Applic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ecialized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s 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Special Yaesu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o Call Sign Validation (allows SWL connec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ux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nux – Specialized Interface – Strictly Repeater to Repe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Most Pop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in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Individual User Connec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an be homebrew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-going support expens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oper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52388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R L 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Repeaters – not individual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proprietary interface board at $1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$30.00 year donation sugg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pera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Hams traveling away to stay in contact with Hams back home through a Repeater lin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Technician licensees a chance to experience DX Contact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SL’s are not valid for things like DX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“middle” connection is the Internet, and this is a “wired” connection – not wireless R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is EchoLink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hoLink uses VoIP (Voice Over Internet Protocol) to allow licensed Amateur Radio Operators to communicate with other Amateurs via the Interne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primarily a Windows based application and is offered free of charge at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http://www.echolink.org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lso a new EchoLinux and EchoMac availabl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developed by Jonathan Taylor (K1RFD) in 2002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ceived Hamvention 2003 Special Achievement A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ut Again –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“Is it Ham Radio?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long as there is a Simplex or Repeater Link involved it is a new “mode” – It is that simple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ldwide Regulatory agencies like the FCC, ART, IBPT, OFCOM, SRR, etc. have recognized it as another Ham “tool” like SSTV or PSK31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se “links” you must still ID and follow all regulations, including International rules and Third party agreement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don’t keep using our Radios in as many modes as we can, we are going to lose some of the band allocations we have worked so hard f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Com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allows us to expand upon our different Ham activities, and gives Amateur Radio a new dimension with a new technology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 your Transceiver up to it and us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new technologies like Cell Phones, RFID, (BPL?), are competing for our bandwidth, so lets utilize it with all the modes available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U T  Remember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mateur Radio has grown to embrace new technologies and has now become more than just “Radio” , it is really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without “Radio”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Graphics of the various Modes are from the “Ops Tips” page of West Mountain Radio’s Web site, and used with their permi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estmountainradi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057400"/>
            <a:ext cx="3124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Modes are Availabl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operated strictly between two computers connected to the Internet using the PC soundcard with Speakers and a Microphon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standard FM transceiver as a “simplex link” from your home Q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VHF or UHF repeater for more cover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choLink “User Mod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s this really Ham Radi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Depends upon how you “use” it!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User PC to PC involves no 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just another Internet “Chat Room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x-Link or Repeater connection now makes it a “new” Amateur Radio M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“Simplex-Link”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EchoLink_Mike_Joe_Sam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panding the “Link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9" name="EchoLink_Mike_Joe_Sam_BackYard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5:21:03Z</dcterms:created>
  <dc:creator>Bob Wiseman</dc:creator>
  <dc:description/>
  <dc:language>en-US</dc:language>
  <cp:lastModifiedBy>Bob Wiseman</cp:lastModifiedBy>
  <dcterms:modified xsi:type="dcterms:W3CDTF">2005-02-04T14:23:19Z</dcterms:modified>
  <cp:revision>174</cp:revision>
  <dc:subject/>
  <dc:title>APRS</dc:title>
</cp:coreProperties>
</file>